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36.jpeg" ContentType="image/jpeg"/>
  <Override PartName="/ppt/media/image4.wmf" ContentType="image/x-wmf"/>
  <Override PartName="/ppt/media/image25.wmf" ContentType="image/x-wmf"/>
  <Override PartName="/ppt/media/image2.wmf" ContentType="image/x-wmf"/>
  <Override PartName="/ppt/media/image29.png" ContentType="image/png"/>
  <Override PartName="/ppt/media/image14.wmf" ContentType="image/x-wmf"/>
  <Override PartName="/ppt/media/image53.png" ContentType="image/png"/>
  <Override PartName="/ppt/media/image3.gif" ContentType="image/gif"/>
  <Override PartName="/ppt/media/image15.wmf" ContentType="image/x-wmf"/>
  <Override PartName="/ppt/media/image1.jpeg" ContentType="image/jpeg"/>
  <Override PartName="/ppt/media/image10.png" ContentType="image/png"/>
  <Override PartName="/ppt/media/image50.wmf" ContentType="image/x-wmf"/>
  <Override PartName="/ppt/media/image7.png" ContentType="image/png"/>
  <Override PartName="/ppt/media/image40.wmf" ContentType="image/x-wmf"/>
  <Override PartName="/ppt/media/image30.png" ContentType="image/png"/>
  <Override PartName="/ppt/media/image48.wmf" ContentType="image/x-wmf"/>
  <Override PartName="/ppt/media/image13.wmf" ContentType="image/x-wmf"/>
  <Override PartName="/ppt/media/image31.png" ContentType="image/png"/>
  <Override PartName="/ppt/media/image37.wmf" ContentType="image/x-wmf"/>
  <Override PartName="/ppt/media/image32.png" ContentType="image/png"/>
  <Override PartName="/ppt/media/image43.wmf" ContentType="image/x-wmf"/>
  <Override PartName="/ppt/media/image33.png" ContentType="image/png"/>
  <Override PartName="/ppt/media/image16.wmf" ContentType="image/x-wmf"/>
  <Override PartName="/ppt/media/image44.wmf" ContentType="image/x-wmf"/>
  <Override PartName="/ppt/media/image34.png" ContentType="image/png"/>
  <Override PartName="/ppt/media/image17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47.wmf" ContentType="image/x-wmf"/>
  <Override PartName="/ppt/media/image9.png" ContentType="image/png"/>
  <Override PartName="/ppt/media/image42.wmf" ContentType="image/x-wmf"/>
  <Override PartName="/ppt/media/image39.png" ContentType="image/png"/>
  <Override PartName="/ppt/media/image8.png" ContentType="image/png"/>
  <Override PartName="/ppt/media/image41.wmf" ContentType="image/x-wmf"/>
  <Override PartName="/ppt/media/image38.png" ContentType="image/png"/>
  <Override PartName="/ppt/media/image51.wmf" ContentType="image/x-wmf"/>
  <Override PartName="/ppt/media/image11.png" ContentType="image/png"/>
  <Override PartName="/ppt/media/image6.wmf" ContentType="image/x-wmf"/>
  <Override PartName="/ppt/media/image5.wmf" ContentType="image/x-wmf"/>
  <Override PartName="/ppt/media/image52.wmf" ContentType="image/x-wmf"/>
  <Override PartName="/ppt/media/image49.png" ContentType="image/png"/>
  <Override PartName="/ppt/media/image12.png" ContentType="image/png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09D8-497C-4221-A613-D9985F70DF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70C9-2314-4BEF-BD68-ACDCB778D1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оем докладе я буду рассказывать о разработанной н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семантической  форме представления  информ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 основе  для  построе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х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управляющих 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временном лавинообразном нарастании не структурированных потоков информации – это чрезвычайно актуальная зада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астности, для систем искусственного интеллекта, способных пройти тест Тьюр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"/>
          <p:cNvSpPr/>
          <p:nvPr/>
        </p:nvSpPr>
        <p:spPr>
          <a:xfrm>
            <a:off x="3884760" y="944568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9CDB9B-7DF9-4333-A13F-095094E32CF7}" type="slidenum"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"/>
          <p:cNvSpPr/>
          <p:nvPr/>
        </p:nvSpPr>
        <p:spPr>
          <a:xfrm>
            <a:off x="942840" y="746280"/>
            <a:ext cx="49723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884760" y="944568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ge </a:t>
            </a:r>
            <a:fld id="{CE393F51-7D26-4920-94C3-F03DEB2DD6C7}" type="slidenum"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"/>
          <p:cNvSpPr/>
          <p:nvPr/>
        </p:nvSpPr>
        <p:spPr>
          <a:xfrm>
            <a:off x="3884760" y="944568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22A267-0471-434F-89A6-F811BE0A300F}" type="slidenum"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"/>
          <p:cNvSpPr/>
          <p:nvPr/>
        </p:nvSpPr>
        <p:spPr>
          <a:xfrm>
            <a:off x="942840" y="746280"/>
            <a:ext cx="49723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скусственные нейронные сети индуцированы биолог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3884760" y="944568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B595CC-7F77-4316-9299-4A2CFD003DAC}" type="slidenum"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88DE6B-9C86-4715-B811-EF54D19A28C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"/>
          <p:cNvSpPr/>
          <p:nvPr/>
        </p:nvSpPr>
        <p:spPr>
          <a:xfrm>
            <a:off x="1143000" y="746280"/>
            <a:ext cx="45720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о сегодняшнего дня в основе всего нейрокомпьютинга лежит понятие формального нейрона (МакКаллока-Питтса от 1943г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ля отображения сложных причинно-следственных процессов ПО мы расширили эту модель вводом в нее векторной (пространственно-временной) обработки входов, что позволило получить нейроподобный N-элемен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 момент формирования в нем записывается пришедшая на него пространственно-временная карт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алее, в процессе работы НСС  эта пространственно-временная картина сравнивается по одному из 20-ти функционалов с приходящей на его вход пространственно-временной картиной активации от предыдущего смежного сло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 случае превышения порога данный N-элемент выдает на выход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N-элемент ориентирован на работу с Т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E0D990-2476-40E0-A787-C8743287C20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"/>
          <p:cNvSpPr/>
          <p:nvPr/>
        </p:nvSpPr>
        <p:spPr>
          <a:xfrm>
            <a:off x="1143000" y="746280"/>
            <a:ext cx="45720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ъединили эти N-элементы в потенциальный многодольный иерархический гра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 отличие от классических современных НС, сама входящая информация прорисовывает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ост НСС идет слева направо и снизу ввер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СС самопрограммируется входящей информ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разу же после ввода НСС готова к рабо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98AD14-49A9-4CCE-AA0D-338644A65E9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"/>
          <p:cNvSpPr/>
          <p:nvPr/>
        </p:nvSpPr>
        <p:spPr>
          <a:xfrm>
            <a:off x="1143000" y="746280"/>
            <a:ext cx="45720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СС хорошо представляется лингвистической метафо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ервый ее слой (доля графа) N-элементов – терминальный, фактически отображает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алфави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А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ЭС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торой слой – 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севдослог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" и строится на пространственно-временных ссылках на предыдущий (терминальный) слой -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нформационное содержание N‑элемент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лой 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севдосло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" – ссылается на "псевдослоги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 т.д., до самого верхнего N‑элемента, отображающего в себе через связи всю П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Если в процессе преобразования ТФ в НСС, минимизировать ресурсы последней, то в каждом N‑элементе НСС будут формироваться ЭСЕ П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  моделировании   предметных   областе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) специализированными  нейросетями (НСС)        было  обнаружено  явление  автоструктуризации.  Которое  выражалось  в том,  что  при минимизации ресурсов нейросети (число нейронов и связей), затрачиваемых на отображение предметных  областей,  структура  нейросети по нейроном и связям приобретала  свойство  гомоморфности  причинно-следственной  структуре  физических процессов произвольной 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 минимизируя ресурсные затраты на отображение информационного потока, идущего из произвольной ПО мы автоматически получаем информационную модель изучаемой предметной области в виде структуры нейронов, где каждый нейрон соответствует физическому процесс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ую специализированную нейронную среду мы назвали нейро-семантичес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олагаем, что реальные физические процессы ПО являются основой для смыслового понимания и моделирования ПО и формирования в информационной системе (ИС) семантической (информационной) модели ПО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C21D-C2B3-48A9-9FC0-46E0184AA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ПО мы понимаем сложную совокупность причинно связанных объектов и процессов обладающих свойством повторя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 и  процессы  ПО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вершины  гра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ая последовательность процессов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порядок вхождения д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 – однозначное отображение причинно-следственных процессов ПО в вершины и дуги многодольного иерархического граф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 и  процессы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вершины  графа. Временную последовательность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порядок вхождения д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моморфность графовая – рассматривается как однозначное отображение вершин графа информационной модели ПО в вершины НСС, дуг ПО – в дуги Н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оекционное отображение информационной модели ПО в пространство меньшей размер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 докл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D82E-C670-4675-820E-B334F353E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"/>
          <p:cNvSpPr/>
          <p:nvPr/>
        </p:nvSpPr>
        <p:spPr>
          <a:xfrm>
            <a:off x="1143000" y="746280"/>
            <a:ext cx="45720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56B3-1425-4045-9281-11486E943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статочно очевидное утверждение. С любой необходимой точностью, описание любого физического процесса может быть представлено в дискрет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утверждение позволяет нам свести всевозможные процессы ПО свести к единому описанию в виде Т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, дискретность по параметру и по длительности адаптируется конкретной задач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тим у нас есть исходная ТФ в виде последователь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стоящей из 0 и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лим на 2-х символьные цепочки по заданном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этих цепочек формируем словарь, а вместо них в исходну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следовательность ставим индексы этих цепочек из словаря. В результате исходна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следовательность превратилась в последовательность индексов и словар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бычная, одна из процедур при арх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8AE2-9238-4420-8DD1-DB179265E7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яем эту же процедуру, но уже с последовательность полученных индек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м ее на 2-х символьные цепочки по заданном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этих цепочек формируем словарь второго уровня, а вместо них в последовательность ставим индексы этих цепочек из словаря второго уровня. В результате первоначальна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следовательность превратилась в последовательность индексов второго порядка и в двухуровневый словар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 словарь – это цепочка ссылок на элементы нижнего смежного сло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и же это выглядит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5C44-3AC7-4BBA-8A5C-1D0F97190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яем процедуру еще раз, нарезая цепочки п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индек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 сокращение формируемой цепочки индексов и третий уровень словаря индек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CA0B-9518-470E-8D29-8C8B3928D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огично  4-й ш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49CD-4D00-4001-9574-B3DF4FD9B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3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ятом шаге исходна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следовательность полностью преобразовалась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кнутую иерархическую структуру индексов и терминальный словар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6844-FFAA-4BDA-A5A9-4C22427E9A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терминальный словарь раскрываем через терминальный алфавит вводя 0-й Затем терминальный слой. Пример НСС постро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глядности НСС можно представить в графическ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82DA-7BFB-4B10-834D-DA720C612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афической форме НСС выглядит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ное преобразование НСС в ТФ однознач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СС и ТФ эквиваленты в содержании, но НСС имеет дополнительные преиму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D472-7195-4BEB-BE10-8FDB4227F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и разработано порядка 10 алгоритмов формирования Н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1-го элемента словаря и проход этой цепочной по все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следовательность 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словарей на ча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следова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рывное формирование НСС с каждым новым знаком Т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следовательность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практические результаты всех конкретных НСС, при их минимизации, на больших объемах сводя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единой по характеристикам Н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1C6F-82AF-4DE8-89CA-28AA33FB4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8902-D20E-47A1-8580-A2AF16C11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также отметить, что все технические характеристики ИС на базе НСС такие как 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ремя доступ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эффициент компрессии-сжат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дежность хранения информации  и др.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т тенденцию к улучшению, как в среднем, так и в абсолютных значениях по мере роста объема вводимой информации из П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1143000" y="746280"/>
            <a:ext cx="45720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ыдвинутый лозунг перехода к ИЭ требует инструментария для эффективной разработки информационного рес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тсутствие инструментария по эффективной разработке информационного ресурса это не только упущенные выгоды, но и угрозы от неуправляемости и непрогнозируемости ТГ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рупномасштабная ИУС на базе человека имеет следующие ТТХ:  10 Гц, объем памяти 106 обра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о даже при таких низких значениях характеристик человек часто выигрывает соревнование у ЭВ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еренос механизмов и архитектуры ЦНС человека на электронную элементную базу, позволит создать ИУС в миллионы-миллиарды раз более быстродействующую, с неограниченной памятью и с числом параллельных классов в миллио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31BE-C51D-4EFC-ABEF-C1ED858307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СС –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дольный гипертекстовый граф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вершинах которого находятся нейроподобны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‑элементы, отражающие объекты-процессы предметной области, а дуги задают причинно-следственные связи этих процессов, что дает исследователю полную структурную картину процессов исследуемой предметной об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 показали, что представление произвольного текстового потока в форме НСС дает множество преимуще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омоморфность причинно-следственной структуре процессов 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 (образ) НСС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цесс ПО,  (информ. модель ПО или ее онтолог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 связи НСС отражают порядок взаимосвязи процессов 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Каждый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лемент имеет свое имя (номер слоя, номер в сло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ализ НСС дает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сю статистику процессов ПО;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ле текстовой энтропии;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елостность и аналитичность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…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.е. НСС гораздо информативнее Т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зависимость от характеристик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"белый  шум", "периодический  сигнал" и "реальный  текст") НСС приобретает типичную геометрическую фор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иходит еще такого же объема поток ТФ, то НСС увеличивается на заштрихованое крас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"периодического сигнала" – это увеличение, обычно на несколько нейронов, несколько больше для "реального текста " и ровно вдвое, для "белого шум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геометрия НСС может служить индикатором типа процессов в ПО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8FDC-51FB-4248-81F1-0C00CFEE5B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3DC-4F91-4AC1-A78A-33DF73753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СС легко определяется - ассоциативность чере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элемент  предыдущего сло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A882-B330-4C4A-B5AC-F0961A0FA3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стичность через причиннно-следственные связ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активации первых входо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элемент переходит в полувозбужденное состояние и посылает сигнал прогнозирования через ожидаемые входы на нижележащ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элементы. Это позволяет существенно повысить надежность распознавания в условиях шума и неоднозначности, например омон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EFDB-EFD2-4185-836A-75A9C9CA2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ое НСС обычно располагаются образы однотипных процессов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а: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рывном потоке ТФ необходимо выделить образы,  соответствующие процессам люб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роение в ИС множества различных словарей и выбор минимально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рументари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йросемантические 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езультат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й словарь ИС должен быть гомоморфен процессам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56CB-0F92-48D1-9C2B-7AD0F4264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м-то образом биологические ИС могут самостоятельно научится структурировать сложные ПО на объекты –процессы их составляющи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1DA0-19FC-4A28-BC8D-AFDEB240C8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A36A-20E0-45CE-A19D-8936D1CE2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строя технические ИС идет "контрабандным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м структуризации ПО для систем 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ст, исследуя ПО выделяет признаки, соответствующие заданным объектам-процессам и на этом строит систему 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если ПО меняется, яблоки оказываются бывают и "зелеными" "квадратными" то он вынужден вносить дополнения в список "признаки -  объект-процесс". Если же ПО слишком динамичная или открытая, то программист сдается, говоря что разрабатываемая им ИС огранич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как мы уже отмечали, биологические ИС такого ограничения не испытываю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остой при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есть три объекта, три шара: деревянный, чугунный и костя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они соударяются то происходит процесс, который для пар выражается в Т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j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МАК&gt;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j a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&lt;РИС&gt; &lt;ЛЕН&gt;   и для сразу трех - &lt;ДУБ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ливаясь в непрерывный поток ТФ они поступают к И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ИС сформировать словарь (иерархический), который бы полностью закрашивал (покрывал) весь поток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за обработку в словаре образа надо оплачивать затраты затраты в 1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ранение – ½ 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прогнозирование каждого символа, наоборот бонусы в 1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ая "биологизация" ИС. Платить за обработку и хранение, и получать бонусы за прогноз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й модели мы приравниваем по размерности "энергетические" затраты и бонусы прогноз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4D69-DE4D-4F6D-B341-3473E1F33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ем формирование ИС с самой простой. Со словаря по 1- символ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енно, общие затраты 18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волюционном потенциале ИС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,T)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ы рассматриваем энергетические затраты и символы прогнозирования как одноразмерные единицы, которы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E~T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пределя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ческий баланс, характеризующ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жизнеспособность  И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980D-9B9B-43D9-8E57-E469BD357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1143000" y="746280"/>
            <a:ext cx="45720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едующем шаге ИС усложнилась и может строить словари уже по 2 симв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появляется уже множество различных по размеру словарей, которые могут закрасить поток Т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, минимальный словарь будет характеризоваться -8Е,  а максимальный -26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ираем словарь ИС с лучшим эволюционным потенциалом = 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10B1-2A03-42F3-BCED-16F4A0101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едующем шаге ИС еще усложнилась и строит словари уже до 3-х симво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формируется множество различных по размеру словар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й словарь будет характеризоваться +2Е, а максимальный -50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ираем словарь ИС с лучшим эволюционным потенциалом =  +2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F3E4-75C2-44FD-91F0-8CC21C75C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аем усложнение ИС.  Строим словари с образами процессов ПО,  не превышающие 4-х симво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й словарь будет +2Е, а максимальный -72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ираем словарь ИС с лучшим эволюционным потенциалом =  +2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C361-ABEC-40DC-8771-889AC0130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аем усложнение ИС.  Строим словари с образами процессов ПО,  не превышающие 5,6,7 симво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минимальный словарь будет сохраняться +2Е, а максимальный расти вплоть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ираем словарь ИС с лучшим эволюционным потенциалом =  +2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A373-45AB-4485-8041-BE2B90665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ий анализ результатов эксперимента показывает, что эволюционный потенциал ИС    обратно пропорционален  размеру словар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равенстве длин образов и длин процессов, размеры минимальных и максимальных словарей ИС соотносятся как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(N)   и   o(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: N – число процессов в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77E7-23A7-46DA-B85E-733AB17013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 автоструктуризац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х  иерархических 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тим, П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чайная генерация псевдо предлож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стоящих из слов-процессов трех множеств 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л".  "Сказ."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"Дополнения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ло только что показано, таким же образом будет построен словарь первого уровня – выделен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-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тем в исходной ТФ они будут заменены их индексами в словаре первого уров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далее выделены предложения процессы, состоящие из трех индексов, в словарь второго уров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е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к было показано ранее, алгоритм А1, строится иерархическая структура словарей Н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B4E0-27A5-410D-A777-C021C66ED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926C-1601-4D08-9D55-94B9122FD6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9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ая автоструктуризаци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стигаетс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 достаточной представительности ТФ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о несколько критериев этой достаточ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оретическая минимальная длина ТФ – это удвоенная длина всех процессов П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имеются подсказки учителя, то процесс автосруктуризации существенно ускоряет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чество автоструктуризации  - это   отношение  правильно выделенных и отображенных процессов ПО в нейронах НСС к общему числу нейронов НСС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ля определения необходимой минимальной длины ТФ 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ой автоструктуризации служат критерии достаточ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Ф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все пространство состояний процессов ПО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) если человек может правильно структурировать данную ТФ  в непривычной, но взаимнооднозначной нотаци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 наличие характерных особенностей динамического процесса при минимизации ресурса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</a:rPr>
              <a:t>И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оретически минимальная длина Т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– число процессов ПО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веденных примерах виден результат, как из произвольной непрерывной ТФ НСС автоматически выделяет исходные Э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эту же задачу решает на несколько порядков медленн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е-теорема достаточно очевид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усти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ПО происходят два случайных процесса, ТФ которых сливаются в непрерывный Т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а процессов ПО подобраны так, чтобы они были посимвольно разными,  чтобы между ними не было никаких интерференцио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но, что любой сдвиг хотя бы на один символ образов ИС от ТФ процессов ПО, приводит к увеличению размеров словаря и разрушению гомоморф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е данной теоремы справедливо и для сложных иерархических процессов 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7372-CD81-429A-87F7-A314F6258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тим у нас совершенно неструктурированная ТФ в 1000 знаков, например, относящаяся к ПО «Отдел кадр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примере мы покажем автоматическое формирование НСС, которая сможет выполнять функции Информационно-справочной системы «Отдел кадр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"/>
          <p:cNvSpPr/>
          <p:nvPr/>
        </p:nvSpPr>
        <p:spPr>
          <a:xfrm>
            <a:off x="1143000" y="746280"/>
            <a:ext cx="45720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мы получаем следующую Н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оях, для удобства человека, приведено информационное содержание (образы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элементов. А также технические характеристики. Длинна в знаках ТФ, частота цепочки знаков, величина функционала для автоструктуризаци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3-й элемент второго слоя состоит из 15-го и 1-го элементов перового слоя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но, что без какой бы то ни было настройки НСС автоматически выделила (дешифровала) многие процессы данной 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е примеры могут только улучшить качество автоструктуризации. Рассмотренный ранее пример из четырех процессов &lt;МАК&gt;&lt;РИС&gt;&lt;ЛЕН&gt;&lt;ДУБ&gt;: на ТФ длинной в 30 символов качество автоструктуризации было 1.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эту задачу на приведенных данных решить лучше не сможет, не говоря о скорости реш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а данном гипертекстовом графе, мы можем организовать простейший информационно-поисков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я в НСС цепочки произвольных ТФ, мы получаем ассоциативные ответы Н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мышленно ошибочный вопрос НСС выдает ближайший правильнй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примере мы задаем четыре запроса и наблюдаем динамику  реакции  НСС  на 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на примере произвольной, априорно неопределенной ПО  «Отдел кадров», без предварительной настройки НСС демонстрируется ее применимость как основы  для  построе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х  информационно-управляющих 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DC36-B5E3-4DFC-A9D4-C5426C492C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яя достаточность данной ТФ на критерий достаточности, мы переводим ее в другую взаимообратимую нотацию, сдвиг на -1 символ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д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СС предыдущая и данная ТФ совершенно эквивалентны, так как НСС пуста и «Отдел кадров» для нее совершенно новая 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человека это пример позволяет почувствовать себя в роли НСС, когда ранее освоенные знания (тезаурус) не дают никакого преиму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чтобы структура НСС все же была в привычной для человека записи, НСС мы строим на привычной нам форме алфави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59E7-9201-4961-B301-0BAE230BE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деи современной информационной технологии базируются на концепции баз данных (Б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необходимости модификации часто сводятся к полной передел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9900"/>
                </a:solidFill>
                <a:latin typeface="Arial"/>
              </a:rPr>
              <a:t>нейросемантическая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парадигма  предлагает альтернативный путь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матическое формирование информационной модели и навешивание на нее самим пользователем операций обработки типа «ЕСЛИ – ТО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ем самым сокращая времена разработок и улучшая адаптационность разрабатываемых АСУ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матизации  информационных  процесс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, составляющие БД представляются в файловой форме в виде отдельных записей (ТФ) и отражают характеристики объектов и их отношений в соответствующей прикладной об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файлы БД содержат большое число однотипных записей. Записи, в свою очередь, состоят из полей, представляющих определенные типы информации об объектах. БД – это большая трудоемкость, большое число участников разработ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же было показано НСС форма представления информ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информативна чем ТФ и соответственно Б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азе НСС вполне возможен альтернативный путь автоматизации интеллектуальной обработки информации из крупномасштабны слабоструктурированных П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72B278-EA3E-4C23-B176-D6F95DD89A5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6" name=""/>
          <p:cNvSpPr/>
          <p:nvPr/>
        </p:nvSpPr>
        <p:spPr>
          <a:xfrm>
            <a:off x="1143000" y="746280"/>
            <a:ext cx="45720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а базе НСС можно создавать простейшие адаптивные 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FFABB7-FFBE-4978-A44A-F51E80F37E9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"/>
          <p:cNvSpPr/>
          <p:nvPr/>
        </p:nvSpPr>
        <p:spPr>
          <a:xfrm>
            <a:off x="1143000" y="746280"/>
            <a:ext cx="45720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0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ценочный взгляд на  различные эволюционные процессы (биологические, технические, социальные,) подтверждает теоретические оценки из текстовой всел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  <a:ea typeface="Lucida Sans Unicode"/>
              </a:rPr>
              <a:t>ЭИУС &lt; </a:t>
            </a:r>
            <a:r>
              <a:rPr b="1" lang="en-GB" sz="1200" spc="-1" strike="noStrike">
                <a:solidFill>
                  <a:srgbClr val="ff33cc"/>
                </a:solidFill>
                <a:latin typeface="Arial"/>
                <a:ea typeface="Lucida Sans Unicode"/>
              </a:rPr>
              <a:t>ЭПО </a:t>
            </a:r>
            <a:r>
              <a:rPr b="0" lang="en-GB" sz="1200" spc="-1" strike="noStrike">
                <a:solidFill>
                  <a:srgbClr val="ff33cc"/>
                </a:solidFill>
                <a:latin typeface="Arial"/>
                <a:ea typeface="Lucida Sans Unicode"/>
              </a:rPr>
              <a:t>Отражает требование, что энергетика ИУС должна быть больше энергетики ПО. Если учесть, что энергетика ПО &gt; 0, то </a:t>
            </a:r>
            <a:r>
              <a:rPr b="1" lang="en-GB" sz="1200" spc="-1" strike="noStrike">
                <a:solidFill>
                  <a:srgbClr val="009999"/>
                </a:solidFill>
                <a:latin typeface="Arial"/>
                <a:ea typeface="Lucida Sans Unicode"/>
              </a:rPr>
              <a:t>ЭИУС </a:t>
            </a:r>
            <a:r>
              <a:rPr b="0" lang="en-GB" sz="1200" spc="-1" strike="noStrike">
                <a:solidFill>
                  <a:srgbClr val="009999"/>
                </a:solidFill>
                <a:latin typeface="Arial"/>
                <a:ea typeface="Lucida Sans Unicode"/>
              </a:rPr>
              <a:t>также должна быть</a:t>
            </a:r>
            <a:r>
              <a:rPr b="1" lang="en-GB" sz="1200" spc="-1" strike="noStrike">
                <a:solidFill>
                  <a:srgbClr val="009999"/>
                </a:solidFill>
                <a:latin typeface="Arial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ff33cc"/>
                </a:solidFill>
                <a:latin typeface="Arial"/>
                <a:ea typeface="Lucida Sans Unicode"/>
              </a:rPr>
              <a:t>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33cc"/>
                </a:solidFill>
                <a:latin typeface="Arial"/>
                <a:ea typeface="Lucida Sans Unicode"/>
              </a:rPr>
              <a:t>Отсюда вытекает перовет требование на право существования ИУ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CCBF-4E56-40F7-91CF-E43258571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же из НСС организовать иерархическую структуру, то можно моделировать психические функции, в частности решение тестов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Q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7A66-29C3-47D4-A686-67BC6FDE6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приведено, автоматическое формирование структуры (отображающей логическое правило) в НСС2, на основе текстовых примеров в НСС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вся аристотелевская силлогистика из 2-х десятков правил автоматически формируется в структуре НСС, по 2-3 примера на формирование прави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привести великое множество примеров особенностей нашей психико-креативной деятельности. Все библиотеки забиты текстами об этом, но это мало нас продвигает в решении основного вопроса философии – о природе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 свести это необъятное разнообразие примеров мы предложили модель нейросемантического регулятора, на котором и предлагаем формальное исследование основных информо-биологических и психических проявлений субъ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6373-2CC1-4D7E-8EC1-AA1AEE50D6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 заключ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разработан прототип компьютерного интерфейса: “человек-ИP“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"/>
          <p:cNvSpPr/>
          <p:nvPr/>
        </p:nvSpPr>
        <p:spPr>
          <a:xfrm>
            <a:off x="1143000" y="746280"/>
            <a:ext cx="45720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Геном, в свою очередь, рассматривается наподобие изначально заложенной природой компьютерной программы, расшифровка которой позволит «редактировать» воспроизводимый этой программой «текст», т.е. человеческое тел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днако текст не может быть понят только из расшифровки значения отдельных слов и предложений. Текст как целое несет особое значение, понять которое можно не путем вычисления, а посредством интерпре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F1813F-51C5-44B7-9011-983DAD7DD88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D283-8366-4E20-9B0A-DB35B374E6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кстовую фор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С можно представить как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стая суперпозиция ЭСЕ или ТФ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игнал, структурированный на иерархию ЭС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 –  иерархия НСС в И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юсь, что моя речь как ТФ, для Вас преобразуется в более компактную форму, чем набор просто слов (ЭСЕ), т.е. в форму 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стати, характер компрессии ТФ, позволяет дать объективное определение этих семантических понятий в физических величинах СБ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методы выделения из ТФ информации и знания, мы назвали методам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структур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64472D-3A09-4D34-9AC2-0C9E9ED2668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7" name=""/>
          <p:cNvSpPr/>
          <p:nvPr/>
        </p:nvSpPr>
        <p:spPr>
          <a:xfrm>
            <a:off x="1143000" y="746280"/>
            <a:ext cx="45720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 построили процедуру формирования этого граф из ТФ и обрат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зработано несколько классов алгорит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казать о нейросемантических структурах их теории и их свойствах (блоки 1-2 на слайд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потенциальной значимости проблемы автоматизации интеллектуальной обработки слабоструктурированной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буду в пол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екста их связанности с возможными областями приложений, остальные блоки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как нынешние особенности НТР, эпохи ТГД, обязывают ученых не только решать поставленную задачу, но и продумывать возможные последствия, чтобы не допустить негативных последствий от их разраб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C63D-3AAC-4C17-8662-212FC7269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C7A26B-CF7F-4392-B95D-8A16A1E2A08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"/>
          <p:cNvSpPr/>
          <p:nvPr/>
        </p:nvSpPr>
        <p:spPr>
          <a:xfrm>
            <a:off x="1143000" y="746280"/>
            <a:ext cx="45720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  моделировании  предметных  областей  (ПО) специализированными нейросетями (НСС)        было обнаружено явление </a:t>
            </a:r>
            <a:r>
              <a:rPr b="0" lang="en-GB" sz="1200" spc="-1" strike="noStrike">
                <a:solidFill>
                  <a:srgbClr val="99cc00"/>
                </a:solidFill>
                <a:latin typeface="Arial"/>
                <a:ea typeface="Lucida Sans Unicode"/>
              </a:rPr>
              <a:t>автоструктуризации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Которое выражалось в том, что при минимизации ресурсов нейросети, затрачиваемых на отображение реальных предметных областей,  структура нейросети приобретала свойство </a:t>
            </a:r>
            <a:r>
              <a:rPr b="0" lang="en-GB" sz="1200" spc="-1" strike="noStrike">
                <a:solidFill>
                  <a:srgbClr val="99cc00"/>
                </a:solidFill>
                <a:latin typeface="Arial"/>
                <a:ea typeface="Lucida Sans Unicode"/>
              </a:rPr>
              <a:t>гомоморфности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чинно-следственной структуре физических процессов произвольной 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СС – это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ногодольный ориентированный граф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в вершинах которого находятся нейроподобные N‑элементы, отражающие объекты-процессы предметной об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 результате действия НСС-алгоритма, исходный линейный информационный поток преобразуется в гипертекстовый граф, в вершинах которого автоматически выделяются объекты и процессы данной предметной области, а дуги задают причинно-следственные связи этих процессов. Данный граф дает исследователю полную (структурную) картину процессов исследуемой предметной об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сследования показали, что представление произвольного текстового потока в форме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СС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мимо рассмотренной автоструктуризации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ает множество преимущест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произвольный ассоциативный и параллельный доступ; автоструктуризацию (N‑элемент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образ), монотонно растущую компрессию, повышенную надежность, независимость времени доступа от объема хранимой информации, самопрограммируемость входящей информацией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51B-8A42-4497-AD75-8B467981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0A7-FE05-43E6-8268-5E85AF09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EC3-D1BE-4D6E-8AB4-DDEE197B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F69-D305-4243-A079-A5C295C5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9D04-ADC5-41A7-9876-31CC8407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ED64-F610-4DDC-BFF0-204EC0AB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91BF-9C54-4325-8BCE-35E7C22C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C945-B8B2-4968-9D13-F132F4B6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B584-3CB3-47C4-98FB-BAE1E9E5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F0AC-6FF5-46C1-BDF5-83EEE133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7693-45D7-4526-85CF-78754E01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AB4-FB10-4507-A236-EEFCAC0D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CE0D-C580-425F-821C-953F9F0A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6654-16EC-4459-B891-045FBDFD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EAE6-DD1D-4008-ACC0-8D370DC8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C88A-C008-4729-8CD4-E78C938D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FB4B-090C-41DF-9495-2F7B735B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E2A-A076-4B8F-9964-D2082EE4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791-BFB3-4DF2-A5F3-68D009CF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D08-09E0-4852-A182-B26843CB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0A6-77A5-4305-BE86-49B6538F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066-6F7F-4D38-ADBB-652A1D3E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911-82B8-4656-A130-BE7BC5D7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545-2AFF-49F4-AEF5-1E14805B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2034-DE22-491A-8707-58491D9720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74AF-5ADC-4C0B-898F-5DC23CF6C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D813-601A-49A1-967E-3EAEB6C87154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1CAB-588F-4076-BCAB-62B551A39DD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body@ipu.ru" TargetMode="External"/><Relationship Id="rId3" Type="http://schemas.openxmlformats.org/officeDocument/2006/relationships/hyperlink" Target="mailto:body@ipu.ru" TargetMode="External"/><Relationship Id="rId4" Type="http://schemas.openxmlformats.org/officeDocument/2006/relationships/hyperlink" Target="mailto:body@ipu.ru" TargetMode="External"/><Relationship Id="rId5" Type="http://schemas.openxmlformats.org/officeDocument/2006/relationships/hyperlink" Target="mailto:body@ipu.ru" TargetMode="External"/><Relationship Id="rId6" Type="http://schemas.openxmlformats.org/officeDocument/2006/relationships/hyperlink" Target="mailto:body@ipu.ru" TargetMode="External"/><Relationship Id="rId7" Type="http://schemas.openxmlformats.org/officeDocument/2006/relationships/hyperlink" Target="mailto:informograd@narod.ru" TargetMode="External"/><Relationship Id="rId8" Type="http://schemas.openxmlformats.org/officeDocument/2006/relationships/hyperlink" Target="mailto:informograd@narod.ru" TargetMode="External"/><Relationship Id="rId9" Type="http://schemas.openxmlformats.org/officeDocument/2006/relationships/hyperlink" Target="mailto:informograd@narod.ru" TargetMode="External"/><Relationship Id="rId10" Type="http://schemas.openxmlformats.org/officeDocument/2006/relationships/hyperlink" Target="mailto:informograd@narod.ru" TargetMode="External"/><Relationship Id="rId11" Type="http://schemas.openxmlformats.org/officeDocument/2006/relationships/hyperlink" Target="mailto:informograd@narod.ru" TargetMode="External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1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2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2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2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2.png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4.png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35.png"/><Relationship Id="rId24" Type="http://schemas.openxmlformats.org/officeDocument/2006/relationships/image" Target="../media/image36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image" Target="../media/image36.jpe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hyperlink" Target="http://www.informograd.narod.ru/" TargetMode="External"/><Relationship Id="rId4" Type="http://schemas.openxmlformats.org/officeDocument/2006/relationships/hyperlink" Target="http://www.informograd.narod.ru/TZ_2006.zip" TargetMode="External"/><Relationship Id="rId5" Type="http://schemas.openxmlformats.org/officeDocument/2006/relationships/hyperlink" Target="mailto:body@ipu.ru" TargetMode="External"/><Relationship Id="rId6" Type="http://schemas.openxmlformats.org/officeDocument/2006/relationships/hyperlink" Target="mailto:body@ipu.ru" TargetMode="External"/><Relationship Id="rId7" Type="http://schemas.openxmlformats.org/officeDocument/2006/relationships/hyperlink" Target="mailto:body@ipu.ru" TargetMode="External"/><Relationship Id="rId8" Type="http://schemas.openxmlformats.org/officeDocument/2006/relationships/hyperlink" Target="mailto:body@ipu.ru" TargetMode="External"/><Relationship Id="rId9" Type="http://schemas.openxmlformats.org/officeDocument/2006/relationships/hyperlink" Target="mailto:body@ipu.ru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index.html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Ics2-4"/>
          <p:cNvPicPr/>
          <p:nvPr/>
        </p:nvPicPr>
        <p:blipFill>
          <a:blip r:embed="rId1"/>
          <a:stretch/>
        </p:blipFill>
        <p:spPr>
          <a:xfrm>
            <a:off x="0" y="3306600"/>
            <a:ext cx="4932360" cy="3551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50920" y="3500280"/>
            <a:ext cx="86421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дякин В.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ститут проблем управл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м. В.А. Трапезникова РАН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кв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body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@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ipu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ru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http://www.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informograd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narod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ru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уж.тел.:334-92-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50920" y="54936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Моделирование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когнитивных функций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 на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 базе нейросемантического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 подхода</a:t>
            </a:r>
            <a:endParaRPr b="1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69AF52-9504-436E-BBBA-8ADB57E56FD1}" type="slidenum">
              <a:rPr b="1" i="1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577240" y="714240"/>
            <a:ext cx="5775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66"/>
                </a:solidFill>
                <a:latin typeface="Times New Roman"/>
                <a:ea typeface="Lucida Sans Unicode"/>
              </a:rPr>
              <a:t>НС - упрощенная модель мозга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214800" y="1844640"/>
            <a:ext cx="5929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66"/>
                </a:solidFill>
                <a:latin typeface="Times New Roman"/>
                <a:ea typeface="Lucida Sans Unicode"/>
              </a:rPr>
              <a:t>Мозг  человека содержит 10</a:t>
            </a:r>
            <a:r>
              <a:rPr b="1" i="1" lang="en-GB" sz="1600" spc="-1" strike="noStrike" baseline="30000">
                <a:solidFill>
                  <a:srgbClr val="000066"/>
                </a:solidFill>
                <a:latin typeface="Times New Roman"/>
                <a:ea typeface="Lucida Sans Unicode"/>
              </a:rPr>
              <a:t>11</a:t>
            </a:r>
            <a:r>
              <a:rPr b="1" i="1" lang="en-GB" sz="1600" spc="-1" strike="noStrike">
                <a:solidFill>
                  <a:srgbClr val="000066"/>
                </a:solidFill>
                <a:latin typeface="Times New Roman"/>
                <a:ea typeface="Lucida Sans Unicode"/>
              </a:rPr>
              <a:t> нейронов.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66"/>
                </a:solidFill>
                <a:latin typeface="Times New Roman"/>
                <a:ea typeface="Lucida Sans Unicode"/>
              </a:rPr>
              <a:t>Состав  нейрона: аксон, 10 000 дендритов, синапсы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66"/>
                </a:solidFill>
                <a:latin typeface="Times New Roman"/>
                <a:ea typeface="Lucida Sans Unicode"/>
              </a:rPr>
              <a:t>Состояние нейрона – возбужденное или невозбужденное, переключается с частотой  20-50 Гц.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14280" y="3429000"/>
            <a:ext cx="1905120" cy="2841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57120" y="2214720"/>
            <a:ext cx="2786040" cy="4143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203640" y="3068640"/>
            <a:ext cx="1738080" cy="3456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5364000" y="3068640"/>
            <a:ext cx="360216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D037F1-E669-4B0C-8850-D33709C92D57}" type="slidenum">
              <a:rPr b="1" i="1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411280" y="333360"/>
            <a:ext cx="525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66"/>
                </a:solidFill>
                <a:latin typeface="Times New Roman"/>
                <a:ea typeface="Lucida Sans Unicode"/>
              </a:rPr>
              <a:t>Формальный нейрон</a:t>
            </a:r>
            <a:endParaRPr b="1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786440" cy="2288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692360" y="4292640"/>
            <a:ext cx="2571840" cy="116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187280" y="5516640"/>
            <a:ext cx="33847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66"/>
                </a:solidFill>
                <a:latin typeface="Tahoma"/>
                <a:ea typeface="Lucida Sans Unicode"/>
              </a:rPr>
              <a:t>n – количество синапсов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66"/>
                </a:solidFill>
                <a:latin typeface="Tahoma"/>
                <a:ea typeface="Lucida Sans Unicode"/>
              </a:rPr>
              <a:t>i – индекс сигнала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66"/>
                </a:solidFill>
                <a:latin typeface="Tahoma"/>
                <a:ea typeface="Lucida Sans Unicode"/>
              </a:rPr>
              <a:t>x</a:t>
            </a:r>
            <a:r>
              <a:rPr b="1" i="1" lang="en-GB" sz="1800" spc="-1" strike="noStrike" baseline="-25000">
                <a:solidFill>
                  <a:srgbClr val="000066"/>
                </a:solidFill>
                <a:latin typeface="Tahoma"/>
                <a:ea typeface="Lucida Sans Unicode"/>
              </a:rPr>
              <a:t>i</a:t>
            </a:r>
            <a:r>
              <a:rPr b="1" i="1" lang="en-GB" sz="1800" spc="-1" strike="noStrike">
                <a:solidFill>
                  <a:srgbClr val="000066"/>
                </a:solidFill>
                <a:latin typeface="Tahoma"/>
                <a:ea typeface="Lucida Sans Unicode"/>
              </a:rPr>
              <a:t> – входной сигнал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66"/>
                </a:solidFill>
                <a:latin typeface="Tahoma"/>
                <a:ea typeface="Lucida Sans Unicode"/>
              </a:rPr>
              <a:t>NET – сигнал сумматора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365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66"/>
                </a:solidFill>
                <a:latin typeface="Tahoma"/>
                <a:ea typeface="Lucida Sans Unicode"/>
              </a:rPr>
              <a:t>Активизационная функция: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66"/>
                </a:solidFill>
                <a:latin typeface="Tahoma"/>
                <a:ea typeface="Lucida Sans Unicode"/>
              </a:rPr>
              <a:t>OUT = F(NET)</a:t>
            </a:r>
            <a:r>
              <a:rPr b="1" i="1" lang="en-GB" sz="1800" spc="-1" strike="noStrike">
                <a:solidFill>
                  <a:srgbClr val="000066"/>
                </a:solidFill>
                <a:latin typeface="Tahoma"/>
                <a:ea typeface="Lucida Sans Unicode"/>
              </a:rPr>
              <a:t>‏</a:t>
            </a:r>
            <a:r>
              <a:rPr b="1" i="1" lang="en-GB" sz="1800" spc="-1" strike="noStrike">
                <a:solidFill>
                  <a:srgbClr val="000066"/>
                </a:solidFill>
                <a:latin typeface="Tahoma"/>
                <a:ea typeface="Lucida Sans Unicode"/>
              </a:rPr>
              <a:t> 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829480" y="5084640"/>
            <a:ext cx="3314520" cy="112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716360" y="5157720"/>
                <a:ext cx="1630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978280" y="978840"/>
            <a:ext cx="37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Мак Каллока-Питтса (от 1943 г.)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5ED918-7381-4017-BADF-A7348D8B709C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85880" y="555480"/>
            <a:ext cx="7792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асширив  свойства  формального  нейрона  введением  в него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относительности  времени  активации  входов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чим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 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нейроподобный  N-элемент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.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50920" y="2163600"/>
          <a:ext cx="482760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63600"/>
                    <a:ext cx="482760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43280" y="2239920"/>
          <a:ext cx="4179960" cy="20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239920"/>
                    <a:ext cx="417996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"/>
          <p:cNvGrpSpPr/>
          <p:nvPr/>
        </p:nvGrpSpPr>
        <p:grpSpPr>
          <a:xfrm>
            <a:off x="1908000" y="5443560"/>
            <a:ext cx="1368720" cy="1563840"/>
            <a:chOff x="1908000" y="5443560"/>
            <a:chExt cx="1368720" cy="1563840"/>
          </a:xfrm>
        </p:grpSpPr>
        <p:sp>
          <p:nvSpPr>
            <p:cNvPr id="229" name=""/>
            <p:cNvSpPr/>
            <p:nvPr/>
          </p:nvSpPr>
          <p:spPr>
            <a:xfrm>
              <a:off x="2268360" y="5549760"/>
              <a:ext cx="936720" cy="18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68360" y="5516640"/>
              <a:ext cx="936720" cy="14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908000" y="5443560"/>
              <a:ext cx="1368720" cy="1563840"/>
              <a:chOff x="1908000" y="5443560"/>
              <a:chExt cx="1368720" cy="1563840"/>
            </a:xfrm>
          </p:grpSpPr>
          <p:sp>
            <p:nvSpPr>
              <p:cNvPr id="232" name=""/>
              <p:cNvSpPr/>
              <p:nvPr/>
            </p:nvSpPr>
            <p:spPr>
              <a:xfrm flipV="1">
                <a:off x="2268360" y="5443560"/>
                <a:ext cx="1800" cy="6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68360" y="6093000"/>
                <a:ext cx="936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97080" y="61070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  <a:ea typeface="Lucida Sans Unicode"/>
                  </a:rPr>
                  <a:t>1               k</a:t>
                </a: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08000" y="5445000"/>
                <a:ext cx="289080" cy="15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  <a:ea typeface="Lucida Sans Unicode"/>
                  </a:rPr>
                  <a:t>1</a:t>
                </a: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  <a:ea typeface="Lucida Sans Unicode"/>
                  </a:rPr>
                  <a:t>0             </a:t>
                </a: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3490920" y="5443560"/>
            <a:ext cx="1368360" cy="1563840"/>
            <a:chOff x="3490920" y="5443560"/>
            <a:chExt cx="1368360" cy="1563840"/>
          </a:xfrm>
        </p:grpSpPr>
        <p:sp>
          <p:nvSpPr>
            <p:cNvPr id="237" name=""/>
            <p:cNvSpPr/>
            <p:nvPr/>
          </p:nvSpPr>
          <p:spPr>
            <a:xfrm>
              <a:off x="3851280" y="5562720"/>
              <a:ext cx="936720" cy="14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51280" y="6046920"/>
              <a:ext cx="936720" cy="14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490920" y="5443560"/>
              <a:ext cx="1368360" cy="1563840"/>
              <a:chOff x="3490920" y="5443560"/>
              <a:chExt cx="1368360" cy="1563840"/>
            </a:xfrm>
          </p:grpSpPr>
          <p:sp>
            <p:nvSpPr>
              <p:cNvPr id="240" name=""/>
              <p:cNvSpPr/>
              <p:nvPr/>
            </p:nvSpPr>
            <p:spPr>
              <a:xfrm flipV="1">
                <a:off x="3851280" y="5443560"/>
                <a:ext cx="1440" cy="6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51280" y="6093000"/>
                <a:ext cx="936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80000" y="610704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  <a:ea typeface="Lucida Sans Unicode"/>
                  </a:rPr>
                  <a:t>1               k</a:t>
                </a: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90920" y="5445000"/>
                <a:ext cx="289080" cy="15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  <a:ea typeface="Lucida Sans Unicode"/>
                  </a:rPr>
                  <a:t>1</a:t>
                </a: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  <a:ea typeface="Lucida Sans Unicode"/>
                  </a:rPr>
                  <a:t>0             </a:t>
                </a: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>
            <a:off x="7380360" y="5877000"/>
            <a:ext cx="936720" cy="14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020000" y="5443560"/>
            <a:ext cx="1368360" cy="1563840"/>
            <a:chOff x="7020000" y="5443560"/>
            <a:chExt cx="1368360" cy="1563840"/>
          </a:xfrm>
        </p:grpSpPr>
        <p:sp>
          <p:nvSpPr>
            <p:cNvPr id="246" name=""/>
            <p:cNvSpPr/>
            <p:nvPr/>
          </p:nvSpPr>
          <p:spPr>
            <a:xfrm flipV="1">
              <a:off x="7380360" y="5443560"/>
              <a:ext cx="144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80360" y="6093000"/>
              <a:ext cx="93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08720" y="61070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1               k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20000" y="5445000"/>
              <a:ext cx="288720" cy="15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1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0             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148360" y="5443560"/>
            <a:ext cx="1368360" cy="1563840"/>
            <a:chOff x="5148360" y="5443560"/>
            <a:chExt cx="1368360" cy="1563840"/>
          </a:xfrm>
        </p:grpSpPr>
        <p:sp>
          <p:nvSpPr>
            <p:cNvPr id="251" name=""/>
            <p:cNvSpPr/>
            <p:nvPr/>
          </p:nvSpPr>
          <p:spPr>
            <a:xfrm>
              <a:off x="5508720" y="5803920"/>
              <a:ext cx="936360" cy="14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148360" y="5443560"/>
              <a:ext cx="1368360" cy="1563840"/>
              <a:chOff x="5148360" y="5443560"/>
              <a:chExt cx="1368360" cy="156384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5508720" y="5443560"/>
                <a:ext cx="1440" cy="6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08720" y="6093000"/>
                <a:ext cx="936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37080" y="61070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  <a:ea typeface="Lucida Sans Unicode"/>
                  </a:rPr>
                  <a:t>1               k</a:t>
                </a: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48360" y="5445000"/>
                <a:ext cx="288720" cy="15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  <a:ea typeface="Lucida Sans Unicode"/>
                  </a:rPr>
                  <a:t>1</a:t>
                </a: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  <a:ea typeface="Lucida Sans Unicode"/>
                  </a:rPr>
                  <a:t>0             </a:t>
                </a: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508720" y="5589720"/>
              <a:ext cx="934920" cy="468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380360" y="5575320"/>
            <a:ext cx="933480" cy="5065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6588000" y="566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…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071800" y="3000240"/>
            <a:ext cx="92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U (t)=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2143080" y="214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Элементная  база  НСС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28760" y="5572080"/>
            <a:ext cx="1714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Lucida Sans Unicode"/>
              </a:rPr>
              <a:t>F</a:t>
            </a:r>
            <a:r>
              <a:rPr b="1" lang="en-GB" sz="2400" spc="-1" strike="noStrike" baseline="-25000">
                <a:solidFill>
                  <a:srgbClr val="008000"/>
                </a:solidFill>
                <a:latin typeface="Times New Roman"/>
                <a:ea typeface="Lucida Sans Unicode"/>
              </a:rPr>
              <a:t>1-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,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) =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932360" y="4437000"/>
            <a:ext cx="3671640" cy="862920"/>
            <a:chOff x="4932360" y="4437000"/>
            <a:chExt cx="3671640" cy="862920"/>
          </a:xfrm>
        </p:grpSpPr>
        <p:sp>
          <p:nvSpPr>
            <p:cNvPr id="267" name=""/>
            <p:cNvSpPr/>
            <p:nvPr/>
          </p:nvSpPr>
          <p:spPr>
            <a:xfrm>
              <a:off x="4932360" y="4619880"/>
              <a:ext cx="3671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U(t) = (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∑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U(u(x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  <a:ea typeface="Lucida Sans Unicode"/>
                </a:rPr>
                <a:t>i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), ∆t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  <a:ea typeface="Lucida Sans Unicode"/>
                </a:rPr>
                <a:t>i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)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Times New Roman"/>
                  <a:ea typeface="Lucida Sans Unicode"/>
                </a:rPr>
                <a:t>F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Lucida Sans Unicode"/>
                </a:rPr>
                <a:t>n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29720" y="4437000"/>
              <a:ext cx="55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k</a:t>
              </a:r>
              <a:endParaRPr b="1" i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29720" y="4992840"/>
              <a:ext cx="55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i=1</a:t>
              </a:r>
              <a:endParaRPr b="1" i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843280" y="2830680"/>
            <a:ext cx="142920" cy="71424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14240"/>
              <a:gd name="textAreaBottom" fmla="*/ 71064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2914560" y="2857680"/>
            <a:ext cx="171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1,  U(t) / U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ahoma"/>
                <a:ea typeface="Lucida Sans Unicode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gt;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2928960" y="3233880"/>
            <a:ext cx="1714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0,  U(t) / U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ahoma"/>
                <a:ea typeface="Lucida Sans Unicode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≤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16000" y="115920"/>
            <a:ext cx="67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Объединенные N-элементы в НСС представляют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многодольный  иерархический  граф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11280" y="1125360"/>
          <a:ext cx="784836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25360"/>
                    <a:ext cx="784836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324000" y="5013360"/>
            <a:ext cx="8569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Межслойные связи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 N-элементов формируются </a:t>
            </a:r>
            <a:r>
              <a:rPr b="0" lang="en-GB" sz="1800" spc="-1" strike="noStrike">
                <a:solidFill>
                  <a:srgbClr val="009900"/>
                </a:solidFill>
                <a:latin typeface="Times New Roman"/>
                <a:ea typeface="Lucida Sans Unicode"/>
              </a:rPr>
              <a:t>входящей информаци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  <a:ea typeface="Lucida Sans Unicode"/>
              </a:rPr>
              <a:t>е</a:t>
            </a:r>
            <a:r>
              <a:rPr b="0" lang="en-GB" sz="1800" spc="-1" strike="noStrike">
                <a:solidFill>
                  <a:srgbClr val="009900"/>
                </a:solidFill>
                <a:latin typeface="Times New Roman"/>
                <a:ea typeface="Lucida Sans Unicode"/>
              </a:rPr>
              <a:t>й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. Процесс заполнения связями (памяти) НСС  идет слева направо и снизу вверх  (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долговременная память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,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промежуточная память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 и </a:t>
            </a:r>
            <a:r>
              <a:rPr b="1" lang="en-GB" sz="1800" spc="-1" strike="noStrike">
                <a:solidFill>
                  <a:srgbClr val="66ccff"/>
                </a:solidFill>
                <a:latin typeface="Times New Roman"/>
                <a:ea typeface="Lucida Sans Unicode"/>
              </a:rPr>
              <a:t>резерв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).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В слое N-элементы независимы – </a:t>
            </a:r>
            <a:r>
              <a:rPr b="0" lang="en-GB" sz="1800" spc="-1" strike="noStrike">
                <a:solidFill>
                  <a:srgbClr val="009900"/>
                </a:solidFill>
                <a:latin typeface="Times New Roman"/>
                <a:ea typeface="Lucida Sans Unicode"/>
              </a:rPr>
              <a:t>максимальная распараллеливаемость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.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Время распознавания НСС монотонно </a:t>
            </a:r>
            <a:r>
              <a:rPr b="1" lang="en-GB" sz="1800" spc="-1" strike="noStrike">
                <a:solidFill>
                  <a:srgbClr val="ff33cc"/>
                </a:solidFill>
                <a:latin typeface="Symbol"/>
                <a:ea typeface="Symbol"/>
              </a:rPr>
              <a:t></a:t>
            </a:r>
            <a:r>
              <a:rPr b="1" lang="en-GB" sz="1800" spc="-1" strike="noStrike">
                <a:solidFill>
                  <a:srgbClr val="ff33cc"/>
                </a:solidFill>
                <a:latin typeface="Times New Roman"/>
                <a:ea typeface="Lucida Sans Unicode"/>
              </a:rPr>
              <a:t> 1 обобщ.такту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, по мере работы.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276720" y="2490840"/>
            <a:ext cx="215640" cy="146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003640" y="2274840"/>
            <a:ext cx="216000" cy="14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2195640" y="3499920"/>
            <a:ext cx="2736720" cy="1800360"/>
            <a:chOff x="2195640" y="3499920"/>
            <a:chExt cx="2736720" cy="1800360"/>
          </a:xfrm>
        </p:grpSpPr>
        <p:sp>
          <p:nvSpPr>
            <p:cNvPr id="282" name=""/>
            <p:cNvSpPr/>
            <p:nvPr/>
          </p:nvSpPr>
          <p:spPr>
            <a:xfrm flipH="1" flipV="1">
              <a:off x="2195640" y="4868640"/>
              <a:ext cx="72720" cy="4316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2340000" y="4868640"/>
              <a:ext cx="719280" cy="4316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2843280" y="4868640"/>
              <a:ext cx="792000" cy="4316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3276360" y="4916160"/>
              <a:ext cx="934920" cy="3841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538440" y="4892400"/>
              <a:ext cx="1393920" cy="4078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268000" y="4149360"/>
              <a:ext cx="71640" cy="4316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340000" y="4220640"/>
              <a:ext cx="144360" cy="36036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843280" y="4149360"/>
              <a:ext cx="0" cy="4316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340000" y="4220640"/>
              <a:ext cx="1224000" cy="36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492360" y="4220640"/>
              <a:ext cx="287640" cy="36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843280" y="4220640"/>
              <a:ext cx="1224000" cy="36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410920" y="3499920"/>
              <a:ext cx="73080" cy="36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2916360" y="3499920"/>
              <a:ext cx="792000" cy="36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924360" y="4581360"/>
            <a:ext cx="4319640" cy="347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5300640"/>
            <a:ext cx="2160360" cy="347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5291280" y="5313240"/>
            <a:ext cx="514080" cy="347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4621320" y="5300640"/>
            <a:ext cx="514080" cy="347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3922560" y="5300640"/>
            <a:ext cx="514440" cy="347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3395520" y="5280120"/>
            <a:ext cx="368280" cy="347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2698920" y="5300640"/>
            <a:ext cx="588960" cy="347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2050920" y="5300640"/>
            <a:ext cx="514440" cy="347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2050920" y="3860640"/>
            <a:ext cx="955800" cy="347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3274920" y="3860640"/>
            <a:ext cx="4897440" cy="347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2492280"/>
            <a:ext cx="6121440" cy="347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050920" y="4579920"/>
            <a:ext cx="514440" cy="347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2698920" y="4579920"/>
            <a:ext cx="293400" cy="347760"/>
          </a:xfrm>
          <a:custGeom>
            <a:avLst/>
            <a:gdLst>
              <a:gd name="textAreaLeft" fmla="*/ 14040 w 293400"/>
              <a:gd name="textAreaRight" fmla="*/ 279360 w 293400"/>
              <a:gd name="textAreaTop" fmla="*/ 14040 h 347760"/>
              <a:gd name="textAreaBottom" fmla="*/ 333720 h 347760"/>
            </a:gdLst>
            <a:ahLst/>
            <a:rect l="textAreaLeft" t="textAreaTop" r="textAreaRight" b="textAreaBottom"/>
            <a:pathLst>
              <a:path w="21600" h="25597">
                <a:moveTo>
                  <a:pt x="3600" y="0"/>
                </a:moveTo>
                <a:arcTo wR="3600" hR="3600" stAng="16200000" swAng="-5400000"/>
                <a:lnTo>
                  <a:pt x="0" y="21997"/>
                </a:lnTo>
                <a:arcTo wR="3600" hR="3600" stAng="10800000" swAng="-5400000"/>
                <a:lnTo>
                  <a:pt x="18000" y="25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3130560" y="4579920"/>
            <a:ext cx="588960" cy="347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46200" y="691920"/>
            <a:ext cx="612288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мер.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2.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ачало формирования  НСС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3442320" y="5923080"/>
            <a:ext cx="1690920" cy="3160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МА  МАШУ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 flipV="1" rot="10804200">
            <a:off x="2986920" y="5849280"/>
            <a:ext cx="289080" cy="287280"/>
          </a:xfrm>
          <a:custGeom>
            <a:avLst/>
            <a:gdLst>
              <a:gd name="textAreaLeft" fmla="*/ 96480 w 289080"/>
              <a:gd name="textAreaRight" fmla="*/ 247680 w 289080"/>
              <a:gd name="textAreaTop" fmla="*/ 165600 h 287280"/>
              <a:gd name="textAreaBottom" fmla="*/ 2462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2052720" y="3191040"/>
            <a:ext cx="6119640" cy="3603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2050920" y="3871800"/>
            <a:ext cx="1009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МА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3871800"/>
            <a:ext cx="934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ШУ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058120" y="4579920"/>
            <a:ext cx="52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3138840" y="4579920"/>
            <a:ext cx="534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ШУ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4427640" y="4568760"/>
            <a:ext cx="183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2055960" y="5300640"/>
            <a:ext cx="532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"М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2704680" y="5311800"/>
            <a:ext cx="49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"А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3371760" y="5300640"/>
            <a:ext cx="406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" 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3879720" y="5300640"/>
            <a:ext cx="551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"Ш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4645800" y="5300640"/>
            <a:ext cx="48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"У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4067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5070600" y="5923080"/>
            <a:ext cx="2018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ЫЛА,МЫЛА. ..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2049480" y="3213000"/>
            <a:ext cx="2090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МА МАШУ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5076720" y="6308640"/>
            <a:ext cx="142920" cy="216000"/>
          </a:xfrm>
          <a:prstGeom prst="upArrow">
            <a:avLst>
              <a:gd name="adj1" fmla="val 50000"/>
              <a:gd name="adj2" fmla="val 3778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287360" y="1916280"/>
            <a:ext cx="172872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N- номер слоя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- число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входов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1000"/>
              </a:lnSpc>
              <a:spcBef>
                <a:spcPts val="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  8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  8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 3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 2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 1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2195640" y="2825280"/>
            <a:ext cx="5249880" cy="2548440"/>
            <a:chOff x="2195640" y="2825280"/>
            <a:chExt cx="5249880" cy="2548440"/>
          </a:xfrm>
        </p:grpSpPr>
        <p:sp>
          <p:nvSpPr>
            <p:cNvPr id="330" name=""/>
            <p:cNvSpPr/>
            <p:nvPr/>
          </p:nvSpPr>
          <p:spPr>
            <a:xfrm>
              <a:off x="3241800" y="4884840"/>
              <a:ext cx="898560" cy="41580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2195640" y="2825280"/>
              <a:ext cx="5249880" cy="2548440"/>
              <a:chOff x="2195640" y="2825280"/>
              <a:chExt cx="5249880" cy="2548440"/>
            </a:xfrm>
          </p:grpSpPr>
          <p:sp>
            <p:nvSpPr>
              <p:cNvPr id="332" name=""/>
              <p:cNvSpPr/>
              <p:nvPr/>
            </p:nvSpPr>
            <p:spPr>
              <a:xfrm>
                <a:off x="2195640" y="4941720"/>
                <a:ext cx="144360" cy="43200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411280" y="4941720"/>
                <a:ext cx="648000" cy="3747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843280" y="4941720"/>
                <a:ext cx="576360" cy="3337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324240" y="4869000"/>
                <a:ext cx="1608120" cy="4316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2339640" y="4941720"/>
                <a:ext cx="1655640" cy="3589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51240" y="4940280"/>
                <a:ext cx="1257480" cy="3603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35640" y="4906800"/>
                <a:ext cx="1747800" cy="4035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3016080" y="4903920"/>
                <a:ext cx="1841760" cy="40320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80200" y="4927680"/>
                <a:ext cx="1579320" cy="3920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2292120" y="4203720"/>
                <a:ext cx="11160" cy="41580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2316240" y="4221000"/>
                <a:ext cx="239760" cy="362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>
                <a:off x="2754360" y="4192560"/>
                <a:ext cx="95040" cy="3794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2303640" y="4203360"/>
                <a:ext cx="1139760" cy="3682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408120" y="4203720"/>
                <a:ext cx="284040" cy="3682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2778120" y="4203720"/>
                <a:ext cx="1271520" cy="3682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4121280" y="4192560"/>
                <a:ext cx="582480" cy="39060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4762440" y="4203720"/>
                <a:ext cx="177840" cy="3794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18320" y="4916520"/>
                <a:ext cx="1627200" cy="3920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5308560" y="4192560"/>
                <a:ext cx="403200" cy="39060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5830560" y="4192560"/>
                <a:ext cx="439560" cy="3794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470320" y="3538440"/>
                <a:ext cx="47520" cy="3207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5280" y="3540240"/>
                <a:ext cx="652320" cy="30780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575160" y="3527280"/>
                <a:ext cx="1376280" cy="3207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4346640" y="3527280"/>
                <a:ext cx="1401840" cy="3319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951440" y="3538080"/>
                <a:ext cx="12600" cy="344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43680" y="3527280"/>
                <a:ext cx="1114200" cy="344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3254040" y="2825280"/>
                <a:ext cx="320760" cy="344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2050920" y="2492280"/>
            <a:ext cx="6193080" cy="3168720"/>
            <a:chOff x="2050920" y="2492280"/>
            <a:chExt cx="6193080" cy="3168720"/>
          </a:xfrm>
        </p:grpSpPr>
        <p:sp>
          <p:nvSpPr>
            <p:cNvPr id="360" name=""/>
            <p:cNvSpPr/>
            <p:nvPr/>
          </p:nvSpPr>
          <p:spPr>
            <a:xfrm>
              <a:off x="5135400" y="4581360"/>
              <a:ext cx="37332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88000" y="3860640"/>
              <a:ext cx="165600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 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56360" y="4579920"/>
              <a:ext cx="208764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51640" y="3211560"/>
              <a:ext cx="252072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567400" y="3859200"/>
              <a:ext cx="372960" cy="348840"/>
              <a:chOff x="5567400" y="3859200"/>
              <a:chExt cx="372960" cy="348840"/>
            </a:xfrm>
          </p:grpSpPr>
          <p:sp>
            <p:nvSpPr>
              <p:cNvPr id="365" name=""/>
              <p:cNvSpPr/>
              <p:nvPr/>
            </p:nvSpPr>
            <p:spPr>
              <a:xfrm>
                <a:off x="5567400" y="3859200"/>
                <a:ext cx="372960" cy="3477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21040" y="3859200"/>
                <a:ext cx="2448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,</a:t>
                </a: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7812000" y="5300640"/>
              <a:ext cx="43200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00840" y="5300640"/>
              <a:ext cx="51444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91280" y="5313240"/>
              <a:ext cx="51408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21320" y="5300640"/>
              <a:ext cx="51408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22560" y="5300640"/>
              <a:ext cx="51444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95520" y="5280120"/>
              <a:ext cx="368280" cy="3474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98920" y="5300640"/>
              <a:ext cx="58896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50920" y="5300640"/>
              <a:ext cx="51444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50920" y="3860640"/>
              <a:ext cx="95580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74920" y="3860640"/>
              <a:ext cx="95580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98920" y="3860640"/>
              <a:ext cx="95580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50920" y="2492280"/>
              <a:ext cx="463572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0920" y="4579920"/>
              <a:ext cx="51444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98920" y="4579920"/>
              <a:ext cx="293400" cy="347760"/>
            </a:xfrm>
            <a:custGeom>
              <a:avLst/>
              <a:gdLst>
                <a:gd name="textAreaLeft" fmla="*/ 14040 w 293400"/>
                <a:gd name="textAreaRight" fmla="*/ 279360 w 293400"/>
                <a:gd name="textAreaTop" fmla="*/ 14040 h 347760"/>
                <a:gd name="textAreaBottom" fmla="*/ 333720 h 347760"/>
              </a:gdLst>
              <a:ahLst/>
              <a:rect l="textAreaLeft" t="textAreaTop" r="textAreaRight" b="textAreaBottom"/>
              <a:pathLst>
                <a:path w="21600" h="25597">
                  <a:moveTo>
                    <a:pt x="3600" y="0"/>
                  </a:moveTo>
                  <a:arcTo wR="3600" hR="3600" stAng="16200000" swAng="-5400000"/>
                  <a:lnTo>
                    <a:pt x="0" y="21997"/>
                  </a:lnTo>
                  <a:arcTo wR="3600" hR="3600" stAng="10800000" swAng="-5400000"/>
                  <a:lnTo>
                    <a:pt x="18000" y="25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30560" y="4579920"/>
              <a:ext cx="58896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49840" y="4579920"/>
              <a:ext cx="51588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659640" y="5300640"/>
              <a:ext cx="477720" cy="360000"/>
              <a:chOff x="6659640" y="5300640"/>
              <a:chExt cx="477720" cy="360000"/>
            </a:xfrm>
          </p:grpSpPr>
          <p:sp>
            <p:nvSpPr>
              <p:cNvPr id="384" name=""/>
              <p:cNvSpPr/>
              <p:nvPr/>
            </p:nvSpPr>
            <p:spPr>
              <a:xfrm>
                <a:off x="6659640" y="5300640"/>
                <a:ext cx="477720" cy="3477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83040" y="5311800"/>
                <a:ext cx="40644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","</a:t>
                </a: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4510080" y="4581360"/>
              <a:ext cx="4824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ЛА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5638680" y="4581360"/>
              <a:ext cx="372960" cy="348840"/>
              <a:chOff x="5638680" y="4581360"/>
              <a:chExt cx="372960" cy="348840"/>
            </a:xfrm>
          </p:grpSpPr>
          <p:sp>
            <p:nvSpPr>
              <p:cNvPr id="388" name=""/>
              <p:cNvSpPr/>
              <p:nvPr/>
            </p:nvSpPr>
            <p:spPr>
              <a:xfrm>
                <a:off x="5638680" y="4581360"/>
                <a:ext cx="372960" cy="3477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92320" y="4581360"/>
                <a:ext cx="2448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.</a:t>
                </a: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070680" y="3860640"/>
              <a:ext cx="372960" cy="348840"/>
              <a:chOff x="6070680" y="3860640"/>
              <a:chExt cx="372960" cy="348840"/>
            </a:xfrm>
          </p:grpSpPr>
          <p:sp>
            <p:nvSpPr>
              <p:cNvPr id="391" name=""/>
              <p:cNvSpPr/>
              <p:nvPr/>
            </p:nvSpPr>
            <p:spPr>
              <a:xfrm>
                <a:off x="6070680" y="3860640"/>
                <a:ext cx="372960" cy="3477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24320" y="3860640"/>
                <a:ext cx="2448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.</a:t>
                </a: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236000" y="5300640"/>
              <a:ext cx="455400" cy="360000"/>
              <a:chOff x="7236000" y="5300640"/>
              <a:chExt cx="455400" cy="36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36000" y="5300640"/>
                <a:ext cx="455400" cy="3477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57960" y="5311800"/>
                <a:ext cx="40644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"."</a:t>
                </a: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6804000" y="2492280"/>
              <a:ext cx="1368360" cy="347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746928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мер окончательного формирования НСС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(A2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987280" y="5849640"/>
            <a:ext cx="3858120" cy="389520"/>
            <a:chOff x="2987280" y="5849640"/>
            <a:chExt cx="3858120" cy="389520"/>
          </a:xfrm>
        </p:grpSpPr>
        <p:sp>
          <p:nvSpPr>
            <p:cNvPr id="399" name=""/>
            <p:cNvSpPr/>
            <p:nvPr/>
          </p:nvSpPr>
          <p:spPr>
            <a:xfrm>
              <a:off x="3444480" y="5923080"/>
              <a:ext cx="3400920" cy="31608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1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МАМА  МАШУ  МЫЛА,МЫЛА. 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 rot="10804200">
              <a:off x="2987280" y="5849280"/>
              <a:ext cx="288720" cy="287280"/>
            </a:xfrm>
            <a:custGeom>
              <a:avLst/>
              <a:gdLst>
                <a:gd name="textAreaLeft" fmla="*/ 96120 w 288720"/>
                <a:gd name="textAreaRight" fmla="*/ 247320 w 288720"/>
                <a:gd name="textAreaTop" fmla="*/ 165600 h 287280"/>
                <a:gd name="textAreaBottom" fmla="*/ 2462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94920" y="1915920"/>
            <a:ext cx="17290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N- номер сло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- число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вход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1000"/>
              </a:lnSpc>
              <a:spcBef>
                <a:spcPts val="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1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 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1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 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1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1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1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2052720" y="3191040"/>
            <a:ext cx="3382920" cy="3603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2124000" y="2536920"/>
            <a:ext cx="4392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МА МАШУ МЫЛ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..   ПАПА ...    ...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124000" y="3211560"/>
            <a:ext cx="367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МА МАШУ МЫЛА, МЫЛА.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3871800"/>
            <a:ext cx="1009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МА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871800"/>
            <a:ext cx="934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ШУ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4500720" y="3859200"/>
            <a:ext cx="934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ЫЛА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2058120" y="4579920"/>
            <a:ext cx="52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3138840" y="4579920"/>
            <a:ext cx="534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ШУ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3850200" y="4579920"/>
            <a:ext cx="573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Ы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4427640" y="4568760"/>
            <a:ext cx="183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5189400" y="4556160"/>
            <a:ext cx="244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2055960" y="5300640"/>
            <a:ext cx="532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"М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704680" y="5311800"/>
            <a:ext cx="49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"А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3371760" y="5300640"/>
            <a:ext cx="406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" 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3879720" y="5300640"/>
            <a:ext cx="551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"Ш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645800" y="5300640"/>
            <a:ext cx="48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"У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5258520" y="5311800"/>
            <a:ext cx="545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"Ы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6017400" y="5311800"/>
            <a:ext cx="491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"Л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4464000" y="4579920"/>
            <a:ext cx="515880" cy="347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4067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511520" y="4581360"/>
            <a:ext cx="482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ЛА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3995640" y="2205000"/>
            <a:ext cx="14472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6661080" y="6308640"/>
            <a:ext cx="142920" cy="216000"/>
          </a:xfrm>
          <a:prstGeom prst="upArrow">
            <a:avLst>
              <a:gd name="adj1" fmla="val 50000"/>
              <a:gd name="adj2" fmla="val 3778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6871320" y="5923080"/>
            <a:ext cx="4366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.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DA224C-EE97-4401-9924-7B1F34BAC750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1351080" y="260280"/>
            <a:ext cx="7542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Первый слой (доля графа) N-элементов – терминальный, фактически отображает 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алфавит</a:t>
            </a:r>
            <a:r>
              <a:rPr b="0" lang="en-GB" sz="16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 </a:t>
            </a:r>
            <a:r>
              <a:rPr b="1" i="1" lang="en-GB" sz="16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А  </a:t>
            </a:r>
            <a:r>
              <a:rPr b="0" lang="en-GB" sz="16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 ЭСЕ, второй слой – 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псевдослоги</a:t>
            </a:r>
            <a:r>
              <a:rPr b="0" lang="en-GB" sz="16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" и строится на пространственно-временных ссылках на предыдущий (терминальный) слой - 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информационное содержание N‑элемента</a:t>
            </a:r>
            <a:r>
              <a:rPr b="0" lang="en-GB" sz="16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, слой 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псевдослов</a:t>
            </a:r>
            <a:r>
              <a:rPr b="0" lang="en-GB" sz="16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" – ссылается на "псевдослоги" и т.д., до самого верхнего N‑элемента, отображающего в себе через связи всю ПО.</a:t>
            </a:r>
            <a:r>
              <a:rPr b="0" lang="en-GB" sz="16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611280" y="2133720"/>
          <a:ext cx="8258040" cy="45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2580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7"/>
          <p:cNvGrpSpPr/>
          <p:nvPr/>
        </p:nvGrpSpPr>
        <p:grpSpPr>
          <a:xfrm>
            <a:off x="473040" y="549360"/>
            <a:ext cx="2730600" cy="2232000"/>
            <a:chOff x="473040" y="549360"/>
            <a:chExt cx="2730600" cy="2232000"/>
          </a:xfrm>
        </p:grpSpPr>
        <p:grpSp>
          <p:nvGrpSpPr>
            <p:cNvPr id="433" name="Group 8"/>
            <p:cNvGrpSpPr/>
            <p:nvPr/>
          </p:nvGrpSpPr>
          <p:grpSpPr>
            <a:xfrm>
              <a:off x="473040" y="549360"/>
              <a:ext cx="2730600" cy="2232000"/>
              <a:chOff x="473040" y="549360"/>
              <a:chExt cx="2730600" cy="2232000"/>
            </a:xfrm>
          </p:grpSpPr>
          <p:grpSp>
            <p:nvGrpSpPr>
              <p:cNvPr id="434" name="Group 9"/>
              <p:cNvGrpSpPr/>
              <p:nvPr/>
            </p:nvGrpSpPr>
            <p:grpSpPr>
              <a:xfrm>
                <a:off x="473040" y="549360"/>
                <a:ext cx="2730600" cy="2232000"/>
                <a:chOff x="473040" y="549360"/>
                <a:chExt cx="2730600" cy="2232000"/>
              </a:xfrm>
            </p:grpSpPr>
            <p:sp>
              <p:nvSpPr>
                <p:cNvPr id="435" name="AutoShape 10"/>
                <p:cNvSpPr/>
                <p:nvPr/>
              </p:nvSpPr>
              <p:spPr>
                <a:xfrm>
                  <a:off x="473040" y="549360"/>
                  <a:ext cx="2730600" cy="2232000"/>
                </a:xfrm>
                <a:prstGeom prst="wedgeRoundRectCallout">
                  <a:avLst>
                    <a:gd name="adj1" fmla="val -21796"/>
                    <a:gd name="adj2" fmla="val 50032"/>
                    <a:gd name="adj3" fmla="val 16667"/>
                  </a:avLst>
                </a:prstGeom>
                <a:solidFill>
                  <a:srgbClr val="ccffcc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8000"/>
                      </a:solidFill>
                      <a:latin typeface="Tahoma"/>
                    </a:rPr>
                    <a:t>Предметная область</a:t>
                  </a: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    </a:t>
                  </a: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  </a:t>
                  </a: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36" name="Group 11"/>
                <p:cNvGrpSpPr/>
                <p:nvPr/>
              </p:nvGrpSpPr>
              <p:grpSpPr>
                <a:xfrm>
                  <a:off x="548640" y="883800"/>
                  <a:ext cx="2427120" cy="1897200"/>
                  <a:chOff x="548640" y="883800"/>
                  <a:chExt cx="2427120" cy="1897200"/>
                </a:xfrm>
              </p:grpSpPr>
              <p:sp>
                <p:nvSpPr>
                  <p:cNvPr id="437" name="Documents"/>
                  <p:cNvSpPr/>
                  <p:nvPr/>
                </p:nvSpPr>
                <p:spPr>
                  <a:xfrm>
                    <a:off x="2216880" y="883800"/>
                    <a:ext cx="758880" cy="1243440"/>
                  </a:xfrm>
                  <a:prstGeom prst="pie">
                    <a:avLst/>
                  </a:prstGeom>
                  <a:solidFill>
                    <a:srgbClr val="d8ebb3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8" name="Sound"/>
                  <p:cNvSpPr/>
                  <p:nvPr/>
                </p:nvSpPr>
                <p:spPr>
                  <a:xfrm>
                    <a:off x="2369160" y="2203200"/>
                    <a:ext cx="506160" cy="453960"/>
                  </a:xfrm>
                  <a:prstGeom prst="pie">
                    <a:avLst/>
                  </a:prstGeom>
                  <a:solidFill>
                    <a:srgbClr val="ffbe7d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9" name="scanner1"/>
                  <p:cNvSpPr/>
                  <p:nvPr/>
                </p:nvSpPr>
                <p:spPr>
                  <a:xfrm>
                    <a:off x="548640" y="2405520"/>
                    <a:ext cx="606600" cy="304200"/>
                  </a:xfrm>
                  <a:prstGeom prst="pi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40" name="Group 15"/>
                  <p:cNvGrpSpPr/>
                  <p:nvPr/>
                </p:nvGrpSpPr>
                <p:grpSpPr>
                  <a:xfrm>
                    <a:off x="619200" y="1157400"/>
                    <a:ext cx="1597320" cy="1623600"/>
                    <a:chOff x="619200" y="1157400"/>
                    <a:chExt cx="1597320" cy="1623600"/>
                  </a:xfrm>
                </p:grpSpPr>
                <p:sp>
                  <p:nvSpPr>
                    <p:cNvPr id="441" name="Freeform 16"/>
                    <p:cNvSpPr/>
                    <p:nvPr/>
                  </p:nvSpPr>
                  <p:spPr>
                    <a:xfrm>
                      <a:off x="619200" y="1157400"/>
                      <a:ext cx="763200" cy="7570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42" name="Freeform 17"/>
                    <p:cNvSpPr/>
                    <p:nvPr/>
                  </p:nvSpPr>
                  <p:spPr>
                    <a:xfrm>
                      <a:off x="1458360" y="1969200"/>
                      <a:ext cx="758160" cy="8118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43" name="Freeform 18"/>
                    <p:cNvSpPr/>
                    <p:nvPr/>
                  </p:nvSpPr>
                  <p:spPr>
                    <a:xfrm>
                      <a:off x="770760" y="1313640"/>
                      <a:ext cx="762840" cy="7570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44" name="Freeform 19"/>
                    <p:cNvSpPr/>
                    <p:nvPr/>
                  </p:nvSpPr>
                  <p:spPr>
                    <a:xfrm>
                      <a:off x="952920" y="1486440"/>
                      <a:ext cx="763200" cy="7570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45" name="Freeform 20"/>
                    <p:cNvSpPr/>
                    <p:nvPr/>
                  </p:nvSpPr>
                  <p:spPr>
                    <a:xfrm>
                      <a:off x="1119960" y="1650960"/>
                      <a:ext cx="763200" cy="7570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46" name="Freeform 21"/>
                    <p:cNvSpPr/>
                    <p:nvPr/>
                  </p:nvSpPr>
                  <p:spPr>
                    <a:xfrm>
                      <a:off x="1287000" y="1815480"/>
                      <a:ext cx="762840" cy="7570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47" name="Group 22"/>
                    <p:cNvGrpSpPr/>
                    <p:nvPr/>
                  </p:nvGrpSpPr>
                  <p:grpSpPr>
                    <a:xfrm>
                      <a:off x="1582200" y="2100960"/>
                      <a:ext cx="513360" cy="570600"/>
                      <a:chOff x="1582200" y="2100960"/>
                      <a:chExt cx="513360" cy="570600"/>
                    </a:xfrm>
                  </p:grpSpPr>
                  <p:sp>
                    <p:nvSpPr>
                      <p:cNvPr id="448" name="Freeform 23"/>
                      <p:cNvSpPr/>
                      <p:nvPr/>
                    </p:nvSpPr>
                    <p:spPr>
                      <a:xfrm>
                        <a:off x="1722240" y="2100960"/>
                        <a:ext cx="373320" cy="7812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9" name="Freeform 24"/>
                      <p:cNvSpPr/>
                      <p:nvPr/>
                    </p:nvSpPr>
                    <p:spPr>
                      <a:xfrm>
                        <a:off x="1668960" y="2265480"/>
                        <a:ext cx="373320" cy="7776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0" name="Freeform 25"/>
                      <p:cNvSpPr/>
                      <p:nvPr/>
                    </p:nvSpPr>
                    <p:spPr>
                      <a:xfrm>
                        <a:off x="1709280" y="2170800"/>
                        <a:ext cx="373320" cy="7812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1" name="Freeform 26"/>
                      <p:cNvSpPr/>
                      <p:nvPr/>
                    </p:nvSpPr>
                    <p:spPr>
                      <a:xfrm>
                        <a:off x="1645200" y="2349720"/>
                        <a:ext cx="373320" cy="7812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2" name="Freeform 27"/>
                      <p:cNvSpPr/>
                      <p:nvPr/>
                    </p:nvSpPr>
                    <p:spPr>
                      <a:xfrm>
                        <a:off x="1625760" y="2428560"/>
                        <a:ext cx="373320" cy="7812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3" name="Freeform 28"/>
                      <p:cNvSpPr/>
                      <p:nvPr/>
                    </p:nvSpPr>
                    <p:spPr>
                      <a:xfrm>
                        <a:off x="1582200" y="2593440"/>
                        <a:ext cx="373320" cy="7812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4" name="Freeform 29"/>
                      <p:cNvSpPr/>
                      <p:nvPr/>
                    </p:nvSpPr>
                    <p:spPr>
                      <a:xfrm>
                        <a:off x="1592280" y="2507040"/>
                        <a:ext cx="373320" cy="7812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55" name="Group 30"/>
              <p:cNvGrpSpPr/>
              <p:nvPr/>
            </p:nvGrpSpPr>
            <p:grpSpPr>
              <a:xfrm>
                <a:off x="2281680" y="1188000"/>
                <a:ext cx="542160" cy="811080"/>
                <a:chOff x="2281680" y="1188000"/>
                <a:chExt cx="542160" cy="811080"/>
              </a:xfrm>
            </p:grpSpPr>
            <p:sp>
              <p:nvSpPr>
                <p:cNvPr id="456" name="Freeform 31"/>
                <p:cNvSpPr/>
                <p:nvPr/>
              </p:nvSpPr>
              <p:spPr>
                <a:xfrm>
                  <a:off x="2293200" y="1188000"/>
                  <a:ext cx="530640" cy="10116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7" name="Freeform 32"/>
                <p:cNvSpPr/>
                <p:nvPr/>
              </p:nvSpPr>
              <p:spPr>
                <a:xfrm>
                  <a:off x="2288520" y="1352160"/>
                  <a:ext cx="531000" cy="10116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8" name="Freeform 33"/>
                <p:cNvSpPr/>
                <p:nvPr/>
              </p:nvSpPr>
              <p:spPr>
                <a:xfrm>
                  <a:off x="2293200" y="1516680"/>
                  <a:ext cx="530640" cy="10116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9" name="Freeform 34"/>
                <p:cNvSpPr/>
                <p:nvPr/>
              </p:nvSpPr>
              <p:spPr>
                <a:xfrm>
                  <a:off x="2281680" y="1695240"/>
                  <a:ext cx="531000" cy="10116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0" name="Freeform 35"/>
                <p:cNvSpPr/>
                <p:nvPr/>
              </p:nvSpPr>
              <p:spPr>
                <a:xfrm>
                  <a:off x="2281680" y="1897920"/>
                  <a:ext cx="531000" cy="10116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1" name="Freeform 36"/>
                <p:cNvSpPr/>
                <p:nvPr/>
              </p:nvSpPr>
              <p:spPr>
                <a:xfrm>
                  <a:off x="2281680" y="1265760"/>
                  <a:ext cx="531000" cy="10116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2" name="Freeform 37"/>
                <p:cNvSpPr/>
                <p:nvPr/>
              </p:nvSpPr>
              <p:spPr>
                <a:xfrm>
                  <a:off x="2281680" y="1430640"/>
                  <a:ext cx="531000" cy="10116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3" name="Freeform 38"/>
                <p:cNvSpPr/>
                <p:nvPr/>
              </p:nvSpPr>
              <p:spPr>
                <a:xfrm>
                  <a:off x="2293200" y="1594800"/>
                  <a:ext cx="530640" cy="10116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4" name="Freeform 39"/>
                <p:cNvSpPr/>
                <p:nvPr/>
              </p:nvSpPr>
              <p:spPr>
                <a:xfrm>
                  <a:off x="2293200" y="1796400"/>
                  <a:ext cx="530640" cy="10116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5" name="Music"/>
            <p:cNvSpPr/>
            <p:nvPr/>
          </p:nvSpPr>
          <p:spPr>
            <a:xfrm>
              <a:off x="2064960" y="2273400"/>
              <a:ext cx="350640" cy="38376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41"/>
          <p:cNvSpPr/>
          <p:nvPr/>
        </p:nvSpPr>
        <p:spPr>
          <a:xfrm flipV="1">
            <a:off x="3454560" y="6181200"/>
            <a:ext cx="287280" cy="17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43"/>
          <p:cNvSpPr/>
          <p:nvPr/>
        </p:nvSpPr>
        <p:spPr>
          <a:xfrm>
            <a:off x="4932360" y="1413000"/>
            <a:ext cx="10461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Tahoma"/>
              </a:rPr>
              <a:t>Алгоритм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6600"/>
                </a:solidFill>
                <a:latin typeface="Tahoma"/>
              </a:rPr>
              <a:t>НСС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8" name="Object 44"/>
          <p:cNvGraphicFramePr/>
          <p:nvPr/>
        </p:nvGraphicFramePr>
        <p:xfrm>
          <a:off x="6156360" y="584280"/>
          <a:ext cx="2303280" cy="22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584280"/>
                    <a:ext cx="230328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Group 45"/>
          <p:cNvGrpSpPr/>
          <p:nvPr/>
        </p:nvGrpSpPr>
        <p:grpSpPr>
          <a:xfrm>
            <a:off x="900000" y="1125360"/>
            <a:ext cx="1655640" cy="936360"/>
            <a:chOff x="900000" y="1125360"/>
            <a:chExt cx="1655640" cy="936360"/>
          </a:xfrm>
        </p:grpSpPr>
        <p:pic>
          <p:nvPicPr>
            <p:cNvPr id="471" name="Picture 46" descr="j0234687"/>
            <p:cNvPicPr/>
            <p:nvPr/>
          </p:nvPicPr>
          <p:blipFill>
            <a:blip r:embed="rId3"/>
            <a:stretch/>
          </p:blipFill>
          <p:spPr>
            <a:xfrm>
              <a:off x="900000" y="1125360"/>
              <a:ext cx="112068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47" descr="j0285360"/>
            <p:cNvPicPr/>
            <p:nvPr/>
          </p:nvPicPr>
          <p:blipFill>
            <a:blip r:embed="rId4"/>
            <a:stretch/>
          </p:blipFill>
          <p:spPr>
            <a:xfrm>
              <a:off x="1995120" y="1375560"/>
              <a:ext cx="560520" cy="61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Rectangle 48"/>
          <p:cNvSpPr/>
          <p:nvPr/>
        </p:nvSpPr>
        <p:spPr>
          <a:xfrm>
            <a:off x="7667640" y="547560"/>
            <a:ext cx="7570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Tahoma"/>
              </a:rPr>
              <a:t>НСС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49"/>
          <p:cNvSpPr/>
          <p:nvPr/>
        </p:nvSpPr>
        <p:spPr>
          <a:xfrm flipV="1">
            <a:off x="5724360" y="6165360"/>
            <a:ext cx="432000" cy="17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52"/>
          <p:cNvSpPr/>
          <p:nvPr/>
        </p:nvSpPr>
        <p:spPr>
          <a:xfrm>
            <a:off x="500040" y="3429000"/>
            <a:ext cx="803124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  моделировании   предметных   областей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) специализированными  нейросетями (НСС)        было  обнаружено  явление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автоструктуризации</a:t>
            </a: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Оно  выражалось  в том,  что  структура  нейросети  приобретала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днозначное соответствие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ойство  гомоморфност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чинно-следственной  структуре  физических процессов произвольной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.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" name="Group 56"/>
          <p:cNvGrpSpPr/>
          <p:nvPr/>
        </p:nvGrpSpPr>
        <p:grpSpPr>
          <a:xfrm>
            <a:off x="3276720" y="2187720"/>
            <a:ext cx="2806560" cy="522720"/>
            <a:chOff x="3276720" y="2187720"/>
            <a:chExt cx="2806560" cy="522720"/>
          </a:xfrm>
        </p:grpSpPr>
        <p:sp>
          <p:nvSpPr>
            <p:cNvPr id="477" name="Rectangle 42"/>
            <p:cNvSpPr/>
            <p:nvPr/>
          </p:nvSpPr>
          <p:spPr>
            <a:xfrm>
              <a:off x="3492360" y="2187720"/>
              <a:ext cx="244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ahoma"/>
                </a:rPr>
                <a:t>1100101100100110100</a:t>
              </a:r>
              <a:endParaRPr b="1" i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Line 50"/>
            <p:cNvSpPr/>
            <p:nvPr/>
          </p:nvSpPr>
          <p:spPr>
            <a:xfrm flipV="1">
              <a:off x="3276720" y="2331720"/>
              <a:ext cx="287280" cy="16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Line 51"/>
            <p:cNvSpPr/>
            <p:nvPr/>
          </p:nvSpPr>
          <p:spPr>
            <a:xfrm flipV="1">
              <a:off x="5796000" y="2331720"/>
              <a:ext cx="287280" cy="16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Text Box 54"/>
            <p:cNvSpPr/>
            <p:nvPr/>
          </p:nvSpPr>
          <p:spPr>
            <a:xfrm>
              <a:off x="3780000" y="2403360"/>
              <a:ext cx="194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Текстовая  форма</a:t>
              </a:r>
              <a:endParaRPr b="1" i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1" name="Прямоугольник 49"/>
          <p:cNvSpPr/>
          <p:nvPr/>
        </p:nvSpPr>
        <p:spPr>
          <a:xfrm>
            <a:off x="6143760" y="571680"/>
            <a:ext cx="2323800" cy="2199960"/>
          </a:xfrm>
          <a:prstGeom prst="rect">
            <a:avLst/>
          </a:pr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Группа 187"/>
          <p:cNvGrpSpPr/>
          <p:nvPr/>
        </p:nvGrpSpPr>
        <p:grpSpPr>
          <a:xfrm>
            <a:off x="1763640" y="5446800"/>
            <a:ext cx="71640" cy="214200"/>
            <a:chOff x="1763640" y="5446800"/>
            <a:chExt cx="71640" cy="214200"/>
          </a:xfrm>
        </p:grpSpPr>
        <p:sp>
          <p:nvSpPr>
            <p:cNvPr id="483" name="Прямоугольник 183"/>
            <p:cNvSpPr/>
            <p:nvPr/>
          </p:nvSpPr>
          <p:spPr>
            <a:xfrm>
              <a:off x="1763640" y="5446800"/>
              <a:ext cx="71640" cy="71280"/>
            </a:xfrm>
            <a:prstGeom prst="rect">
              <a:avLst/>
            </a:prstGeom>
            <a:solidFill>
              <a:srgbClr val="c6c6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Прямоугольник 184"/>
            <p:cNvSpPr/>
            <p:nvPr/>
          </p:nvSpPr>
          <p:spPr>
            <a:xfrm>
              <a:off x="1763640" y="5589720"/>
              <a:ext cx="71640" cy="71280"/>
            </a:xfrm>
            <a:prstGeom prst="rect">
              <a:avLst/>
            </a:prstGeom>
            <a:solidFill>
              <a:srgbClr val="c6c6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Прямоугольник 185"/>
            <p:cNvSpPr/>
            <p:nvPr/>
          </p:nvSpPr>
          <p:spPr>
            <a:xfrm>
              <a:off x="1763640" y="5518080"/>
              <a:ext cx="7164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381636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Основные  определения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87" name="Group 140"/>
          <p:cNvGrpSpPr/>
          <p:nvPr/>
        </p:nvGrpSpPr>
        <p:grpSpPr>
          <a:xfrm>
            <a:off x="255600" y="404280"/>
            <a:ext cx="5036760" cy="2241720"/>
            <a:chOff x="255600" y="404280"/>
            <a:chExt cx="5036760" cy="2241720"/>
          </a:xfrm>
        </p:grpSpPr>
        <p:grpSp>
          <p:nvGrpSpPr>
            <p:cNvPr id="488" name="Group 139"/>
            <p:cNvGrpSpPr/>
            <p:nvPr/>
          </p:nvGrpSpPr>
          <p:grpSpPr>
            <a:xfrm>
              <a:off x="255600" y="404280"/>
              <a:ext cx="5036760" cy="2241720"/>
              <a:chOff x="255600" y="404280"/>
              <a:chExt cx="5036760" cy="2241720"/>
            </a:xfrm>
          </p:grpSpPr>
          <p:grpSp>
            <p:nvGrpSpPr>
              <p:cNvPr id="489" name="Group 44"/>
              <p:cNvGrpSpPr/>
              <p:nvPr/>
            </p:nvGrpSpPr>
            <p:grpSpPr>
              <a:xfrm>
                <a:off x="255600" y="404280"/>
                <a:ext cx="5036760" cy="2241720"/>
                <a:chOff x="255600" y="404280"/>
                <a:chExt cx="5036760" cy="2241720"/>
              </a:xfrm>
            </p:grpSpPr>
            <p:grpSp>
              <p:nvGrpSpPr>
                <p:cNvPr id="490" name="Group 39"/>
                <p:cNvGrpSpPr/>
                <p:nvPr/>
              </p:nvGrpSpPr>
              <p:grpSpPr>
                <a:xfrm>
                  <a:off x="255600" y="404280"/>
                  <a:ext cx="5036760" cy="2241720"/>
                  <a:chOff x="255600" y="404280"/>
                  <a:chExt cx="5036760" cy="2241720"/>
                </a:xfrm>
              </p:grpSpPr>
              <p:sp>
                <p:nvSpPr>
                  <p:cNvPr id="491" name="Text Box 5"/>
                  <p:cNvSpPr/>
                  <p:nvPr/>
                </p:nvSpPr>
                <p:spPr>
                  <a:xfrm>
                    <a:off x="743400" y="404640"/>
                    <a:ext cx="153684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ahoma"/>
                      </a:rPr>
                      <a:t>Предметная область</a:t>
                    </a:r>
                    <a:endParaRPr b="1" i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2" name="Line 8"/>
                  <p:cNvSpPr/>
                  <p:nvPr/>
                </p:nvSpPr>
                <p:spPr>
                  <a:xfrm flipV="1">
                    <a:off x="621360" y="404280"/>
                    <a:ext cx="0" cy="194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3" name="Line 9"/>
                  <p:cNvSpPr/>
                  <p:nvPr/>
                </p:nvSpPr>
                <p:spPr>
                  <a:xfrm>
                    <a:off x="621360" y="2349000"/>
                    <a:ext cx="467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4" name="Text Box 10"/>
                  <p:cNvSpPr/>
                  <p:nvPr/>
                </p:nvSpPr>
                <p:spPr>
                  <a:xfrm>
                    <a:off x="4924080" y="2277720"/>
                    <a:ext cx="368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5" name="Text Box 16"/>
                  <p:cNvSpPr/>
                  <p:nvPr/>
                </p:nvSpPr>
                <p:spPr>
                  <a:xfrm rot="16200000">
                    <a:off x="-442800" y="1247400"/>
                    <a:ext cx="1917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ahoma"/>
                      </a:rPr>
                      <a:t>Объекты - процессы </a:t>
                    </a:r>
                    <a:endParaRPr b="1" i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6" name="Group 43"/>
                <p:cNvGrpSpPr/>
                <p:nvPr/>
              </p:nvGrpSpPr>
              <p:grpSpPr>
                <a:xfrm>
                  <a:off x="683640" y="909360"/>
                  <a:ext cx="4486680" cy="1522440"/>
                  <a:chOff x="683640" y="909360"/>
                  <a:chExt cx="4486680" cy="1522440"/>
                </a:xfrm>
              </p:grpSpPr>
              <p:grpSp>
                <p:nvGrpSpPr>
                  <p:cNvPr id="497" name="Group 40"/>
                  <p:cNvGrpSpPr/>
                  <p:nvPr/>
                </p:nvGrpSpPr>
                <p:grpSpPr>
                  <a:xfrm>
                    <a:off x="930240" y="1972800"/>
                    <a:ext cx="3994560" cy="459000"/>
                    <a:chOff x="930240" y="1972800"/>
                    <a:chExt cx="3994560" cy="459000"/>
                  </a:xfrm>
                </p:grpSpPr>
                <p:sp>
                  <p:nvSpPr>
                    <p:cNvPr id="498" name="AutoShape 29"/>
                    <p:cNvSpPr/>
                    <p:nvPr/>
                  </p:nvSpPr>
                  <p:spPr>
                    <a:xfrm>
                      <a:off x="4125240" y="1988640"/>
                      <a:ext cx="799200" cy="287640"/>
                    </a:xfrm>
                    <a:prstGeom prst="wedgeRoundRectCallout">
                      <a:avLst>
                        <a:gd name="adj1" fmla="val -18643"/>
                        <a:gd name="adj2" fmla="val 47791"/>
                        <a:gd name="adj3" fmla="val 16667"/>
                      </a:avLst>
                    </a:prstGeom>
                    <a:solidFill>
                      <a:srgbClr val="99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9" name="AutoShape 35"/>
                    <p:cNvSpPr/>
                    <p:nvPr/>
                  </p:nvSpPr>
                  <p:spPr>
                    <a:xfrm>
                      <a:off x="3449160" y="1988640"/>
                      <a:ext cx="614880" cy="287640"/>
                    </a:xfrm>
                    <a:prstGeom prst="wedgeRoundRectCallout">
                      <a:avLst>
                        <a:gd name="adj1" fmla="val -9250"/>
                        <a:gd name="adj2" fmla="val 47791"/>
                        <a:gd name="adj3" fmla="val 16667"/>
                      </a:avLst>
                    </a:prstGeom>
                    <a:solidFill>
                      <a:srgbClr val="99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AutoShape 32"/>
                    <p:cNvSpPr/>
                    <p:nvPr/>
                  </p:nvSpPr>
                  <p:spPr>
                    <a:xfrm>
                      <a:off x="2811960" y="1988640"/>
                      <a:ext cx="614880" cy="287640"/>
                    </a:xfrm>
                    <a:prstGeom prst="wedgeRoundRectCallout">
                      <a:avLst>
                        <a:gd name="adj1" fmla="val -9250"/>
                        <a:gd name="adj2" fmla="val 47791"/>
                        <a:gd name="adj3" fmla="val 16667"/>
                      </a:avLst>
                    </a:prstGeom>
                    <a:solidFill>
                      <a:srgbClr val="99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1" name="AutoShape 33"/>
                    <p:cNvSpPr/>
                    <p:nvPr/>
                  </p:nvSpPr>
                  <p:spPr>
                    <a:xfrm>
                      <a:off x="2281320" y="1988640"/>
                      <a:ext cx="491400" cy="287640"/>
                    </a:xfrm>
                    <a:prstGeom prst="wedgeRoundRectCallout">
                      <a:avLst>
                        <a:gd name="adj1" fmla="val -11430"/>
                        <a:gd name="adj2" fmla="val 47791"/>
                        <a:gd name="adj3" fmla="val 16667"/>
                      </a:avLst>
                    </a:prstGeom>
                    <a:solidFill>
                      <a:srgbClr val="99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2" name="AutoShape 34"/>
                    <p:cNvSpPr/>
                    <p:nvPr/>
                  </p:nvSpPr>
                  <p:spPr>
                    <a:xfrm>
                      <a:off x="1622520" y="1988640"/>
                      <a:ext cx="614880" cy="287640"/>
                    </a:xfrm>
                    <a:prstGeom prst="wedgeRoundRectCallout">
                      <a:avLst>
                        <a:gd name="adj1" fmla="val -9250"/>
                        <a:gd name="adj2" fmla="val 47791"/>
                        <a:gd name="adj3" fmla="val 16667"/>
                      </a:avLst>
                    </a:prstGeom>
                    <a:solidFill>
                      <a:srgbClr val="99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AutoShape 31"/>
                    <p:cNvSpPr/>
                    <p:nvPr/>
                  </p:nvSpPr>
                  <p:spPr>
                    <a:xfrm>
                      <a:off x="991080" y="1990440"/>
                      <a:ext cx="614880" cy="287280"/>
                    </a:xfrm>
                    <a:prstGeom prst="wedgeRoundRectCallout">
                      <a:avLst>
                        <a:gd name="adj1" fmla="val -9250"/>
                        <a:gd name="adj2" fmla="val 47791"/>
                        <a:gd name="adj3" fmla="val 16667"/>
                      </a:avLst>
                    </a:prstGeom>
                    <a:solidFill>
                      <a:srgbClr val="99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4" name="Text Box 11"/>
                    <p:cNvSpPr/>
                    <p:nvPr/>
                  </p:nvSpPr>
                  <p:spPr>
                    <a:xfrm>
                      <a:off x="930240" y="1972800"/>
                      <a:ext cx="3994560" cy="459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варка  кипяток  сахар   кипяток порошок   газе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5" name="Group 41"/>
                  <p:cNvGrpSpPr/>
                  <p:nvPr/>
                </p:nvGrpSpPr>
                <p:grpSpPr>
                  <a:xfrm>
                    <a:off x="991080" y="1628280"/>
                    <a:ext cx="3502440" cy="489600"/>
                    <a:chOff x="991080" y="1628280"/>
                    <a:chExt cx="3502440" cy="489600"/>
                  </a:xfrm>
                </p:grpSpPr>
                <p:sp>
                  <p:nvSpPr>
                    <p:cNvPr id="506" name="AutoShape 27"/>
                    <p:cNvSpPr/>
                    <p:nvPr/>
                  </p:nvSpPr>
                  <p:spPr>
                    <a:xfrm>
                      <a:off x="2772720" y="1628280"/>
                      <a:ext cx="1291320" cy="287640"/>
                    </a:xfrm>
                    <a:prstGeom prst="wedgeRoundRectCallout">
                      <a:avLst>
                        <a:gd name="adj1" fmla="val -30587"/>
                        <a:gd name="adj2" fmla="val 47791"/>
                        <a:gd name="adj3" fmla="val 16667"/>
                      </a:avLst>
                    </a:prstGeom>
                    <a:solidFill>
                      <a:srgbClr val="00f4b4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7" name="AutoShape 24"/>
                    <p:cNvSpPr/>
                    <p:nvPr/>
                  </p:nvSpPr>
                  <p:spPr>
                    <a:xfrm>
                      <a:off x="991080" y="1628280"/>
                      <a:ext cx="1720800" cy="287640"/>
                    </a:xfrm>
                    <a:prstGeom prst="wedgeRoundRectCallout">
                      <a:avLst>
                        <a:gd name="adj1" fmla="val -35435"/>
                        <a:gd name="adj2" fmla="val 47791"/>
                        <a:gd name="adj3" fmla="val 16667"/>
                      </a:avLst>
                    </a:prstGeom>
                    <a:solidFill>
                      <a:srgbClr val="00f4b4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8" name="Text Box 17"/>
                    <p:cNvSpPr/>
                    <p:nvPr/>
                  </p:nvSpPr>
                  <p:spPr>
                    <a:xfrm>
                      <a:off x="991080" y="1628280"/>
                      <a:ext cx="1597680" cy="48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готовление ча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Text Box 18"/>
                    <p:cNvSpPr/>
                    <p:nvPr/>
                  </p:nvSpPr>
                  <p:spPr>
                    <a:xfrm>
                      <a:off x="2711880" y="1628280"/>
                      <a:ext cx="17816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готовл. коф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0" name="Group 42"/>
                  <p:cNvGrpSpPr/>
                  <p:nvPr/>
                </p:nvGrpSpPr>
                <p:grpSpPr>
                  <a:xfrm>
                    <a:off x="683640" y="909360"/>
                    <a:ext cx="4486680" cy="667440"/>
                    <a:chOff x="683640" y="909360"/>
                    <a:chExt cx="4486680" cy="667440"/>
                  </a:xfrm>
                </p:grpSpPr>
                <p:sp>
                  <p:nvSpPr>
                    <p:cNvPr id="511" name="AutoShape 25"/>
                    <p:cNvSpPr/>
                    <p:nvPr/>
                  </p:nvSpPr>
                  <p:spPr>
                    <a:xfrm>
                      <a:off x="991080" y="1269720"/>
                      <a:ext cx="3811680" cy="287280"/>
                    </a:xfrm>
                    <a:prstGeom prst="wedgeRoundRectCallout">
                      <a:avLst>
                        <a:gd name="adj1" fmla="val -36990"/>
                        <a:gd name="adj2" fmla="val 47791"/>
                        <a:gd name="adj3" fmla="val 16667"/>
                      </a:avLst>
                    </a:prstGeom>
                    <a:solidFill>
                      <a:srgbClr val="00f4b4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Text Box 20"/>
                    <p:cNvSpPr/>
                    <p:nvPr/>
                  </p:nvSpPr>
                  <p:spPr>
                    <a:xfrm>
                      <a:off x="2220120" y="1269720"/>
                      <a:ext cx="9212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втра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3" name="AutoShape 36"/>
                    <p:cNvSpPr/>
                    <p:nvPr/>
                  </p:nvSpPr>
                  <p:spPr>
                    <a:xfrm>
                      <a:off x="683640" y="909360"/>
                      <a:ext cx="4486680" cy="287280"/>
                    </a:xfrm>
                    <a:prstGeom prst="wedgeRoundRectCallout">
                      <a:avLst>
                        <a:gd name="adj1" fmla="val -38944"/>
                        <a:gd name="adj2" fmla="val 47791"/>
                        <a:gd name="adj3" fmla="val 16667"/>
                      </a:avLst>
                    </a:prstGeom>
                    <a:solidFill>
                      <a:srgbClr val="00f4b4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4" name="Text Box 38"/>
                    <p:cNvSpPr/>
                    <p:nvPr/>
                  </p:nvSpPr>
                  <p:spPr>
                    <a:xfrm>
                      <a:off x="1728360" y="909360"/>
                      <a:ext cx="26438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нь 29  ноября  2007 год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515" name="AutoShape 62"/>
              <p:cNvSpPr/>
              <p:nvPr/>
            </p:nvSpPr>
            <p:spPr>
              <a:xfrm>
                <a:off x="4140360" y="1628640"/>
                <a:ext cx="1150920" cy="287280"/>
              </a:xfrm>
              <a:prstGeom prst="wedgeRoundRectCallout">
                <a:avLst>
                  <a:gd name="adj1" fmla="val -24481"/>
                  <a:gd name="adj2" fmla="val 47791"/>
                  <a:gd name="adj3" fmla="val 16667"/>
                </a:avLst>
              </a:prstGeom>
              <a:solidFill>
                <a:srgbClr val="00f4b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" name="Text Box 65"/>
            <p:cNvSpPr/>
            <p:nvPr/>
          </p:nvSpPr>
          <p:spPr>
            <a:xfrm>
              <a:off x="4211640" y="162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Чтение 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" name="Group 133"/>
          <p:cNvGrpSpPr/>
          <p:nvPr/>
        </p:nvGrpSpPr>
        <p:grpSpPr>
          <a:xfrm>
            <a:off x="6156360" y="907920"/>
            <a:ext cx="2797920" cy="1551240"/>
            <a:chOff x="6156360" y="907920"/>
            <a:chExt cx="2797920" cy="1551240"/>
          </a:xfrm>
        </p:grpSpPr>
        <p:grpSp>
          <p:nvGrpSpPr>
            <p:cNvPr id="518" name="Group 131"/>
            <p:cNvGrpSpPr/>
            <p:nvPr/>
          </p:nvGrpSpPr>
          <p:grpSpPr>
            <a:xfrm>
              <a:off x="6156360" y="907920"/>
              <a:ext cx="2797920" cy="1551240"/>
              <a:chOff x="6156360" y="907920"/>
              <a:chExt cx="2797920" cy="1551240"/>
            </a:xfrm>
          </p:grpSpPr>
          <p:grpSp>
            <p:nvGrpSpPr>
              <p:cNvPr id="519" name="Group 96"/>
              <p:cNvGrpSpPr/>
              <p:nvPr/>
            </p:nvGrpSpPr>
            <p:grpSpPr>
              <a:xfrm>
                <a:off x="6229080" y="2060640"/>
                <a:ext cx="2725200" cy="398520"/>
                <a:chOff x="6229080" y="2060640"/>
                <a:chExt cx="2725200" cy="398520"/>
              </a:xfrm>
            </p:grpSpPr>
            <p:grpSp>
              <p:nvGrpSpPr>
                <p:cNvPr id="520" name="Group 83"/>
                <p:cNvGrpSpPr/>
                <p:nvPr/>
              </p:nvGrpSpPr>
              <p:grpSpPr>
                <a:xfrm>
                  <a:off x="6229080" y="2060640"/>
                  <a:ext cx="720360" cy="246240"/>
                  <a:chOff x="6229080" y="2060640"/>
                  <a:chExt cx="720360" cy="246240"/>
                </a:xfrm>
              </p:grpSpPr>
              <p:sp>
                <p:nvSpPr>
                  <p:cNvPr id="521" name="AutoShape 59"/>
                  <p:cNvSpPr/>
                  <p:nvPr/>
                </p:nvSpPr>
                <p:spPr>
                  <a:xfrm>
                    <a:off x="6301800" y="2060640"/>
                    <a:ext cx="502920" cy="215640"/>
                  </a:xfrm>
                  <a:prstGeom prst="wedgeRoundRectCallout">
                    <a:avLst>
                      <a:gd name="adj1" fmla="val 8361"/>
                      <a:gd name="adj2" fmla="val 47060"/>
                      <a:gd name="adj3" fmla="val 16667"/>
                    </a:avLst>
                  </a:prstGeom>
                  <a:solidFill>
                    <a:srgbClr val="99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2" name="Text Box 72"/>
                  <p:cNvSpPr/>
                  <p:nvPr/>
                </p:nvSpPr>
                <p:spPr>
                  <a:xfrm>
                    <a:off x="6229080" y="2060640"/>
                    <a:ext cx="7203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заварка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23" name="Group 84"/>
                <p:cNvGrpSpPr/>
                <p:nvPr/>
              </p:nvGrpSpPr>
              <p:grpSpPr>
                <a:xfrm>
                  <a:off x="7381440" y="2060640"/>
                  <a:ext cx="575640" cy="246240"/>
                  <a:chOff x="7381440" y="2060640"/>
                  <a:chExt cx="575640" cy="246240"/>
                </a:xfrm>
              </p:grpSpPr>
              <p:sp>
                <p:nvSpPr>
                  <p:cNvPr id="524" name="AutoShape 85"/>
                  <p:cNvSpPr/>
                  <p:nvPr/>
                </p:nvSpPr>
                <p:spPr>
                  <a:xfrm>
                    <a:off x="7439760" y="2060640"/>
                    <a:ext cx="401760" cy="215640"/>
                  </a:xfrm>
                  <a:prstGeom prst="wedgeRoundRectCallout">
                    <a:avLst>
                      <a:gd name="adj1" fmla="val 8361"/>
                      <a:gd name="adj2" fmla="val 47060"/>
                      <a:gd name="adj3" fmla="val 16667"/>
                    </a:avLst>
                  </a:prstGeom>
                  <a:solidFill>
                    <a:srgbClr val="99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5" name="Text Box 86"/>
                  <p:cNvSpPr/>
                  <p:nvPr/>
                </p:nvSpPr>
                <p:spPr>
                  <a:xfrm>
                    <a:off x="7381440" y="2060640"/>
                    <a:ext cx="5756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сахар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26" name="Group 87"/>
                <p:cNvGrpSpPr/>
                <p:nvPr/>
              </p:nvGrpSpPr>
              <p:grpSpPr>
                <a:xfrm>
                  <a:off x="7813080" y="2060640"/>
                  <a:ext cx="720360" cy="398520"/>
                  <a:chOff x="7813080" y="2060640"/>
                  <a:chExt cx="720360" cy="398520"/>
                </a:xfrm>
              </p:grpSpPr>
              <p:sp>
                <p:nvSpPr>
                  <p:cNvPr id="527" name="AutoShape 88"/>
                  <p:cNvSpPr/>
                  <p:nvPr/>
                </p:nvSpPr>
                <p:spPr>
                  <a:xfrm>
                    <a:off x="7885800" y="2060640"/>
                    <a:ext cx="502920" cy="215640"/>
                  </a:xfrm>
                  <a:prstGeom prst="wedgeRoundRectCallout">
                    <a:avLst>
                      <a:gd name="adj1" fmla="val 8361"/>
                      <a:gd name="adj2" fmla="val 47060"/>
                      <a:gd name="adj3" fmla="val 16667"/>
                    </a:avLst>
                  </a:prstGeom>
                  <a:solidFill>
                    <a:srgbClr val="99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8" name="Text Box 89"/>
                  <p:cNvSpPr/>
                  <p:nvPr/>
                </p:nvSpPr>
                <p:spPr>
                  <a:xfrm>
                    <a:off x="7813080" y="2060640"/>
                    <a:ext cx="7203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порошок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29" name="Group 90"/>
                <p:cNvGrpSpPr/>
                <p:nvPr/>
              </p:nvGrpSpPr>
              <p:grpSpPr>
                <a:xfrm>
                  <a:off x="8389440" y="2060640"/>
                  <a:ext cx="564840" cy="398520"/>
                  <a:chOff x="8389440" y="2060640"/>
                  <a:chExt cx="564840" cy="398520"/>
                </a:xfrm>
              </p:grpSpPr>
              <p:sp>
                <p:nvSpPr>
                  <p:cNvPr id="530" name="AutoShape 91"/>
                  <p:cNvSpPr/>
                  <p:nvPr/>
                </p:nvSpPr>
                <p:spPr>
                  <a:xfrm>
                    <a:off x="8446680" y="2060640"/>
                    <a:ext cx="394200" cy="215640"/>
                  </a:xfrm>
                  <a:prstGeom prst="wedgeRoundRectCallout">
                    <a:avLst>
                      <a:gd name="adj1" fmla="val 8361"/>
                      <a:gd name="adj2" fmla="val 47060"/>
                      <a:gd name="adj3" fmla="val 16667"/>
                    </a:avLst>
                  </a:prstGeom>
                  <a:solidFill>
                    <a:srgbClr val="99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1" name="Text Box 92"/>
                  <p:cNvSpPr/>
                  <p:nvPr/>
                </p:nvSpPr>
                <p:spPr>
                  <a:xfrm>
                    <a:off x="8389440" y="2060640"/>
                    <a:ext cx="5648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газета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32" name="Group 93"/>
                <p:cNvGrpSpPr/>
                <p:nvPr/>
              </p:nvGrpSpPr>
              <p:grpSpPr>
                <a:xfrm>
                  <a:off x="6805080" y="2060640"/>
                  <a:ext cx="720360" cy="246240"/>
                  <a:chOff x="6805080" y="2060640"/>
                  <a:chExt cx="720360" cy="246240"/>
                </a:xfrm>
              </p:grpSpPr>
              <p:sp>
                <p:nvSpPr>
                  <p:cNvPr id="533" name="AutoShape 94"/>
                  <p:cNvSpPr/>
                  <p:nvPr/>
                </p:nvSpPr>
                <p:spPr>
                  <a:xfrm>
                    <a:off x="6877800" y="2060640"/>
                    <a:ext cx="502920" cy="215640"/>
                  </a:xfrm>
                  <a:prstGeom prst="wedgeRoundRectCallout">
                    <a:avLst>
                      <a:gd name="adj1" fmla="val 8361"/>
                      <a:gd name="adj2" fmla="val 47060"/>
                      <a:gd name="adj3" fmla="val 16667"/>
                    </a:avLst>
                  </a:prstGeom>
                  <a:solidFill>
                    <a:srgbClr val="99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4" name="Text Box 95"/>
                  <p:cNvSpPr/>
                  <p:nvPr/>
                </p:nvSpPr>
                <p:spPr>
                  <a:xfrm>
                    <a:off x="6805080" y="2060640"/>
                    <a:ext cx="7203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кипяток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535" name="Group 109"/>
              <p:cNvGrpSpPr/>
              <p:nvPr/>
            </p:nvGrpSpPr>
            <p:grpSpPr>
              <a:xfrm>
                <a:off x="6156360" y="1628640"/>
                <a:ext cx="2593440" cy="253800"/>
                <a:chOff x="6156360" y="1628640"/>
                <a:chExt cx="2593440" cy="253800"/>
              </a:xfrm>
            </p:grpSpPr>
            <p:grpSp>
              <p:nvGrpSpPr>
                <p:cNvPr id="536" name="Group 97"/>
                <p:cNvGrpSpPr/>
                <p:nvPr/>
              </p:nvGrpSpPr>
              <p:grpSpPr>
                <a:xfrm>
                  <a:off x="6156360" y="1628640"/>
                  <a:ext cx="1009080" cy="253800"/>
                  <a:chOff x="6156360" y="1628640"/>
                  <a:chExt cx="1009080" cy="253800"/>
                </a:xfrm>
              </p:grpSpPr>
              <p:sp>
                <p:nvSpPr>
                  <p:cNvPr id="537" name="AutoShape 98"/>
                  <p:cNvSpPr/>
                  <p:nvPr/>
                </p:nvSpPr>
                <p:spPr>
                  <a:xfrm>
                    <a:off x="6258600" y="1628640"/>
                    <a:ext cx="704520" cy="253800"/>
                  </a:xfrm>
                  <a:prstGeom prst="wedgeRoundRectCallout">
                    <a:avLst>
                      <a:gd name="adj1" fmla="val 8361"/>
                      <a:gd name="adj2" fmla="val 47060"/>
                      <a:gd name="adj3" fmla="val 16667"/>
                    </a:avLst>
                  </a:prstGeom>
                  <a:solidFill>
                    <a:srgbClr val="99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8" name="Text Box 99"/>
                  <p:cNvSpPr/>
                  <p:nvPr/>
                </p:nvSpPr>
                <p:spPr>
                  <a:xfrm>
                    <a:off x="6156360" y="1628640"/>
                    <a:ext cx="1009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  </a:t>
                    </a:r>
                    <a:r>
                      <a:rPr b="0" lang="ru-RU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Приг. чая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39" name="Group 103"/>
                <p:cNvGrpSpPr/>
                <p:nvPr/>
              </p:nvGrpSpPr>
              <p:grpSpPr>
                <a:xfrm>
                  <a:off x="7019640" y="1628640"/>
                  <a:ext cx="1009440" cy="253800"/>
                  <a:chOff x="7019640" y="1628640"/>
                  <a:chExt cx="1009440" cy="253800"/>
                </a:xfrm>
              </p:grpSpPr>
              <p:sp>
                <p:nvSpPr>
                  <p:cNvPr id="540" name="AutoShape 104"/>
                  <p:cNvSpPr/>
                  <p:nvPr/>
                </p:nvSpPr>
                <p:spPr>
                  <a:xfrm>
                    <a:off x="7121880" y="1628640"/>
                    <a:ext cx="704880" cy="253800"/>
                  </a:xfrm>
                  <a:prstGeom prst="wedgeRoundRectCallout">
                    <a:avLst>
                      <a:gd name="adj1" fmla="val 8361"/>
                      <a:gd name="adj2" fmla="val 47060"/>
                      <a:gd name="adj3" fmla="val 16667"/>
                    </a:avLst>
                  </a:prstGeom>
                  <a:solidFill>
                    <a:srgbClr val="99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1" name="Text Box 105"/>
                  <p:cNvSpPr/>
                  <p:nvPr/>
                </p:nvSpPr>
                <p:spPr>
                  <a:xfrm>
                    <a:off x="7019640" y="1628640"/>
                    <a:ext cx="10094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500" spc="-1" strike="noStrike">
                        <a:solidFill>
                          <a:srgbClr val="000000"/>
                        </a:solidFill>
                        <a:latin typeface="Tahoma"/>
                      </a:rPr>
                      <a:t> </a:t>
                    </a:r>
                    <a:r>
                      <a:rPr b="0" lang="ru-RU" sz="700" spc="-1" strike="noStrike">
                        <a:solidFill>
                          <a:srgbClr val="000000"/>
                        </a:solidFill>
                        <a:latin typeface="Tahoma"/>
                      </a:rPr>
                      <a:t> </a:t>
                    </a:r>
                    <a:r>
                      <a:rPr b="0" lang="ru-RU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Приг. кофе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2" name="Group 106"/>
                <p:cNvGrpSpPr/>
                <p:nvPr/>
              </p:nvGrpSpPr>
              <p:grpSpPr>
                <a:xfrm>
                  <a:off x="7886520" y="1628640"/>
                  <a:ext cx="863280" cy="246240"/>
                  <a:chOff x="7886520" y="1628640"/>
                  <a:chExt cx="863280" cy="246240"/>
                </a:xfrm>
              </p:grpSpPr>
              <p:sp>
                <p:nvSpPr>
                  <p:cNvPr id="543" name="AutoShape 107"/>
                  <p:cNvSpPr/>
                  <p:nvPr/>
                </p:nvSpPr>
                <p:spPr>
                  <a:xfrm>
                    <a:off x="7974000" y="1628640"/>
                    <a:ext cx="603000" cy="242280"/>
                  </a:xfrm>
                  <a:prstGeom prst="wedgeRoundRectCallout">
                    <a:avLst>
                      <a:gd name="adj1" fmla="val 8361"/>
                      <a:gd name="adj2" fmla="val 47060"/>
                      <a:gd name="adj3" fmla="val 16667"/>
                    </a:avLst>
                  </a:prstGeom>
                  <a:solidFill>
                    <a:srgbClr val="99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4" name="Text Box 108"/>
                  <p:cNvSpPr/>
                  <p:nvPr/>
                </p:nvSpPr>
                <p:spPr>
                  <a:xfrm>
                    <a:off x="7886520" y="1628640"/>
                    <a:ext cx="863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500" spc="-1" strike="noStrike">
                        <a:solidFill>
                          <a:srgbClr val="000000"/>
                        </a:solidFill>
                        <a:latin typeface="Tahoma"/>
                      </a:rPr>
                      <a:t>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Tahoma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Чтение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545" name="Group 110"/>
              <p:cNvGrpSpPr/>
              <p:nvPr/>
            </p:nvGrpSpPr>
            <p:grpSpPr>
              <a:xfrm>
                <a:off x="6156360" y="1268280"/>
                <a:ext cx="1009080" cy="253800"/>
                <a:chOff x="6156360" y="1268280"/>
                <a:chExt cx="1009080" cy="253800"/>
              </a:xfrm>
            </p:grpSpPr>
            <p:sp>
              <p:nvSpPr>
                <p:cNvPr id="546" name="AutoShape 111"/>
                <p:cNvSpPr/>
                <p:nvPr/>
              </p:nvSpPr>
              <p:spPr>
                <a:xfrm>
                  <a:off x="6258600" y="1268280"/>
                  <a:ext cx="704520" cy="253800"/>
                </a:xfrm>
                <a:prstGeom prst="wedgeRoundRectCallout">
                  <a:avLst>
                    <a:gd name="adj1" fmla="val 8361"/>
                    <a:gd name="adj2" fmla="val 47060"/>
                    <a:gd name="adj3" fmla="val 16667"/>
                  </a:avLst>
                </a:prstGeom>
                <a:solidFill>
                  <a:srgbClr val="99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7" name="Text Box 112"/>
                <p:cNvSpPr/>
                <p:nvPr/>
              </p:nvSpPr>
              <p:spPr>
                <a:xfrm>
                  <a:off x="6156360" y="1268280"/>
                  <a:ext cx="1009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Завтрак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8" name="Group 113"/>
              <p:cNvGrpSpPr/>
              <p:nvPr/>
            </p:nvGrpSpPr>
            <p:grpSpPr>
              <a:xfrm>
                <a:off x="6156360" y="907920"/>
                <a:ext cx="1009080" cy="253800"/>
                <a:chOff x="6156360" y="907920"/>
                <a:chExt cx="1009080" cy="253800"/>
              </a:xfrm>
            </p:grpSpPr>
            <p:sp>
              <p:nvSpPr>
                <p:cNvPr id="549" name="AutoShape 114"/>
                <p:cNvSpPr/>
                <p:nvPr/>
              </p:nvSpPr>
              <p:spPr>
                <a:xfrm>
                  <a:off x="6258600" y="907920"/>
                  <a:ext cx="704520" cy="253800"/>
                </a:xfrm>
                <a:prstGeom prst="wedgeRoundRectCallout">
                  <a:avLst>
                    <a:gd name="adj1" fmla="val 8361"/>
                    <a:gd name="adj2" fmla="val 47060"/>
                    <a:gd name="adj3" fmla="val 16667"/>
                  </a:avLst>
                </a:prstGeom>
                <a:solidFill>
                  <a:srgbClr val="99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0" name="Text Box 115"/>
                <p:cNvSpPr/>
                <p:nvPr/>
              </p:nvSpPr>
              <p:spPr>
                <a:xfrm>
                  <a:off x="6156360" y="907920"/>
                  <a:ext cx="1009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29.11.07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1" name="Group 124"/>
              <p:cNvGrpSpPr/>
              <p:nvPr/>
            </p:nvGrpSpPr>
            <p:grpSpPr>
              <a:xfrm>
                <a:off x="7019640" y="1268280"/>
                <a:ext cx="1009080" cy="253800"/>
                <a:chOff x="7019640" y="1268280"/>
                <a:chExt cx="1009080" cy="253800"/>
              </a:xfrm>
            </p:grpSpPr>
            <p:sp>
              <p:nvSpPr>
                <p:cNvPr id="552" name="AutoShape 125"/>
                <p:cNvSpPr/>
                <p:nvPr/>
              </p:nvSpPr>
              <p:spPr>
                <a:xfrm>
                  <a:off x="7121880" y="1268280"/>
                  <a:ext cx="704520" cy="253800"/>
                </a:xfrm>
                <a:prstGeom prst="wedgeRoundRectCallout">
                  <a:avLst>
                    <a:gd name="adj1" fmla="val 8361"/>
                    <a:gd name="adj2" fmla="val 47060"/>
                    <a:gd name="adj3" fmla="val 16667"/>
                  </a:avLst>
                </a:prstGeom>
                <a:solidFill>
                  <a:srgbClr val="99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3" name="Text Box 126"/>
                <p:cNvSpPr/>
                <p:nvPr/>
              </p:nvSpPr>
              <p:spPr>
                <a:xfrm>
                  <a:off x="7019640" y="1268280"/>
                  <a:ext cx="1009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   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Чтение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54" name="Group 132"/>
            <p:cNvGrpSpPr/>
            <p:nvPr/>
          </p:nvGrpSpPr>
          <p:grpSpPr>
            <a:xfrm>
              <a:off x="6366960" y="1158840"/>
              <a:ext cx="2309040" cy="906480"/>
              <a:chOff x="6366960" y="1158840"/>
              <a:chExt cx="2309040" cy="906480"/>
            </a:xfrm>
          </p:grpSpPr>
          <p:sp>
            <p:nvSpPr>
              <p:cNvPr id="555" name="Line 116"/>
              <p:cNvSpPr/>
              <p:nvPr/>
            </p:nvSpPr>
            <p:spPr>
              <a:xfrm flipH="1" flipV="1">
                <a:off x="6366960" y="1887480"/>
                <a:ext cx="185400" cy="177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Line 117"/>
              <p:cNvSpPr/>
              <p:nvPr/>
            </p:nvSpPr>
            <p:spPr>
              <a:xfrm flipH="1" flipV="1">
                <a:off x="6611040" y="1887120"/>
                <a:ext cx="480600" cy="17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Line 118"/>
              <p:cNvSpPr/>
              <p:nvPr/>
            </p:nvSpPr>
            <p:spPr>
              <a:xfrm flipH="1" flipV="1">
                <a:off x="6904800" y="1876320"/>
                <a:ext cx="690120" cy="18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Line 119"/>
              <p:cNvSpPr/>
              <p:nvPr/>
            </p:nvSpPr>
            <p:spPr>
              <a:xfrm flipV="1">
                <a:off x="7081200" y="1875960"/>
                <a:ext cx="280800" cy="18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Line 120"/>
              <p:cNvSpPr/>
              <p:nvPr/>
            </p:nvSpPr>
            <p:spPr>
              <a:xfrm flipH="1" flipV="1">
                <a:off x="7623720" y="1881000"/>
                <a:ext cx="518760" cy="17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Line 121"/>
              <p:cNvSpPr/>
              <p:nvPr/>
            </p:nvSpPr>
            <p:spPr>
              <a:xfrm flipH="1" flipV="1">
                <a:off x="8281080" y="1876320"/>
                <a:ext cx="394920" cy="18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22"/>
              <p:cNvSpPr/>
              <p:nvPr/>
            </p:nvSpPr>
            <p:spPr>
              <a:xfrm flipH="1" flipV="1">
                <a:off x="6467040" y="1523520"/>
                <a:ext cx="12024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2" name="Line 123"/>
              <p:cNvSpPr/>
              <p:nvPr/>
            </p:nvSpPr>
            <p:spPr>
              <a:xfrm flipH="1" flipV="1">
                <a:off x="6757560" y="1523520"/>
                <a:ext cx="69480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" name="Line 127"/>
              <p:cNvSpPr/>
              <p:nvPr/>
            </p:nvSpPr>
            <p:spPr>
              <a:xfrm flipH="1" flipV="1">
                <a:off x="7485840" y="1514160"/>
                <a:ext cx="75852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Line 128"/>
              <p:cNvSpPr/>
              <p:nvPr/>
            </p:nvSpPr>
            <p:spPr>
              <a:xfrm>
                <a:off x="6406560" y="1158840"/>
                <a:ext cx="182160" cy="10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Line 129"/>
              <p:cNvSpPr/>
              <p:nvPr/>
            </p:nvSpPr>
            <p:spPr>
              <a:xfrm flipH="1" flipV="1">
                <a:off x="6542640" y="1161720"/>
                <a:ext cx="928440" cy="9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" name="Line 130"/>
              <p:cNvSpPr/>
              <p:nvPr/>
            </p:nvSpPr>
            <p:spPr>
              <a:xfrm>
                <a:off x="6828840" y="1163520"/>
                <a:ext cx="1447560" cy="10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67" name="Line 134"/>
          <p:cNvSpPr/>
          <p:nvPr/>
        </p:nvSpPr>
        <p:spPr>
          <a:xfrm>
            <a:off x="5508720" y="177336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135"/>
          <p:cNvSpPr/>
          <p:nvPr/>
        </p:nvSpPr>
        <p:spPr>
          <a:xfrm>
            <a:off x="2543040" y="2637000"/>
            <a:ext cx="58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ъекты  и  процессы  ПО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в вершины графа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 Box 136"/>
          <p:cNvSpPr/>
          <p:nvPr/>
        </p:nvSpPr>
        <p:spPr>
          <a:xfrm>
            <a:off x="900000" y="2924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ременная последовательность процессов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в порядок вхождения дуг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Text Box 137"/>
          <p:cNvSpPr/>
          <p:nvPr/>
        </p:nvSpPr>
        <p:spPr>
          <a:xfrm>
            <a:off x="755640" y="3645000"/>
            <a:ext cx="838836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СС – однозначное отображение причинно-следственных процессов ПО      в вершины и дуги многодольного иерархического графа.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рафовая гомоморфность – однозначное отображение вершин графа информационной модели ПО в вершины НСС, а дуг модели ПО – в дуги НСС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Text Box 138"/>
          <p:cNvSpPr/>
          <p:nvPr/>
        </p:nvSpPr>
        <p:spPr>
          <a:xfrm>
            <a:off x="5003640" y="1341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1010110111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142"/>
          <p:cNvSpPr/>
          <p:nvPr/>
        </p:nvSpPr>
        <p:spPr>
          <a:xfrm>
            <a:off x="7308720" y="54936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НСС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3" name="Group 216"/>
          <p:cNvGrpSpPr/>
          <p:nvPr/>
        </p:nvGrpSpPr>
        <p:grpSpPr>
          <a:xfrm>
            <a:off x="3125520" y="5157360"/>
            <a:ext cx="1495800" cy="1261080"/>
            <a:chOff x="3125520" y="5157360"/>
            <a:chExt cx="1495800" cy="1261080"/>
          </a:xfrm>
        </p:grpSpPr>
        <p:sp>
          <p:nvSpPr>
            <p:cNvPr id="574" name="Freeform 188"/>
            <p:cNvSpPr/>
            <p:nvPr/>
          </p:nvSpPr>
          <p:spPr>
            <a:xfrm flipV="1">
              <a:off x="3276360" y="5157000"/>
              <a:ext cx="792360" cy="6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Freeform 187"/>
            <p:cNvSpPr/>
            <p:nvPr/>
          </p:nvSpPr>
          <p:spPr>
            <a:xfrm>
              <a:off x="3205080" y="5817960"/>
              <a:ext cx="792000" cy="130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6" name="Group 184"/>
            <p:cNvGrpSpPr/>
            <p:nvPr/>
          </p:nvGrpSpPr>
          <p:grpSpPr>
            <a:xfrm>
              <a:off x="3125520" y="5182560"/>
              <a:ext cx="1495800" cy="1235880"/>
              <a:chOff x="3125520" y="5182560"/>
              <a:chExt cx="1495800" cy="1235880"/>
            </a:xfrm>
          </p:grpSpPr>
          <p:sp>
            <p:nvSpPr>
              <p:cNvPr id="577" name="Freeform 178"/>
              <p:cNvSpPr/>
              <p:nvPr/>
            </p:nvSpPr>
            <p:spPr>
              <a:xfrm rot="21111600">
                <a:off x="3220920" y="5293440"/>
                <a:ext cx="1279440" cy="988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8" name="Group 177"/>
              <p:cNvGrpSpPr/>
              <p:nvPr/>
            </p:nvGrpSpPr>
            <p:grpSpPr>
              <a:xfrm>
                <a:off x="3125520" y="5182560"/>
                <a:ext cx="1495800" cy="1235880"/>
                <a:chOff x="3125520" y="5182560"/>
                <a:chExt cx="1495800" cy="1235880"/>
              </a:xfrm>
            </p:grpSpPr>
            <p:sp>
              <p:nvSpPr>
                <p:cNvPr id="579" name="Oval 163"/>
                <p:cNvSpPr/>
                <p:nvPr/>
              </p:nvSpPr>
              <p:spPr>
                <a:xfrm rot="21111600">
                  <a:off x="3133800" y="5782680"/>
                  <a:ext cx="142920" cy="13068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0" name="Oval 165"/>
                <p:cNvSpPr/>
                <p:nvPr/>
              </p:nvSpPr>
              <p:spPr>
                <a:xfrm rot="21111600">
                  <a:off x="3405240" y="6143400"/>
                  <a:ext cx="142920" cy="13068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1" name="Oval 166"/>
                <p:cNvSpPr/>
                <p:nvPr/>
              </p:nvSpPr>
              <p:spPr>
                <a:xfrm rot="21111600">
                  <a:off x="3860640" y="6278400"/>
                  <a:ext cx="142920" cy="13068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2" name="Oval 168"/>
                <p:cNvSpPr/>
                <p:nvPr/>
              </p:nvSpPr>
              <p:spPr>
                <a:xfrm rot="21111600">
                  <a:off x="3657960" y="5374440"/>
                  <a:ext cx="142920" cy="13068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3" name="Oval 169"/>
                <p:cNvSpPr/>
                <p:nvPr/>
              </p:nvSpPr>
              <p:spPr>
                <a:xfrm rot="21111600">
                  <a:off x="3274560" y="5229360"/>
                  <a:ext cx="142920" cy="13068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4" name="Oval 173"/>
                <p:cNvSpPr/>
                <p:nvPr/>
              </p:nvSpPr>
              <p:spPr>
                <a:xfrm rot="21111600">
                  <a:off x="3995640" y="5191920"/>
                  <a:ext cx="142920" cy="13068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5" name="Oval 174"/>
                <p:cNvSpPr/>
                <p:nvPr/>
              </p:nvSpPr>
              <p:spPr>
                <a:xfrm rot="21111600">
                  <a:off x="4469760" y="5457600"/>
                  <a:ext cx="142920" cy="13068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Oval 175"/>
                <p:cNvSpPr/>
                <p:nvPr/>
              </p:nvSpPr>
              <p:spPr>
                <a:xfrm rot="21111600">
                  <a:off x="3936600" y="5801760"/>
                  <a:ext cx="142920" cy="13068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7" name="Oval 176"/>
                <p:cNvSpPr/>
                <p:nvPr/>
              </p:nvSpPr>
              <p:spPr>
                <a:xfrm rot="21111600">
                  <a:off x="4340160" y="6076080"/>
                  <a:ext cx="142920" cy="13032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88" name="Line 180"/>
          <p:cNvSpPr/>
          <p:nvPr/>
        </p:nvSpPr>
        <p:spPr>
          <a:xfrm>
            <a:off x="2340000" y="5489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Line 181"/>
          <p:cNvSpPr/>
          <p:nvPr/>
        </p:nvSpPr>
        <p:spPr>
          <a:xfrm>
            <a:off x="2340000" y="5705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Line 182"/>
          <p:cNvSpPr/>
          <p:nvPr/>
        </p:nvSpPr>
        <p:spPr>
          <a:xfrm>
            <a:off x="2340000" y="5921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Line 183"/>
          <p:cNvSpPr/>
          <p:nvPr/>
        </p:nvSpPr>
        <p:spPr>
          <a:xfrm>
            <a:off x="2340000" y="6137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211"/>
          <p:cNvSpPr/>
          <p:nvPr/>
        </p:nvSpPr>
        <p:spPr>
          <a:xfrm>
            <a:off x="324000" y="6381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едметная область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3" name="Group 214"/>
          <p:cNvGrpSpPr/>
          <p:nvPr/>
        </p:nvGrpSpPr>
        <p:grpSpPr>
          <a:xfrm>
            <a:off x="6084720" y="4986360"/>
            <a:ext cx="1439640" cy="1871640"/>
            <a:chOff x="6084720" y="4986360"/>
            <a:chExt cx="1439640" cy="1871640"/>
          </a:xfrm>
        </p:grpSpPr>
        <p:grpSp>
          <p:nvGrpSpPr>
            <p:cNvPr id="594" name="Group 209"/>
            <p:cNvGrpSpPr/>
            <p:nvPr/>
          </p:nvGrpSpPr>
          <p:grpSpPr>
            <a:xfrm>
              <a:off x="6445080" y="5344560"/>
              <a:ext cx="792000" cy="1223640"/>
              <a:chOff x="6445080" y="5344560"/>
              <a:chExt cx="792000" cy="1223640"/>
            </a:xfrm>
          </p:grpSpPr>
          <p:sp>
            <p:nvSpPr>
              <p:cNvPr id="595" name="Line 201"/>
              <p:cNvSpPr/>
              <p:nvPr/>
            </p:nvSpPr>
            <p:spPr>
              <a:xfrm flipV="1">
                <a:off x="6876720" y="5417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" name="Line 202"/>
              <p:cNvSpPr/>
              <p:nvPr/>
            </p:nvSpPr>
            <p:spPr>
              <a:xfrm flipV="1">
                <a:off x="6876720" y="5704920"/>
                <a:ext cx="36036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Line 203"/>
              <p:cNvSpPr/>
              <p:nvPr/>
            </p:nvSpPr>
            <p:spPr>
              <a:xfrm flipH="1" flipV="1">
                <a:off x="6948360" y="5417280"/>
                <a:ext cx="28872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Line 204"/>
              <p:cNvSpPr/>
              <p:nvPr/>
            </p:nvSpPr>
            <p:spPr>
              <a:xfrm flipH="1" flipV="1">
                <a:off x="6876360" y="6064920"/>
                <a:ext cx="36036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" name="Line 205"/>
              <p:cNvSpPr/>
              <p:nvPr/>
            </p:nvSpPr>
            <p:spPr>
              <a:xfrm flipV="1">
                <a:off x="6516360" y="6064920"/>
                <a:ext cx="36036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Line 206"/>
              <p:cNvSpPr/>
              <p:nvPr/>
            </p:nvSpPr>
            <p:spPr>
              <a:xfrm>
                <a:off x="6516360" y="6425640"/>
                <a:ext cx="28908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Line 207"/>
              <p:cNvSpPr/>
              <p:nvPr/>
            </p:nvSpPr>
            <p:spPr>
              <a:xfrm flipV="1">
                <a:off x="6876720" y="6352200"/>
                <a:ext cx="36036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Line 208"/>
              <p:cNvSpPr/>
              <p:nvPr/>
            </p:nvSpPr>
            <p:spPr>
              <a:xfrm flipV="1">
                <a:off x="6445080" y="5344560"/>
                <a:ext cx="431640" cy="10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3" name="Freeform 186"/>
            <p:cNvSpPr/>
            <p:nvPr/>
          </p:nvSpPr>
          <p:spPr>
            <a:xfrm>
              <a:off x="6084720" y="4986360"/>
              <a:ext cx="1439640" cy="1871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4" name="Group 213"/>
            <p:cNvGrpSpPr/>
            <p:nvPr/>
          </p:nvGrpSpPr>
          <p:grpSpPr>
            <a:xfrm>
              <a:off x="6379920" y="5293080"/>
              <a:ext cx="976680" cy="1330200"/>
              <a:chOff x="6379920" y="5293080"/>
              <a:chExt cx="976680" cy="1330200"/>
            </a:xfrm>
          </p:grpSpPr>
          <p:sp>
            <p:nvSpPr>
              <p:cNvPr id="605" name="Oval 193"/>
              <p:cNvSpPr/>
              <p:nvPr/>
            </p:nvSpPr>
            <p:spPr>
              <a:xfrm rot="21111600">
                <a:off x="6389280" y="6309720"/>
                <a:ext cx="115920" cy="1425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Oval 194"/>
              <p:cNvSpPr/>
              <p:nvPr/>
            </p:nvSpPr>
            <p:spPr>
              <a:xfrm rot="21111600">
                <a:off x="6765840" y="6473160"/>
                <a:ext cx="115920" cy="1425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Oval 197"/>
              <p:cNvSpPr/>
              <p:nvPr/>
            </p:nvSpPr>
            <p:spPr>
              <a:xfrm rot="21111600">
                <a:off x="6833880" y="5300640"/>
                <a:ext cx="115920" cy="1422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Oval 198"/>
              <p:cNvSpPr/>
              <p:nvPr/>
            </p:nvSpPr>
            <p:spPr>
              <a:xfrm rot="21111600">
                <a:off x="7230960" y="5606640"/>
                <a:ext cx="115920" cy="1425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Oval 199"/>
              <p:cNvSpPr/>
              <p:nvPr/>
            </p:nvSpPr>
            <p:spPr>
              <a:xfrm rot="21111600">
                <a:off x="6810120" y="5959080"/>
                <a:ext cx="115920" cy="1425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Oval 200"/>
              <p:cNvSpPr/>
              <p:nvPr/>
            </p:nvSpPr>
            <p:spPr>
              <a:xfrm rot="21111600">
                <a:off x="7149960" y="6273360"/>
                <a:ext cx="115920" cy="1425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11" name="Text Box 212"/>
          <p:cNvSpPr/>
          <p:nvPr/>
        </p:nvSpPr>
        <p:spPr>
          <a:xfrm>
            <a:off x="7524720" y="630864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СС модель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223"/>
          <p:cNvGrpSpPr/>
          <p:nvPr/>
        </p:nvGrpSpPr>
        <p:grpSpPr>
          <a:xfrm>
            <a:off x="5219640" y="5518080"/>
            <a:ext cx="431640" cy="647640"/>
            <a:chOff x="5219640" y="5518080"/>
            <a:chExt cx="431640" cy="647640"/>
          </a:xfrm>
        </p:grpSpPr>
        <p:sp>
          <p:nvSpPr>
            <p:cNvPr id="613" name="Line 219"/>
            <p:cNvSpPr/>
            <p:nvPr/>
          </p:nvSpPr>
          <p:spPr>
            <a:xfrm>
              <a:off x="5219640" y="5518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220"/>
            <p:cNvSpPr/>
            <p:nvPr/>
          </p:nvSpPr>
          <p:spPr>
            <a:xfrm>
              <a:off x="5219640" y="5734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221"/>
            <p:cNvSpPr/>
            <p:nvPr/>
          </p:nvSpPr>
          <p:spPr>
            <a:xfrm>
              <a:off x="5219640" y="5950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222"/>
            <p:cNvSpPr/>
            <p:nvPr/>
          </p:nvSpPr>
          <p:spPr>
            <a:xfrm>
              <a:off x="5219640" y="61657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7" name="Rectangle 224"/>
          <p:cNvSpPr/>
          <p:nvPr/>
        </p:nvSpPr>
        <p:spPr>
          <a:xfrm>
            <a:off x="2682000" y="6381720"/>
            <a:ext cx="279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нформационная модель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136"/>
          <p:cNvSpPr/>
          <p:nvPr/>
        </p:nvSpPr>
        <p:spPr>
          <a:xfrm>
            <a:off x="285840" y="32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хватывающая временная последовательность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в след. иерарх. уровень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248"/>
          <p:cNvSpPr/>
          <p:nvPr/>
        </p:nvSpPr>
        <p:spPr>
          <a:xfrm>
            <a:off x="250920" y="5877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Line 249"/>
          <p:cNvSpPr/>
          <p:nvPr/>
        </p:nvSpPr>
        <p:spPr>
          <a:xfrm>
            <a:off x="539640" y="587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Line 250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Line 251"/>
          <p:cNvSpPr/>
          <p:nvPr/>
        </p:nvSpPr>
        <p:spPr>
          <a:xfrm>
            <a:off x="324000" y="616572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254"/>
          <p:cNvSpPr/>
          <p:nvPr/>
        </p:nvSpPr>
        <p:spPr>
          <a:xfrm>
            <a:off x="324000" y="5013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4" name="Group 48"/>
          <p:cNvGrpSpPr/>
          <p:nvPr/>
        </p:nvGrpSpPr>
        <p:grpSpPr>
          <a:xfrm>
            <a:off x="826920" y="5086440"/>
            <a:ext cx="216000" cy="504720"/>
            <a:chOff x="826920" y="5086440"/>
            <a:chExt cx="216000" cy="504720"/>
          </a:xfrm>
        </p:grpSpPr>
        <p:sp>
          <p:nvSpPr>
            <p:cNvPr id="625" name="Oval 49"/>
            <p:cNvSpPr/>
            <p:nvPr/>
          </p:nvSpPr>
          <p:spPr>
            <a:xfrm>
              <a:off x="860040" y="5086440"/>
              <a:ext cx="149400" cy="14292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Oval 50"/>
            <p:cNvSpPr/>
            <p:nvPr/>
          </p:nvSpPr>
          <p:spPr>
            <a:xfrm>
              <a:off x="860040" y="5226120"/>
              <a:ext cx="149400" cy="228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51"/>
            <p:cNvSpPr/>
            <p:nvPr/>
          </p:nvSpPr>
          <p:spPr>
            <a:xfrm>
              <a:off x="903600" y="543852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52"/>
            <p:cNvSpPr/>
            <p:nvPr/>
          </p:nvSpPr>
          <p:spPr>
            <a:xfrm>
              <a:off x="969120" y="543852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53"/>
            <p:cNvSpPr/>
            <p:nvPr/>
          </p:nvSpPr>
          <p:spPr>
            <a:xfrm>
              <a:off x="987840" y="5253120"/>
              <a:ext cx="55080" cy="136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54"/>
            <p:cNvSpPr/>
            <p:nvPr/>
          </p:nvSpPr>
          <p:spPr>
            <a:xfrm flipH="1">
              <a:off x="826920" y="5254920"/>
              <a:ext cx="54720" cy="138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1" name="Rectangle 263"/>
          <p:cNvSpPr/>
          <p:nvPr/>
        </p:nvSpPr>
        <p:spPr>
          <a:xfrm>
            <a:off x="539640" y="5229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2" name="Group 48"/>
          <p:cNvGrpSpPr/>
          <p:nvPr/>
        </p:nvGrpSpPr>
        <p:grpSpPr>
          <a:xfrm>
            <a:off x="755640" y="5302080"/>
            <a:ext cx="216000" cy="504720"/>
            <a:chOff x="755640" y="5302080"/>
            <a:chExt cx="216000" cy="504720"/>
          </a:xfrm>
        </p:grpSpPr>
        <p:sp>
          <p:nvSpPr>
            <p:cNvPr id="633" name="Oval 49"/>
            <p:cNvSpPr/>
            <p:nvPr/>
          </p:nvSpPr>
          <p:spPr>
            <a:xfrm>
              <a:off x="788760" y="5302080"/>
              <a:ext cx="149400" cy="14292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50"/>
            <p:cNvSpPr/>
            <p:nvPr/>
          </p:nvSpPr>
          <p:spPr>
            <a:xfrm>
              <a:off x="788760" y="5441760"/>
              <a:ext cx="149400" cy="228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Line 51"/>
            <p:cNvSpPr/>
            <p:nvPr/>
          </p:nvSpPr>
          <p:spPr>
            <a:xfrm>
              <a:off x="832320" y="565416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Line 52"/>
            <p:cNvSpPr/>
            <p:nvPr/>
          </p:nvSpPr>
          <p:spPr>
            <a:xfrm>
              <a:off x="897840" y="565416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Line 53"/>
            <p:cNvSpPr/>
            <p:nvPr/>
          </p:nvSpPr>
          <p:spPr>
            <a:xfrm>
              <a:off x="916560" y="5469120"/>
              <a:ext cx="55080" cy="136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Line 54"/>
            <p:cNvSpPr/>
            <p:nvPr/>
          </p:nvSpPr>
          <p:spPr>
            <a:xfrm flipH="1">
              <a:off x="755640" y="5470560"/>
              <a:ext cx="54720" cy="138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9" name="Group 271"/>
          <p:cNvGrpSpPr/>
          <p:nvPr/>
        </p:nvGrpSpPr>
        <p:grpSpPr>
          <a:xfrm>
            <a:off x="755640" y="5445000"/>
            <a:ext cx="1008000" cy="649080"/>
            <a:chOff x="755640" y="5445000"/>
            <a:chExt cx="1008000" cy="649080"/>
          </a:xfrm>
        </p:grpSpPr>
        <p:sp>
          <p:nvSpPr>
            <p:cNvPr id="640" name="Rectangle 272"/>
            <p:cNvSpPr/>
            <p:nvPr/>
          </p:nvSpPr>
          <p:spPr>
            <a:xfrm>
              <a:off x="755640" y="5445000"/>
              <a:ext cx="1008000" cy="64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41" name="Group 48"/>
            <p:cNvGrpSpPr/>
            <p:nvPr/>
          </p:nvGrpSpPr>
          <p:grpSpPr>
            <a:xfrm>
              <a:off x="900000" y="5518080"/>
              <a:ext cx="216000" cy="504720"/>
              <a:chOff x="900000" y="5518080"/>
              <a:chExt cx="216000" cy="504720"/>
            </a:xfrm>
          </p:grpSpPr>
          <p:sp>
            <p:nvSpPr>
              <p:cNvPr id="642" name="Oval 49"/>
              <p:cNvSpPr/>
              <p:nvPr/>
            </p:nvSpPr>
            <p:spPr>
              <a:xfrm>
                <a:off x="933120" y="5518080"/>
                <a:ext cx="149400" cy="14292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Oval 50"/>
              <p:cNvSpPr/>
              <p:nvPr/>
            </p:nvSpPr>
            <p:spPr>
              <a:xfrm>
                <a:off x="933120" y="5657760"/>
                <a:ext cx="149400" cy="22896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4" name="Line 51"/>
              <p:cNvSpPr/>
              <p:nvPr/>
            </p:nvSpPr>
            <p:spPr>
              <a:xfrm>
                <a:off x="976680" y="5870160"/>
                <a:ext cx="0" cy="152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5" name="Line 52"/>
              <p:cNvSpPr/>
              <p:nvPr/>
            </p:nvSpPr>
            <p:spPr>
              <a:xfrm>
                <a:off x="1042200" y="5870160"/>
                <a:ext cx="0" cy="152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Line 53"/>
              <p:cNvSpPr/>
              <p:nvPr/>
            </p:nvSpPr>
            <p:spPr>
              <a:xfrm>
                <a:off x="1060920" y="5684760"/>
                <a:ext cx="55080" cy="1364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Line 54"/>
              <p:cNvSpPr/>
              <p:nvPr/>
            </p:nvSpPr>
            <p:spPr>
              <a:xfrm flipH="1">
                <a:off x="900000" y="5686560"/>
                <a:ext cx="54720" cy="138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648" name="Group 280"/>
          <p:cNvGrpSpPr/>
          <p:nvPr/>
        </p:nvGrpSpPr>
        <p:grpSpPr>
          <a:xfrm>
            <a:off x="971640" y="5661000"/>
            <a:ext cx="1078920" cy="649080"/>
            <a:chOff x="971640" y="5661000"/>
            <a:chExt cx="1078920" cy="649080"/>
          </a:xfrm>
        </p:grpSpPr>
        <p:sp>
          <p:nvSpPr>
            <p:cNvPr id="649" name="Rectangle 281"/>
            <p:cNvSpPr/>
            <p:nvPr/>
          </p:nvSpPr>
          <p:spPr>
            <a:xfrm>
              <a:off x="971640" y="5661000"/>
              <a:ext cx="1078920" cy="64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0" name="Group 48"/>
            <p:cNvGrpSpPr/>
            <p:nvPr/>
          </p:nvGrpSpPr>
          <p:grpSpPr>
            <a:xfrm>
              <a:off x="1125720" y="5734080"/>
              <a:ext cx="231120" cy="504720"/>
              <a:chOff x="1125720" y="5734080"/>
              <a:chExt cx="231120" cy="504720"/>
            </a:xfrm>
          </p:grpSpPr>
          <p:sp>
            <p:nvSpPr>
              <p:cNvPr id="651" name="Oval 49"/>
              <p:cNvSpPr/>
              <p:nvPr/>
            </p:nvSpPr>
            <p:spPr>
              <a:xfrm>
                <a:off x="1161360" y="5734080"/>
                <a:ext cx="159840" cy="14292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Oval 50"/>
              <p:cNvSpPr/>
              <p:nvPr/>
            </p:nvSpPr>
            <p:spPr>
              <a:xfrm>
                <a:off x="1161360" y="5873760"/>
                <a:ext cx="159840" cy="22896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3" name="Line 51"/>
              <p:cNvSpPr/>
              <p:nvPr/>
            </p:nvSpPr>
            <p:spPr>
              <a:xfrm>
                <a:off x="1208160" y="6086160"/>
                <a:ext cx="0" cy="152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4" name="Line 52"/>
              <p:cNvSpPr/>
              <p:nvPr/>
            </p:nvSpPr>
            <p:spPr>
              <a:xfrm>
                <a:off x="1278360" y="6086160"/>
                <a:ext cx="0" cy="152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Line 53"/>
              <p:cNvSpPr/>
              <p:nvPr/>
            </p:nvSpPr>
            <p:spPr>
              <a:xfrm>
                <a:off x="1298160" y="5900760"/>
                <a:ext cx="58680" cy="1364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Line 54"/>
              <p:cNvSpPr/>
              <p:nvPr/>
            </p:nvSpPr>
            <p:spPr>
              <a:xfrm flipH="1">
                <a:off x="1125720" y="5902560"/>
                <a:ext cx="58680" cy="138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57" name="Freeform 289"/>
          <p:cNvSpPr/>
          <p:nvPr/>
        </p:nvSpPr>
        <p:spPr>
          <a:xfrm>
            <a:off x="1432080" y="6080040"/>
            <a:ext cx="398160" cy="22860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Oval 290"/>
          <p:cNvSpPr/>
          <p:nvPr/>
        </p:nvSpPr>
        <p:spPr>
          <a:xfrm>
            <a:off x="1403280" y="6031080"/>
            <a:ext cx="366840" cy="7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Oval 291"/>
          <p:cNvSpPr/>
          <p:nvPr/>
        </p:nvSpPr>
        <p:spPr>
          <a:xfrm>
            <a:off x="1727280" y="6105600"/>
            <a:ext cx="71280" cy="13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292"/>
          <p:cNvSpPr/>
          <p:nvPr/>
        </p:nvSpPr>
        <p:spPr>
          <a:xfrm>
            <a:off x="1474920" y="5734080"/>
            <a:ext cx="7128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Rectangle 293"/>
          <p:cNvSpPr/>
          <p:nvPr/>
        </p:nvSpPr>
        <p:spPr>
          <a:xfrm>
            <a:off x="1546200" y="5805360"/>
            <a:ext cx="7164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Rectangle 294"/>
          <p:cNvSpPr/>
          <p:nvPr/>
        </p:nvSpPr>
        <p:spPr>
          <a:xfrm>
            <a:off x="1403280" y="5805360"/>
            <a:ext cx="7164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Freeform 296"/>
          <p:cNvSpPr/>
          <p:nvPr/>
        </p:nvSpPr>
        <p:spPr>
          <a:xfrm>
            <a:off x="1547640" y="5938920"/>
            <a:ext cx="168480" cy="154080"/>
          </a:xfrm>
          <a:prstGeom prst="pie">
            <a:avLst/>
          </a:pr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Freeform 297"/>
          <p:cNvSpPr/>
          <p:nvPr/>
        </p:nvSpPr>
        <p:spPr>
          <a:xfrm>
            <a:off x="1595520" y="5950080"/>
            <a:ext cx="168120" cy="153720"/>
          </a:xfrm>
          <a:prstGeom prst="pie">
            <a:avLst/>
          </a:pr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Rectangle 295"/>
          <p:cNvSpPr/>
          <p:nvPr/>
        </p:nvSpPr>
        <p:spPr>
          <a:xfrm rot="17709600">
            <a:off x="1762560" y="5806440"/>
            <a:ext cx="2160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Oval 298"/>
          <p:cNvSpPr/>
          <p:nvPr/>
        </p:nvSpPr>
        <p:spPr>
          <a:xfrm rot="1026600">
            <a:off x="1841040" y="5779800"/>
            <a:ext cx="144720" cy="71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7" name="Группа 188"/>
          <p:cNvGrpSpPr/>
          <p:nvPr/>
        </p:nvGrpSpPr>
        <p:grpSpPr>
          <a:xfrm>
            <a:off x="1549440" y="5227560"/>
            <a:ext cx="71280" cy="214560"/>
            <a:chOff x="1549440" y="5227560"/>
            <a:chExt cx="71280" cy="214560"/>
          </a:xfrm>
        </p:grpSpPr>
        <p:sp>
          <p:nvSpPr>
            <p:cNvPr id="668" name="Прямоугольник 189"/>
            <p:cNvSpPr/>
            <p:nvPr/>
          </p:nvSpPr>
          <p:spPr>
            <a:xfrm>
              <a:off x="1549440" y="5227560"/>
              <a:ext cx="71280" cy="71280"/>
            </a:xfrm>
            <a:prstGeom prst="rect">
              <a:avLst/>
            </a:prstGeom>
            <a:solidFill>
              <a:srgbClr val="c6c6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Прямоугольник 190"/>
            <p:cNvSpPr/>
            <p:nvPr/>
          </p:nvSpPr>
          <p:spPr>
            <a:xfrm>
              <a:off x="1549440" y="5370480"/>
              <a:ext cx="71280" cy="71640"/>
            </a:xfrm>
            <a:prstGeom prst="rect">
              <a:avLst/>
            </a:prstGeom>
            <a:solidFill>
              <a:srgbClr val="c6c6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Прямоугольник 191"/>
            <p:cNvSpPr/>
            <p:nvPr/>
          </p:nvSpPr>
          <p:spPr>
            <a:xfrm>
              <a:off x="1549440" y="5298840"/>
              <a:ext cx="712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1" name="Группа 192"/>
          <p:cNvGrpSpPr/>
          <p:nvPr/>
        </p:nvGrpSpPr>
        <p:grpSpPr>
          <a:xfrm>
            <a:off x="1335240" y="5013360"/>
            <a:ext cx="71280" cy="214200"/>
            <a:chOff x="1335240" y="5013360"/>
            <a:chExt cx="71280" cy="214200"/>
          </a:xfrm>
        </p:grpSpPr>
        <p:sp>
          <p:nvSpPr>
            <p:cNvPr id="672" name="Прямоугольник 193"/>
            <p:cNvSpPr/>
            <p:nvPr/>
          </p:nvSpPr>
          <p:spPr>
            <a:xfrm>
              <a:off x="1335240" y="5013360"/>
              <a:ext cx="71280" cy="71280"/>
            </a:xfrm>
            <a:prstGeom prst="rect">
              <a:avLst/>
            </a:prstGeom>
            <a:solidFill>
              <a:srgbClr val="c6c6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Прямоугольник 194"/>
            <p:cNvSpPr/>
            <p:nvPr/>
          </p:nvSpPr>
          <p:spPr>
            <a:xfrm>
              <a:off x="1335240" y="5156280"/>
              <a:ext cx="71280" cy="71280"/>
            </a:xfrm>
            <a:prstGeom prst="rect">
              <a:avLst/>
            </a:prstGeom>
            <a:solidFill>
              <a:srgbClr val="c6c6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Прямоугольник 195"/>
            <p:cNvSpPr/>
            <p:nvPr/>
          </p:nvSpPr>
          <p:spPr>
            <a:xfrm>
              <a:off x="1335240" y="5084640"/>
              <a:ext cx="7128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5" name="Группа 196"/>
          <p:cNvGrpSpPr/>
          <p:nvPr/>
        </p:nvGrpSpPr>
        <p:grpSpPr>
          <a:xfrm>
            <a:off x="2054160" y="5661000"/>
            <a:ext cx="71640" cy="214200"/>
            <a:chOff x="2054160" y="5661000"/>
            <a:chExt cx="71640" cy="214200"/>
          </a:xfrm>
        </p:grpSpPr>
        <p:sp>
          <p:nvSpPr>
            <p:cNvPr id="676" name="Прямоугольник 197"/>
            <p:cNvSpPr/>
            <p:nvPr/>
          </p:nvSpPr>
          <p:spPr>
            <a:xfrm>
              <a:off x="2054160" y="5661000"/>
              <a:ext cx="71640" cy="71280"/>
            </a:xfrm>
            <a:prstGeom prst="rect">
              <a:avLst/>
            </a:prstGeom>
            <a:solidFill>
              <a:srgbClr val="c6c6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Прямоугольник 198"/>
            <p:cNvSpPr/>
            <p:nvPr/>
          </p:nvSpPr>
          <p:spPr>
            <a:xfrm>
              <a:off x="2054160" y="5803920"/>
              <a:ext cx="71640" cy="71280"/>
            </a:xfrm>
            <a:prstGeom prst="rect">
              <a:avLst/>
            </a:prstGeom>
            <a:solidFill>
              <a:srgbClr val="c6c6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Прямоугольник 199"/>
            <p:cNvSpPr/>
            <p:nvPr/>
          </p:nvSpPr>
          <p:spPr>
            <a:xfrm>
              <a:off x="2054160" y="5732280"/>
              <a:ext cx="7164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9" name="Группа 200"/>
          <p:cNvGrpSpPr/>
          <p:nvPr/>
        </p:nvGrpSpPr>
        <p:grpSpPr>
          <a:xfrm>
            <a:off x="2054160" y="5951520"/>
            <a:ext cx="71640" cy="214200"/>
            <a:chOff x="2054160" y="5951520"/>
            <a:chExt cx="71640" cy="214200"/>
          </a:xfrm>
        </p:grpSpPr>
        <p:sp>
          <p:nvSpPr>
            <p:cNvPr id="680" name="Прямоугольник 201"/>
            <p:cNvSpPr/>
            <p:nvPr/>
          </p:nvSpPr>
          <p:spPr>
            <a:xfrm>
              <a:off x="2054160" y="5951520"/>
              <a:ext cx="71640" cy="71280"/>
            </a:xfrm>
            <a:prstGeom prst="rect">
              <a:avLst/>
            </a:prstGeom>
            <a:solidFill>
              <a:srgbClr val="c6c6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Прямоугольник 202"/>
            <p:cNvSpPr/>
            <p:nvPr/>
          </p:nvSpPr>
          <p:spPr>
            <a:xfrm>
              <a:off x="2054160" y="6094440"/>
              <a:ext cx="71640" cy="71280"/>
            </a:xfrm>
            <a:prstGeom prst="rect">
              <a:avLst/>
            </a:prstGeom>
            <a:solidFill>
              <a:srgbClr val="c6c6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Прямоугольник 203"/>
            <p:cNvSpPr/>
            <p:nvPr/>
          </p:nvSpPr>
          <p:spPr>
            <a:xfrm>
              <a:off x="2054160" y="6022800"/>
              <a:ext cx="7164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3" name="Прямоугольник 205"/>
          <p:cNvSpPr/>
          <p:nvPr/>
        </p:nvSpPr>
        <p:spPr>
          <a:xfrm>
            <a:off x="2054160" y="6242040"/>
            <a:ext cx="71640" cy="71280"/>
          </a:xfrm>
          <a:prstGeom prst="rect">
            <a:avLst/>
          </a:prstGeom>
          <a:solidFill>
            <a:srgbClr val="c6c6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Прямоугольник 207"/>
          <p:cNvSpPr/>
          <p:nvPr/>
        </p:nvSpPr>
        <p:spPr>
          <a:xfrm>
            <a:off x="2054160" y="6170760"/>
            <a:ext cx="7164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Прямоугольник 208"/>
          <p:cNvSpPr/>
          <p:nvPr/>
        </p:nvSpPr>
        <p:spPr>
          <a:xfrm>
            <a:off x="2054160" y="5875200"/>
            <a:ext cx="7164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10576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4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Универсальность  текстовой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Описание  алгоритма  НСС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Основные  свойства  НСС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. 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Элементная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база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СС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5. 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имер  формирования  НСС 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"Отдел  кадров"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6FA8-0841-4175-A3E9-3CE3BBDD0A25}" type="slidenum">
              <a:rPr b="1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Прямоугольник 3"/>
          <p:cNvSpPr/>
          <p:nvPr/>
        </p:nvSpPr>
        <p:spPr>
          <a:xfrm>
            <a:off x="1808640" y="549360"/>
            <a:ext cx="60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Характеристики  НСС</a:t>
            </a:r>
            <a:endParaRPr b="1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280" y="692280"/>
            <a:ext cx="3999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План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доклад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       Задачи экономики зна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       Два направления формировании инструментария (И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       Нейросемантическая среда (НСС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       Характеристики N-элемента и его основные свойств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       Слои N-элементов, структуры слоев, иерархия НСС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       Эволюционный потенциал ИУ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       Три принципа построения ИР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       Две оценки сложности моделирования мозг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       Классы решаемых задач НСС-инструментарие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Номер слайда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0D20-BB64-49FE-8C18-9AF80234BB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Freeform 79"/>
          <p:cNvSpPr/>
          <p:nvPr/>
        </p:nvSpPr>
        <p:spPr>
          <a:xfrm>
            <a:off x="1714680" y="3289320"/>
            <a:ext cx="568080" cy="612720"/>
          </a:xfrm>
          <a:prstGeom prst="pie">
            <a:avLst/>
          </a:pr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98560" y="40428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Утверждение 1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писание любого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процесс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может быть представлено  в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текстовой  форм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(ТФ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3" name="Object 4"/>
          <p:cNvGraphicFramePr/>
          <p:nvPr/>
        </p:nvGraphicFramePr>
        <p:xfrm>
          <a:off x="611280" y="4221000"/>
          <a:ext cx="8137440" cy="18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221000"/>
                    <a:ext cx="813744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Rectangle 5"/>
          <p:cNvSpPr/>
          <p:nvPr/>
        </p:nvSpPr>
        <p:spPr>
          <a:xfrm>
            <a:off x="179280" y="606744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Arial"/>
              </a:rPr>
              <a:t>многомерный физический процес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текстовая форма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6" name="Group 7"/>
          <p:cNvGrpSpPr/>
          <p:nvPr/>
        </p:nvGrpSpPr>
        <p:grpSpPr>
          <a:xfrm>
            <a:off x="-369720" y="3068640"/>
            <a:ext cx="1171440" cy="1009800"/>
            <a:chOff x="-369720" y="3068640"/>
            <a:chExt cx="1171440" cy="1009800"/>
          </a:xfrm>
        </p:grpSpPr>
        <p:sp>
          <p:nvSpPr>
            <p:cNvPr id="697" name="Oval 8"/>
            <p:cNvSpPr/>
            <p:nvPr/>
          </p:nvSpPr>
          <p:spPr>
            <a:xfrm>
              <a:off x="-369720" y="3068640"/>
              <a:ext cx="1152360" cy="10098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Oval 9"/>
            <p:cNvSpPr/>
            <p:nvPr/>
          </p:nvSpPr>
          <p:spPr>
            <a:xfrm>
              <a:off x="638280" y="3418200"/>
              <a:ext cx="163440" cy="25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Text Box 10"/>
            <p:cNvSpPr/>
            <p:nvPr/>
          </p:nvSpPr>
          <p:spPr>
            <a:xfrm>
              <a:off x="27000" y="3183480"/>
              <a:ext cx="73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О</a:t>
              </a:r>
              <a:endParaRPr b="1" i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0" name="Text Box 12"/>
          <p:cNvSpPr/>
          <p:nvPr/>
        </p:nvSpPr>
        <p:spPr>
          <a:xfrm>
            <a:off x="1476360" y="3860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Rectangle 13"/>
          <p:cNvSpPr/>
          <p:nvPr/>
        </p:nvSpPr>
        <p:spPr>
          <a:xfrm>
            <a:off x="6732720" y="2635200"/>
            <a:ext cx="360360" cy="3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Text Box 14"/>
          <p:cNvSpPr/>
          <p:nvPr/>
        </p:nvSpPr>
        <p:spPr>
          <a:xfrm>
            <a:off x="6985080" y="256536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babab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15"/>
          <p:cNvSpPr/>
          <p:nvPr/>
        </p:nvSpPr>
        <p:spPr>
          <a:xfrm>
            <a:off x="7058520" y="34279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ffcz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Text Box 16"/>
          <p:cNvSpPr/>
          <p:nvPr/>
        </p:nvSpPr>
        <p:spPr>
          <a:xfrm>
            <a:off x="7524720" y="3860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Oval 23"/>
          <p:cNvSpPr/>
          <p:nvPr/>
        </p:nvSpPr>
        <p:spPr>
          <a:xfrm>
            <a:off x="2484360" y="2311560"/>
            <a:ext cx="69840" cy="6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Freeform 24"/>
          <p:cNvSpPr/>
          <p:nvPr/>
        </p:nvSpPr>
        <p:spPr>
          <a:xfrm>
            <a:off x="2557440" y="2044800"/>
            <a:ext cx="1646280" cy="1239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Freeform 25"/>
          <p:cNvSpPr/>
          <p:nvPr/>
        </p:nvSpPr>
        <p:spPr>
          <a:xfrm>
            <a:off x="2984400" y="2211480"/>
            <a:ext cx="792360" cy="9032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Freeform 26"/>
          <p:cNvSpPr/>
          <p:nvPr/>
        </p:nvSpPr>
        <p:spPr>
          <a:xfrm>
            <a:off x="3132000" y="2060640"/>
            <a:ext cx="50004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9" name="Group 27"/>
          <p:cNvGrpSpPr/>
          <p:nvPr/>
        </p:nvGrpSpPr>
        <p:grpSpPr>
          <a:xfrm>
            <a:off x="4211640" y="1773360"/>
            <a:ext cx="1213560" cy="863280"/>
            <a:chOff x="4211640" y="1773360"/>
            <a:chExt cx="1213560" cy="863280"/>
          </a:xfrm>
        </p:grpSpPr>
        <p:grpSp>
          <p:nvGrpSpPr>
            <p:cNvPr id="710" name="Group 28"/>
            <p:cNvGrpSpPr/>
            <p:nvPr/>
          </p:nvGrpSpPr>
          <p:grpSpPr>
            <a:xfrm>
              <a:off x="4460400" y="1988640"/>
              <a:ext cx="418320" cy="418320"/>
              <a:chOff x="4460400" y="1988640"/>
              <a:chExt cx="418320" cy="418320"/>
            </a:xfrm>
          </p:grpSpPr>
          <p:grpSp>
            <p:nvGrpSpPr>
              <p:cNvPr id="711" name="Group 29"/>
              <p:cNvGrpSpPr/>
              <p:nvPr/>
            </p:nvGrpSpPr>
            <p:grpSpPr>
              <a:xfrm>
                <a:off x="4529880" y="2041200"/>
                <a:ext cx="281160" cy="310320"/>
                <a:chOff x="4529880" y="2041200"/>
                <a:chExt cx="281160" cy="310320"/>
              </a:xfrm>
            </p:grpSpPr>
            <p:sp>
              <p:nvSpPr>
                <p:cNvPr id="712" name="Line 30"/>
                <p:cNvSpPr/>
                <p:nvPr/>
              </p:nvSpPr>
              <p:spPr>
                <a:xfrm flipH="1">
                  <a:off x="4529880" y="2195640"/>
                  <a:ext cx="140760" cy="15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3" name="Line 31"/>
                <p:cNvSpPr/>
                <p:nvPr/>
              </p:nvSpPr>
              <p:spPr>
                <a:xfrm flipH="1">
                  <a:off x="4669920" y="2041200"/>
                  <a:ext cx="141120" cy="15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14" name="Group 32"/>
              <p:cNvGrpSpPr/>
              <p:nvPr/>
            </p:nvGrpSpPr>
            <p:grpSpPr>
              <a:xfrm>
                <a:off x="4460400" y="2188440"/>
                <a:ext cx="418320" cy="17280"/>
                <a:chOff x="4460400" y="2188440"/>
                <a:chExt cx="418320" cy="17280"/>
              </a:xfrm>
            </p:grpSpPr>
            <p:sp>
              <p:nvSpPr>
                <p:cNvPr id="715" name="Line 33"/>
                <p:cNvSpPr/>
                <p:nvPr/>
              </p:nvSpPr>
              <p:spPr>
                <a:xfrm flipH="1">
                  <a:off x="4460400" y="2196360"/>
                  <a:ext cx="20988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6" name="Line 34"/>
                <p:cNvSpPr/>
                <p:nvPr/>
              </p:nvSpPr>
              <p:spPr>
                <a:xfrm flipH="1">
                  <a:off x="4668480" y="2188440"/>
                  <a:ext cx="21024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17" name="Group 35"/>
              <p:cNvGrpSpPr/>
              <p:nvPr/>
            </p:nvGrpSpPr>
            <p:grpSpPr>
              <a:xfrm>
                <a:off x="4515120" y="2054520"/>
                <a:ext cx="309960" cy="281160"/>
                <a:chOff x="4515120" y="2054520"/>
                <a:chExt cx="309960" cy="281160"/>
              </a:xfrm>
            </p:grpSpPr>
            <p:sp>
              <p:nvSpPr>
                <p:cNvPr id="718" name="Line 36"/>
                <p:cNvSpPr/>
                <p:nvPr/>
              </p:nvSpPr>
              <p:spPr>
                <a:xfrm flipH="1" flipV="1">
                  <a:off x="4515120" y="2054520"/>
                  <a:ext cx="155880" cy="14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9" name="Line 37"/>
                <p:cNvSpPr/>
                <p:nvPr/>
              </p:nvSpPr>
              <p:spPr>
                <a:xfrm flipH="1" flipV="1">
                  <a:off x="4669560" y="2194560"/>
                  <a:ext cx="155520" cy="14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20" name="Group 38"/>
              <p:cNvGrpSpPr/>
              <p:nvPr/>
            </p:nvGrpSpPr>
            <p:grpSpPr>
              <a:xfrm>
                <a:off x="4659840" y="1988640"/>
                <a:ext cx="23400" cy="418320"/>
                <a:chOff x="4659840" y="1988640"/>
                <a:chExt cx="23400" cy="418320"/>
              </a:xfrm>
            </p:grpSpPr>
            <p:sp>
              <p:nvSpPr>
                <p:cNvPr id="721" name="Line 39"/>
                <p:cNvSpPr/>
                <p:nvPr/>
              </p:nvSpPr>
              <p:spPr>
                <a:xfrm flipH="1" flipV="1">
                  <a:off x="4659840" y="1988640"/>
                  <a:ext cx="12600" cy="2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2" name="Line 40"/>
                <p:cNvSpPr/>
                <p:nvPr/>
              </p:nvSpPr>
              <p:spPr>
                <a:xfrm flipH="1" flipV="1">
                  <a:off x="4671360" y="2196720"/>
                  <a:ext cx="11880" cy="21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23" name="Text Box 41"/>
            <p:cNvSpPr/>
            <p:nvPr/>
          </p:nvSpPr>
          <p:spPr>
            <a:xfrm>
              <a:off x="4519080" y="1773360"/>
              <a:ext cx="28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4712400" y="1836000"/>
              <a:ext cx="28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4797720" y="2041560"/>
              <a:ext cx="62748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5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…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Text Box 44"/>
            <p:cNvSpPr/>
            <p:nvPr/>
          </p:nvSpPr>
          <p:spPr>
            <a:xfrm>
              <a:off x="4535640" y="2360160"/>
              <a:ext cx="28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Text Box 45"/>
            <p:cNvSpPr/>
            <p:nvPr/>
          </p:nvSpPr>
          <p:spPr>
            <a:xfrm>
              <a:off x="4211640" y="1856880"/>
              <a:ext cx="434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z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…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8" name="Line 46"/>
          <p:cNvSpPr/>
          <p:nvPr/>
        </p:nvSpPr>
        <p:spPr>
          <a:xfrm>
            <a:off x="3583080" y="21798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Line 47"/>
          <p:cNvSpPr/>
          <p:nvPr/>
        </p:nvSpPr>
        <p:spPr>
          <a:xfrm>
            <a:off x="3740040" y="2257560"/>
            <a:ext cx="44640" cy="11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Line 48"/>
          <p:cNvSpPr/>
          <p:nvPr/>
        </p:nvSpPr>
        <p:spPr>
          <a:xfrm flipH="1">
            <a:off x="3727080" y="2395440"/>
            <a:ext cx="651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49"/>
          <p:cNvSpPr/>
          <p:nvPr/>
        </p:nvSpPr>
        <p:spPr>
          <a:xfrm flipH="1">
            <a:off x="3549240" y="2565360"/>
            <a:ext cx="15876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Line 50"/>
          <p:cNvSpPr/>
          <p:nvPr/>
        </p:nvSpPr>
        <p:spPr>
          <a:xfrm flipH="1">
            <a:off x="3378240" y="2624040"/>
            <a:ext cx="141120" cy="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Line 51"/>
          <p:cNvSpPr/>
          <p:nvPr/>
        </p:nvSpPr>
        <p:spPr>
          <a:xfrm flipH="1">
            <a:off x="3180960" y="2670120"/>
            <a:ext cx="17316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Line 52"/>
          <p:cNvSpPr/>
          <p:nvPr/>
        </p:nvSpPr>
        <p:spPr>
          <a:xfrm flipH="1">
            <a:off x="3045960" y="2762280"/>
            <a:ext cx="109800" cy="14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Line 53"/>
          <p:cNvSpPr/>
          <p:nvPr/>
        </p:nvSpPr>
        <p:spPr>
          <a:xfrm>
            <a:off x="3041640" y="2933640"/>
            <a:ext cx="13500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Line 54"/>
          <p:cNvSpPr/>
          <p:nvPr/>
        </p:nvSpPr>
        <p:spPr>
          <a:xfrm flipV="1">
            <a:off x="3203640" y="2997360"/>
            <a:ext cx="162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Line 55"/>
          <p:cNvSpPr/>
          <p:nvPr/>
        </p:nvSpPr>
        <p:spPr>
          <a:xfrm flipV="1">
            <a:off x="3360600" y="2781000"/>
            <a:ext cx="3204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Line 56"/>
          <p:cNvSpPr/>
          <p:nvPr/>
        </p:nvSpPr>
        <p:spPr>
          <a:xfrm flipH="1" flipV="1">
            <a:off x="3365640" y="2539800"/>
            <a:ext cx="2520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Line 57"/>
          <p:cNvSpPr/>
          <p:nvPr/>
        </p:nvSpPr>
        <p:spPr>
          <a:xfrm flipV="1">
            <a:off x="3346560" y="2374920"/>
            <a:ext cx="612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Line 58"/>
          <p:cNvSpPr/>
          <p:nvPr/>
        </p:nvSpPr>
        <p:spPr>
          <a:xfrm flipV="1">
            <a:off x="3333600" y="222228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Line 59"/>
          <p:cNvSpPr/>
          <p:nvPr/>
        </p:nvSpPr>
        <p:spPr>
          <a:xfrm flipV="1">
            <a:off x="3429000" y="2178000"/>
            <a:ext cx="10152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60"/>
          <p:cNvSpPr/>
          <p:nvPr/>
        </p:nvSpPr>
        <p:spPr>
          <a:xfrm>
            <a:off x="4140360" y="2637000"/>
            <a:ext cx="25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X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ahoma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Y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ahoma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aabbdoop …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64"/>
          <p:cNvSpPr/>
          <p:nvPr/>
        </p:nvSpPr>
        <p:spPr>
          <a:xfrm>
            <a:off x="2700360" y="3500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asgfadadfkgforlekrtyuelffg …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Rectangle 65"/>
          <p:cNvSpPr/>
          <p:nvPr/>
        </p:nvSpPr>
        <p:spPr>
          <a:xfrm>
            <a:off x="6732720" y="3500280"/>
            <a:ext cx="360360" cy="3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Line 66"/>
          <p:cNvSpPr/>
          <p:nvPr/>
        </p:nvSpPr>
        <p:spPr>
          <a:xfrm>
            <a:off x="2556000" y="3141720"/>
            <a:ext cx="126180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Rectangle 67"/>
          <p:cNvSpPr/>
          <p:nvPr/>
        </p:nvSpPr>
        <p:spPr>
          <a:xfrm>
            <a:off x="3780000" y="299736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Line 68"/>
          <p:cNvSpPr/>
          <p:nvPr/>
        </p:nvSpPr>
        <p:spPr>
          <a:xfrm flipV="1">
            <a:off x="2556000" y="1844280"/>
            <a:ext cx="792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Rectangle 69"/>
          <p:cNvSpPr/>
          <p:nvPr/>
        </p:nvSpPr>
        <p:spPr>
          <a:xfrm>
            <a:off x="2987640" y="1844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Freeform 70"/>
          <p:cNvSpPr/>
          <p:nvPr/>
        </p:nvSpPr>
        <p:spPr>
          <a:xfrm>
            <a:off x="2268360" y="3500280"/>
            <a:ext cx="503280" cy="351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Freeform 72"/>
          <p:cNvSpPr/>
          <p:nvPr/>
        </p:nvSpPr>
        <p:spPr>
          <a:xfrm>
            <a:off x="2085840" y="2103480"/>
            <a:ext cx="293760" cy="723960"/>
          </a:xfrm>
          <a:prstGeom prst="pie">
            <a:avLst/>
          </a:pr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Freeform 73"/>
          <p:cNvSpPr/>
          <p:nvPr/>
        </p:nvSpPr>
        <p:spPr>
          <a:xfrm>
            <a:off x="2425680" y="2251080"/>
            <a:ext cx="260280" cy="149400"/>
          </a:xfrm>
          <a:prstGeom prst="pie">
            <a:avLst/>
          </a:pr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Freeform 74"/>
          <p:cNvSpPr/>
          <p:nvPr/>
        </p:nvSpPr>
        <p:spPr>
          <a:xfrm>
            <a:off x="2484360" y="2303640"/>
            <a:ext cx="20880" cy="83880"/>
          </a:xfrm>
          <a:prstGeom prst="pie">
            <a:avLst/>
          </a:prstGeom>
          <a:solidFill>
            <a:srgbClr val="ffff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Freeform 75"/>
          <p:cNvSpPr/>
          <p:nvPr/>
        </p:nvSpPr>
        <p:spPr>
          <a:xfrm>
            <a:off x="2494080" y="2306520"/>
            <a:ext cx="38160" cy="82800"/>
          </a:xfrm>
          <a:prstGeom prst="pie">
            <a:avLst/>
          </a:prstGeom>
          <a:solidFill>
            <a:srgbClr val="00ffff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Freeform 76"/>
          <p:cNvSpPr/>
          <p:nvPr/>
        </p:nvSpPr>
        <p:spPr>
          <a:xfrm>
            <a:off x="2192400" y="2808360"/>
            <a:ext cx="27000" cy="87120"/>
          </a:xfrm>
          <a:prstGeom prst="pie">
            <a:avLst/>
          </a:pr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Freeform 78"/>
          <p:cNvSpPr/>
          <p:nvPr/>
        </p:nvSpPr>
        <p:spPr>
          <a:xfrm>
            <a:off x="1820880" y="3375000"/>
            <a:ext cx="361800" cy="433440"/>
          </a:xfrm>
          <a:prstGeom prst="pie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Oval 80"/>
          <p:cNvSpPr/>
          <p:nvPr/>
        </p:nvSpPr>
        <p:spPr>
          <a:xfrm>
            <a:off x="1941480" y="3592440"/>
            <a:ext cx="71640" cy="71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7" name="Group 86"/>
          <p:cNvGrpSpPr/>
          <p:nvPr/>
        </p:nvGrpSpPr>
        <p:grpSpPr>
          <a:xfrm>
            <a:off x="685800" y="2707920"/>
            <a:ext cx="1149480" cy="1524240"/>
            <a:chOff x="685800" y="2707920"/>
            <a:chExt cx="1149480" cy="1524240"/>
          </a:xfrm>
        </p:grpSpPr>
        <p:sp>
          <p:nvSpPr>
            <p:cNvPr id="758" name="Line 83"/>
            <p:cNvSpPr/>
            <p:nvPr/>
          </p:nvSpPr>
          <p:spPr>
            <a:xfrm flipV="1">
              <a:off x="696960" y="2707920"/>
              <a:ext cx="1138320" cy="817560"/>
            </a:xfrm>
            <a:prstGeom prst="line">
              <a:avLst/>
            </a:prstGeom>
            <a:ln w="19080">
              <a:solidFill>
                <a:srgbClr val="00a479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Line 84"/>
            <p:cNvSpPr/>
            <p:nvPr/>
          </p:nvSpPr>
          <p:spPr>
            <a:xfrm>
              <a:off x="685800" y="3543480"/>
              <a:ext cx="838080" cy="0"/>
            </a:xfrm>
            <a:prstGeom prst="line">
              <a:avLst/>
            </a:prstGeom>
            <a:ln w="19080">
              <a:solidFill>
                <a:srgbClr val="00a479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Line 85"/>
            <p:cNvSpPr/>
            <p:nvPr/>
          </p:nvSpPr>
          <p:spPr>
            <a:xfrm>
              <a:off x="690480" y="3530520"/>
              <a:ext cx="459000" cy="701640"/>
            </a:xfrm>
            <a:prstGeom prst="line">
              <a:avLst/>
            </a:prstGeom>
            <a:ln w="19080">
              <a:solidFill>
                <a:srgbClr val="00a479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1" name="Line 88"/>
          <p:cNvSpPr/>
          <p:nvPr/>
        </p:nvSpPr>
        <p:spPr>
          <a:xfrm flipH="1" flipV="1">
            <a:off x="8244000" y="2923920"/>
            <a:ext cx="504720" cy="649080"/>
          </a:xfrm>
          <a:prstGeom prst="line">
            <a:avLst/>
          </a:prstGeom>
          <a:ln w="19080">
            <a:solidFill>
              <a:srgbClr val="00a479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Line 89"/>
          <p:cNvSpPr/>
          <p:nvPr/>
        </p:nvSpPr>
        <p:spPr>
          <a:xfrm flipH="1">
            <a:off x="8396280" y="3610080"/>
            <a:ext cx="331920" cy="0"/>
          </a:xfrm>
          <a:prstGeom prst="line">
            <a:avLst/>
          </a:prstGeom>
          <a:ln w="19080">
            <a:solidFill>
              <a:srgbClr val="00a479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Line 90"/>
          <p:cNvSpPr/>
          <p:nvPr/>
        </p:nvSpPr>
        <p:spPr>
          <a:xfrm flipH="1">
            <a:off x="8297640" y="3645000"/>
            <a:ext cx="430200" cy="1152360"/>
          </a:xfrm>
          <a:prstGeom prst="line">
            <a:avLst/>
          </a:prstGeom>
          <a:ln w="19080">
            <a:solidFill>
              <a:srgbClr val="00a479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Rectangle 92"/>
          <p:cNvSpPr/>
          <p:nvPr/>
        </p:nvSpPr>
        <p:spPr>
          <a:xfrm>
            <a:off x="8677800" y="34416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ТФ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Номер слайда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3FDC-C75E-4D51-8DD7-41EA341E3D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24000" y="1857240"/>
            <a:ext cx="8619840" cy="430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1800"/>
            </a:br>
            <a:br>
              <a:rPr sz="900"/>
            </a:b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= {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1100101011011011010001101101001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}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Исходная ТФ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                     1-й шаг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   k1=2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Tahoma"/>
              </a:rPr>
              <a:t>l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0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01100101011011011010001101101001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омера (индексы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цепочек в словаре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довательность индексов (ссылок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  2   3    4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Tahoma"/>
              </a:rPr>
              <a:t>l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1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 2 1 1 1 2 3 1 2 2 4 3 1 2 2 1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+     "01"10"11"00"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L1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оварь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7" name="AutoShape 4"/>
          <p:cNvSpPr/>
          <p:nvPr/>
        </p:nvSpPr>
        <p:spPr>
          <a:xfrm rot="5400000">
            <a:off x="904680" y="4479840"/>
            <a:ext cx="215640" cy="273240"/>
          </a:xfrm>
          <a:custGeom>
            <a:avLst/>
            <a:gdLst>
              <a:gd name="textAreaLeft" fmla="*/ 137880 w 215640"/>
              <a:gd name="textAreaRight" fmla="*/ 216000 w 215640"/>
              <a:gd name="textAreaTop" fmla="*/ 9000 h 273240"/>
              <a:gd name="textAreaBottom" fmla="*/ 264240 h 27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464"/>
                </a:lnTo>
                <a:cubicBezTo>
                  <a:pt x="10800" y="9632"/>
                  <a:pt x="5400" y="10800"/>
                  <a:pt x="0" y="10800"/>
                </a:cubicBezTo>
                <a:cubicBezTo>
                  <a:pt x="5400" y="10800"/>
                  <a:pt x="10800" y="11968"/>
                  <a:pt x="10800" y="13136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AutoShape 5"/>
          <p:cNvSpPr/>
          <p:nvPr/>
        </p:nvSpPr>
        <p:spPr>
          <a:xfrm rot="5400000">
            <a:off x="1215720" y="4479840"/>
            <a:ext cx="215640" cy="273240"/>
          </a:xfrm>
          <a:custGeom>
            <a:avLst/>
            <a:gdLst>
              <a:gd name="textAreaLeft" fmla="*/ 137880 w 215640"/>
              <a:gd name="textAreaRight" fmla="*/ 216000 w 215640"/>
              <a:gd name="textAreaTop" fmla="*/ 9000 h 273240"/>
              <a:gd name="textAreaBottom" fmla="*/ 264240 h 27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464"/>
                </a:lnTo>
                <a:cubicBezTo>
                  <a:pt x="10800" y="9632"/>
                  <a:pt x="5400" y="10800"/>
                  <a:pt x="0" y="10800"/>
                </a:cubicBezTo>
                <a:cubicBezTo>
                  <a:pt x="5400" y="10800"/>
                  <a:pt x="10800" y="11968"/>
                  <a:pt x="10800" y="13136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AutoShape 6"/>
          <p:cNvSpPr/>
          <p:nvPr/>
        </p:nvSpPr>
        <p:spPr>
          <a:xfrm rot="5400000">
            <a:off x="1490040" y="4481280"/>
            <a:ext cx="216000" cy="244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8280 h 244440"/>
              <a:gd name="textAreaBottom" fmla="*/ 236160 h 24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464"/>
                </a:lnTo>
                <a:cubicBezTo>
                  <a:pt x="10800" y="9632"/>
                  <a:pt x="5400" y="10800"/>
                  <a:pt x="0" y="10800"/>
                </a:cubicBezTo>
                <a:cubicBezTo>
                  <a:pt x="5400" y="10800"/>
                  <a:pt x="10800" y="11968"/>
                  <a:pt x="10800" y="13136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AutoShape 8"/>
          <p:cNvSpPr/>
          <p:nvPr/>
        </p:nvSpPr>
        <p:spPr>
          <a:xfrm rot="1503600">
            <a:off x="4829040" y="50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Прямоугольник 10"/>
          <p:cNvSpPr/>
          <p:nvPr/>
        </p:nvSpPr>
        <p:spPr>
          <a:xfrm>
            <a:off x="1285920" y="5000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мер  преобразования  ТФ  в иерархическую  структуру  словарей  (НСС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лгоритм "А1" 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Номер слайда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FFD7-052B-4F6B-AB9C-4EDAD9C351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Line 295"/>
          <p:cNvSpPr/>
          <p:nvPr/>
        </p:nvSpPr>
        <p:spPr>
          <a:xfrm>
            <a:off x="651672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Line 296"/>
          <p:cNvSpPr/>
          <p:nvPr/>
        </p:nvSpPr>
        <p:spPr>
          <a:xfrm>
            <a:off x="694836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Line 293"/>
          <p:cNvSpPr/>
          <p:nvPr/>
        </p:nvSpPr>
        <p:spPr>
          <a:xfrm>
            <a:off x="608472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Line 289"/>
          <p:cNvSpPr/>
          <p:nvPr/>
        </p:nvSpPr>
        <p:spPr>
          <a:xfrm>
            <a:off x="521964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Line 290"/>
          <p:cNvSpPr/>
          <p:nvPr/>
        </p:nvSpPr>
        <p:spPr>
          <a:xfrm>
            <a:off x="565164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Line 287"/>
          <p:cNvSpPr/>
          <p:nvPr/>
        </p:nvSpPr>
        <p:spPr>
          <a:xfrm>
            <a:off x="521964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Line 286"/>
          <p:cNvSpPr/>
          <p:nvPr/>
        </p:nvSpPr>
        <p:spPr>
          <a:xfrm>
            <a:off x="478800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26920" y="4149360"/>
            <a:ext cx="7793280" cy="21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   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     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k2=2</a:t>
            </a:r>
            <a:r>
              <a:rPr b="0" i="1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омера цепочек в словаря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/1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211123122431221 </a:t>
            </a:r>
            <a:r>
              <a:rPr b="0" i="1" lang="ru-RU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   2    3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4    5     6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2  11  31  22  43  21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L2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/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2   1 2 1 3 4 5 1 6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+    "01"10"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1"00"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L1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Адресная  форм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1" name="AutoShape 3"/>
          <p:cNvSpPr/>
          <p:nvPr/>
        </p:nvSpPr>
        <p:spPr>
          <a:xfrm rot="5400000">
            <a:off x="1504440" y="4552560"/>
            <a:ext cx="216000" cy="2732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000 h 273240"/>
              <a:gd name="textAreaBottom" fmla="*/ 264240 h 27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464"/>
                </a:lnTo>
                <a:cubicBezTo>
                  <a:pt x="10800" y="9632"/>
                  <a:pt x="5400" y="10800"/>
                  <a:pt x="0" y="10800"/>
                </a:cubicBezTo>
                <a:cubicBezTo>
                  <a:pt x="5400" y="10800"/>
                  <a:pt x="10800" y="11968"/>
                  <a:pt x="10800" y="13136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AutoShape 4"/>
          <p:cNvSpPr/>
          <p:nvPr/>
        </p:nvSpPr>
        <p:spPr>
          <a:xfrm rot="1223400">
            <a:off x="3131640" y="52340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Line 259"/>
          <p:cNvSpPr/>
          <p:nvPr/>
        </p:nvSpPr>
        <p:spPr>
          <a:xfrm flipV="1">
            <a:off x="4805280" y="2896920"/>
            <a:ext cx="22478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Line 268"/>
          <p:cNvSpPr/>
          <p:nvPr/>
        </p:nvSpPr>
        <p:spPr>
          <a:xfrm>
            <a:off x="4776840" y="2897280"/>
            <a:ext cx="331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Line 269"/>
          <p:cNvSpPr/>
          <p:nvPr/>
        </p:nvSpPr>
        <p:spPr>
          <a:xfrm>
            <a:off x="4862520" y="2911320"/>
            <a:ext cx="365040" cy="3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Line 270"/>
          <p:cNvSpPr/>
          <p:nvPr/>
        </p:nvSpPr>
        <p:spPr>
          <a:xfrm flipV="1">
            <a:off x="4805280" y="2892240"/>
            <a:ext cx="32724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Line 271"/>
          <p:cNvSpPr/>
          <p:nvPr/>
        </p:nvSpPr>
        <p:spPr>
          <a:xfrm flipV="1">
            <a:off x="4800600" y="28922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Line 272"/>
          <p:cNvSpPr/>
          <p:nvPr/>
        </p:nvSpPr>
        <p:spPr>
          <a:xfrm flipV="1">
            <a:off x="4786200" y="2892240"/>
            <a:ext cx="99396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Line 273"/>
          <p:cNvSpPr/>
          <p:nvPr/>
        </p:nvSpPr>
        <p:spPr>
          <a:xfrm>
            <a:off x="5584680" y="2892600"/>
            <a:ext cx="511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Line 274"/>
          <p:cNvSpPr/>
          <p:nvPr/>
        </p:nvSpPr>
        <p:spPr>
          <a:xfrm flipV="1">
            <a:off x="5203800" y="2879280"/>
            <a:ext cx="83340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Line 275"/>
          <p:cNvSpPr/>
          <p:nvPr/>
        </p:nvSpPr>
        <p:spPr>
          <a:xfrm flipV="1">
            <a:off x="5203800" y="2892240"/>
            <a:ext cx="10368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Line 276"/>
          <p:cNvSpPr/>
          <p:nvPr/>
        </p:nvSpPr>
        <p:spPr>
          <a:xfrm flipV="1">
            <a:off x="6067440" y="2879280"/>
            <a:ext cx="40176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Line 277"/>
          <p:cNvSpPr/>
          <p:nvPr/>
        </p:nvSpPr>
        <p:spPr>
          <a:xfrm flipV="1">
            <a:off x="5646600" y="2882520"/>
            <a:ext cx="99072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Line 278"/>
          <p:cNvSpPr/>
          <p:nvPr/>
        </p:nvSpPr>
        <p:spPr>
          <a:xfrm flipV="1">
            <a:off x="5203800" y="2892240"/>
            <a:ext cx="170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Rectangle 280"/>
          <p:cNvSpPr/>
          <p:nvPr/>
        </p:nvSpPr>
        <p:spPr>
          <a:xfrm>
            <a:off x="7431840" y="261288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2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Rectangle 281"/>
          <p:cNvSpPr/>
          <p:nvPr/>
        </p:nvSpPr>
        <p:spPr>
          <a:xfrm>
            <a:off x="4744440" y="2252520"/>
            <a:ext cx="22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   2    3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4    5     6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Rectangle 282"/>
          <p:cNvSpPr/>
          <p:nvPr/>
        </p:nvSpPr>
        <p:spPr>
          <a:xfrm>
            <a:off x="4453920" y="189396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омера нейронов в слое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Rectangle 283"/>
          <p:cNvSpPr/>
          <p:nvPr/>
        </p:nvSpPr>
        <p:spPr>
          <a:xfrm>
            <a:off x="2032200" y="25653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2-й шаг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AutoShape 284"/>
          <p:cNvSpPr/>
          <p:nvPr/>
        </p:nvSpPr>
        <p:spPr>
          <a:xfrm rot="19195200">
            <a:off x="2892240" y="386856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Rectangle 285"/>
          <p:cNvSpPr/>
          <p:nvPr/>
        </p:nvSpPr>
        <p:spPr>
          <a:xfrm>
            <a:off x="4668120" y="3668760"/>
            <a:ext cx="22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рафическая  форма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01" name="Group 336"/>
          <p:cNvGrpSpPr/>
          <p:nvPr/>
        </p:nvGrpSpPr>
        <p:grpSpPr>
          <a:xfrm>
            <a:off x="4635360" y="3246120"/>
            <a:ext cx="1627200" cy="360720"/>
            <a:chOff x="4635360" y="3246120"/>
            <a:chExt cx="1627200" cy="360720"/>
          </a:xfrm>
        </p:grpSpPr>
        <p:sp>
          <p:nvSpPr>
            <p:cNvPr id="802" name="AutoShape 327"/>
            <p:cNvSpPr/>
            <p:nvPr/>
          </p:nvSpPr>
          <p:spPr>
            <a:xfrm>
              <a:off x="4635360" y="3318120"/>
              <a:ext cx="360360" cy="288720"/>
            </a:xfrm>
            <a:prstGeom prst="wedgeRoundRectCallout">
              <a:avLst>
                <a:gd name="adj1" fmla="val 48675"/>
                <a:gd name="adj2" fmla="val 25273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AutoShape 328"/>
            <p:cNvSpPr/>
            <p:nvPr/>
          </p:nvSpPr>
          <p:spPr>
            <a:xfrm>
              <a:off x="5067360" y="3318120"/>
              <a:ext cx="360360" cy="288720"/>
            </a:xfrm>
            <a:prstGeom prst="wedgeRoundRectCallout">
              <a:avLst>
                <a:gd name="adj1" fmla="val 50000"/>
                <a:gd name="adj2" fmla="val 25273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AutoShape 329"/>
            <p:cNvSpPr/>
            <p:nvPr/>
          </p:nvSpPr>
          <p:spPr>
            <a:xfrm>
              <a:off x="5489640" y="3318120"/>
              <a:ext cx="360360" cy="288720"/>
            </a:xfrm>
            <a:prstGeom prst="wedgeRoundRectCallout">
              <a:avLst>
                <a:gd name="adj1" fmla="val 48675"/>
                <a:gd name="adj2" fmla="val 23624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AutoShape 330"/>
            <p:cNvSpPr/>
            <p:nvPr/>
          </p:nvSpPr>
          <p:spPr>
            <a:xfrm>
              <a:off x="5902200" y="3318120"/>
              <a:ext cx="360360" cy="288720"/>
            </a:xfrm>
            <a:prstGeom prst="wedgeRoundRectCallout">
              <a:avLst>
                <a:gd name="adj1" fmla="val 50000"/>
                <a:gd name="adj2" fmla="val 23624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Line 332"/>
            <p:cNvSpPr/>
            <p:nvPr/>
          </p:nvSpPr>
          <p:spPr>
            <a:xfrm flipV="1">
              <a:off x="4818240" y="32461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Line 333"/>
            <p:cNvSpPr/>
            <p:nvPr/>
          </p:nvSpPr>
          <p:spPr>
            <a:xfrm flipV="1">
              <a:off x="5230800" y="32461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Line 334"/>
            <p:cNvSpPr/>
            <p:nvPr/>
          </p:nvSpPr>
          <p:spPr>
            <a:xfrm flipV="1">
              <a:off x="5643720" y="32461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Line 335"/>
            <p:cNvSpPr/>
            <p:nvPr/>
          </p:nvSpPr>
          <p:spPr>
            <a:xfrm flipV="1">
              <a:off x="6075360" y="32461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0" name="Rectangle 344"/>
          <p:cNvSpPr/>
          <p:nvPr/>
        </p:nvSpPr>
        <p:spPr>
          <a:xfrm>
            <a:off x="4742280" y="327816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1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1" name="Group 345"/>
          <p:cNvGrpSpPr/>
          <p:nvPr/>
        </p:nvGrpSpPr>
        <p:grpSpPr>
          <a:xfrm>
            <a:off x="4614840" y="2676600"/>
            <a:ext cx="2533680" cy="228600"/>
            <a:chOff x="4614840" y="2676600"/>
            <a:chExt cx="2533680" cy="228600"/>
          </a:xfrm>
        </p:grpSpPr>
        <p:sp>
          <p:nvSpPr>
            <p:cNvPr id="812" name="AutoShape 346"/>
            <p:cNvSpPr/>
            <p:nvPr/>
          </p:nvSpPr>
          <p:spPr>
            <a:xfrm>
              <a:off x="4614840" y="2689200"/>
              <a:ext cx="360360" cy="216000"/>
            </a:xfrm>
            <a:prstGeom prst="wedgeRoundRectCallout">
              <a:avLst>
                <a:gd name="adj1" fmla="val 50000"/>
                <a:gd name="adj2" fmla="val 22060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AutoShape 347"/>
            <p:cNvSpPr/>
            <p:nvPr/>
          </p:nvSpPr>
          <p:spPr>
            <a:xfrm>
              <a:off x="5059080" y="2676600"/>
              <a:ext cx="360360" cy="216000"/>
            </a:xfrm>
            <a:prstGeom prst="wedgeRoundRectCallout">
              <a:avLst>
                <a:gd name="adj1" fmla="val 50000"/>
                <a:gd name="adj2" fmla="val 24263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AutoShape 348"/>
            <p:cNvSpPr/>
            <p:nvPr/>
          </p:nvSpPr>
          <p:spPr>
            <a:xfrm>
              <a:off x="5491080" y="2676600"/>
              <a:ext cx="360360" cy="216000"/>
            </a:xfrm>
            <a:prstGeom prst="wedgeRoundRectCallout">
              <a:avLst>
                <a:gd name="adj1" fmla="val 50000"/>
                <a:gd name="adj2" fmla="val 1985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AutoShape 349"/>
            <p:cNvSpPr/>
            <p:nvPr/>
          </p:nvSpPr>
          <p:spPr>
            <a:xfrm>
              <a:off x="5922720" y="2676600"/>
              <a:ext cx="360360" cy="216000"/>
            </a:xfrm>
            <a:prstGeom prst="wedgeRoundRectCallout">
              <a:avLst>
                <a:gd name="adj1" fmla="val 50000"/>
                <a:gd name="adj2" fmla="val 24263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AutoShape 350"/>
            <p:cNvSpPr/>
            <p:nvPr/>
          </p:nvSpPr>
          <p:spPr>
            <a:xfrm>
              <a:off x="6356160" y="2676600"/>
              <a:ext cx="360360" cy="216000"/>
            </a:xfrm>
            <a:prstGeom prst="wedgeRoundRectCallout">
              <a:avLst>
                <a:gd name="adj1" fmla="val 50000"/>
                <a:gd name="adj2" fmla="val 22060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AutoShape 351"/>
            <p:cNvSpPr/>
            <p:nvPr/>
          </p:nvSpPr>
          <p:spPr>
            <a:xfrm>
              <a:off x="6788160" y="2676600"/>
              <a:ext cx="360360" cy="216000"/>
            </a:xfrm>
            <a:prstGeom prst="wedgeRoundRectCallout">
              <a:avLst>
                <a:gd name="adj1" fmla="val 48680"/>
                <a:gd name="adj2" fmla="val 24263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Прямоугольник 47"/>
          <p:cNvSpPr/>
          <p:nvPr/>
        </p:nvSpPr>
        <p:spPr>
          <a:xfrm>
            <a:off x="2300400" y="321480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2 1 3 4 5 1 6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Номер слайда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5F6D-C320-484C-96AD-E2C9228C9D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2133720"/>
            <a:ext cx="7792920" cy="40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3-й шаг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k3=2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    12134516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мера цепочек в словарях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   2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     5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6</a:t>
            </a:r>
            <a:br>
              <a:rPr sz="18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2  13  45  16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L3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2  11  31  22  43  21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L2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 2 3 4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+   "01"10"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1"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00"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L1</a:t>
            </a:r>
            <a:br>
              <a:rPr sz="2000"/>
            </a:b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AutoShape 3"/>
          <p:cNvSpPr/>
          <p:nvPr/>
        </p:nvSpPr>
        <p:spPr>
          <a:xfrm rot="5400000">
            <a:off x="1837800" y="3904920"/>
            <a:ext cx="216000" cy="2732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000 h 273240"/>
              <a:gd name="textAreaBottom" fmla="*/ 264240 h 27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464"/>
                </a:lnTo>
                <a:cubicBezTo>
                  <a:pt x="10800" y="9632"/>
                  <a:pt x="5400" y="10800"/>
                  <a:pt x="0" y="10800"/>
                </a:cubicBezTo>
                <a:cubicBezTo>
                  <a:pt x="5400" y="10800"/>
                  <a:pt x="10800" y="11968"/>
                  <a:pt x="10800" y="13136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AutoShape 4"/>
          <p:cNvSpPr/>
          <p:nvPr/>
        </p:nvSpPr>
        <p:spPr>
          <a:xfrm rot="2309400">
            <a:off x="2844360" y="4797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Номер слайда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4C29-21E2-4166-96A9-DF7E526656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50560" y="1915920"/>
            <a:ext cx="779292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4-й шаг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k4=2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мера цепочек в словарях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    1234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   3    4    5    6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12  34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L4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12  13  45  16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L3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12  11  31  22  43  21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L2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      1 2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+    "01"10"11"00"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L1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AutoShape 3"/>
          <p:cNvSpPr/>
          <p:nvPr/>
        </p:nvSpPr>
        <p:spPr>
          <a:xfrm rot="1515600">
            <a:off x="2626920" y="4724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AutoShape 4"/>
          <p:cNvSpPr/>
          <p:nvPr/>
        </p:nvSpPr>
        <p:spPr>
          <a:xfrm rot="5400000">
            <a:off x="1837800" y="3831840"/>
            <a:ext cx="216000" cy="2732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000 h 273240"/>
              <a:gd name="textAreaBottom" fmla="*/ 264240 h 27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464"/>
                </a:lnTo>
                <a:cubicBezTo>
                  <a:pt x="10800" y="9632"/>
                  <a:pt x="5400" y="10800"/>
                  <a:pt x="0" y="10800"/>
                </a:cubicBezTo>
                <a:cubicBezTo>
                  <a:pt x="5400" y="10800"/>
                  <a:pt x="10800" y="11968"/>
                  <a:pt x="10800" y="13136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Номер слайда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E5A4-5538-4649-AD02-2791C4CC62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50560" y="1557360"/>
            <a:ext cx="7792920" cy="47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5-й шаг   k5=2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 исходная ТФ:  "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0110010101101101101000110110100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",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ностью переходит в НС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Ссылк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мер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 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на предыдущи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оваре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 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1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словар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лоев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 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12  3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и "терминальны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 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12  13  45  16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ловарь"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 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12  11  31  22  43  2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"01"10"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11"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00"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1    2    3    4    5    6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Номера элементов в словаре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1531080" y="285840"/>
            <a:ext cx="63025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СС  –  это  иерархическ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вершенная 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уктура  индексов 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 терминальный  словарь.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902B-CD3B-477D-854C-78783BFD57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59840" cy="43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мера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6   6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сыл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словаре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5   5 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1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на предыдущи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(слоев)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4   4 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12  3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словари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3   3 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12  13  45  16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и "алфавит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Включе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2   2 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12  11  31  22  43  2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в НСС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1   1 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12  21  22  11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алфавита   А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0   А     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"0" "1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1   2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   6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Номера элементов в словаре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1384920" y="549360"/>
            <a:ext cx="73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образование  терминального  словаря 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 терминальный  алфавит, ведением  0-го слоя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186E-9B2E-4273-A574-F173B54DD5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79280" y="475920"/>
            <a:ext cx="65516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труктурное  описание  НСС  можно представить  в  виде  многодольного  графа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37" name="Object 5"/>
          <p:cNvGraphicFramePr/>
          <p:nvPr/>
        </p:nvGraphicFramePr>
        <p:xfrm>
          <a:off x="3924360" y="1859040"/>
          <a:ext cx="6192720" cy="43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859040"/>
                    <a:ext cx="6192720" cy="43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Rectangle 6"/>
          <p:cNvSpPr/>
          <p:nvPr/>
        </p:nvSpPr>
        <p:spPr>
          <a:xfrm>
            <a:off x="630360" y="5667840"/>
            <a:ext cx="790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лгоритм обратного преобразования НСС в текстовую форм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существляется уже за меньшее число операций и идет "сверху-вниз".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878040" y="4614840"/>
            <a:ext cx="47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Исходная ТФ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0110010101101101101000110110100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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0"/>
          <p:cNvSpPr/>
          <p:nvPr/>
        </p:nvSpPr>
        <p:spPr>
          <a:xfrm>
            <a:off x="6500880" y="207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НСС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2" name="Group 12"/>
          <p:cNvGrpSpPr/>
          <p:nvPr/>
        </p:nvGrpSpPr>
        <p:grpSpPr>
          <a:xfrm>
            <a:off x="324000" y="2637000"/>
            <a:ext cx="1800000" cy="2016000"/>
            <a:chOff x="324000" y="2637000"/>
            <a:chExt cx="1800000" cy="2016000"/>
          </a:xfrm>
        </p:grpSpPr>
        <p:grpSp>
          <p:nvGrpSpPr>
            <p:cNvPr id="843" name="Group 13"/>
            <p:cNvGrpSpPr/>
            <p:nvPr/>
          </p:nvGrpSpPr>
          <p:grpSpPr>
            <a:xfrm>
              <a:off x="324000" y="2637000"/>
              <a:ext cx="1800000" cy="2016000"/>
              <a:chOff x="324000" y="2637000"/>
              <a:chExt cx="1800000" cy="2016000"/>
            </a:xfrm>
          </p:grpSpPr>
          <p:grpSp>
            <p:nvGrpSpPr>
              <p:cNvPr id="844" name="Group 14"/>
              <p:cNvGrpSpPr/>
              <p:nvPr/>
            </p:nvGrpSpPr>
            <p:grpSpPr>
              <a:xfrm>
                <a:off x="324000" y="2637000"/>
                <a:ext cx="1800000" cy="2016000"/>
                <a:chOff x="324000" y="2637000"/>
                <a:chExt cx="1800000" cy="2016000"/>
              </a:xfrm>
            </p:grpSpPr>
            <p:sp>
              <p:nvSpPr>
                <p:cNvPr id="845" name="AutoShape 15"/>
                <p:cNvSpPr/>
                <p:nvPr/>
              </p:nvSpPr>
              <p:spPr>
                <a:xfrm>
                  <a:off x="324000" y="2637000"/>
                  <a:ext cx="1800000" cy="2016000"/>
                </a:xfrm>
                <a:prstGeom prst="wedgeRoundRectCallout">
                  <a:avLst>
                    <a:gd name="adj1" fmla="val -17611"/>
                    <a:gd name="adj2" fmla="val 50212"/>
                    <a:gd name="adj3" fmla="val 16667"/>
                  </a:avLst>
                </a:prstGeom>
                <a:solidFill>
                  <a:srgbClr val="ccffcc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8000"/>
                      </a:solidFill>
                      <a:latin typeface="Tahoma"/>
                    </a:rPr>
                    <a:t>Предметная область</a:t>
                  </a: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    </a:t>
                  </a: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  </a:t>
                  </a: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846" name="Group 16"/>
                <p:cNvGrpSpPr/>
                <p:nvPr/>
              </p:nvGrpSpPr>
              <p:grpSpPr>
                <a:xfrm>
                  <a:off x="374040" y="2939040"/>
                  <a:ext cx="1599840" cy="1713240"/>
                  <a:chOff x="374040" y="2939040"/>
                  <a:chExt cx="1599840" cy="1713240"/>
                </a:xfrm>
              </p:grpSpPr>
              <p:sp>
                <p:nvSpPr>
                  <p:cNvPr id="847" name="Documents"/>
                  <p:cNvSpPr/>
                  <p:nvPr/>
                </p:nvSpPr>
                <p:spPr>
                  <a:xfrm>
                    <a:off x="1474560" y="2939040"/>
                    <a:ext cx="499320" cy="1123560"/>
                  </a:xfrm>
                  <a:prstGeom prst="pie">
                    <a:avLst/>
                  </a:prstGeom>
                  <a:solidFill>
                    <a:srgbClr val="d8ebb3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8" name="Sound"/>
                  <p:cNvSpPr/>
                  <p:nvPr/>
                </p:nvSpPr>
                <p:spPr>
                  <a:xfrm>
                    <a:off x="1574640" y="4131000"/>
                    <a:ext cx="334080" cy="408960"/>
                  </a:xfrm>
                  <a:prstGeom prst="pie">
                    <a:avLst/>
                  </a:prstGeom>
                  <a:solidFill>
                    <a:srgbClr val="ffbe7d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9" name="scanner1"/>
                  <p:cNvSpPr/>
                  <p:nvPr/>
                </p:nvSpPr>
                <p:spPr>
                  <a:xfrm>
                    <a:off x="374040" y="4313880"/>
                    <a:ext cx="399240" cy="274680"/>
                  </a:xfrm>
                  <a:prstGeom prst="pi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850" name="Group 20"/>
                  <p:cNvGrpSpPr/>
                  <p:nvPr/>
                </p:nvGrpSpPr>
                <p:grpSpPr>
                  <a:xfrm>
                    <a:off x="420480" y="3187080"/>
                    <a:ext cx="1051200" cy="1465200"/>
                    <a:chOff x="420480" y="3187080"/>
                    <a:chExt cx="1051200" cy="1465200"/>
                  </a:xfrm>
                </p:grpSpPr>
                <p:sp>
                  <p:nvSpPr>
                    <p:cNvPr id="851" name="Freeform 21"/>
                    <p:cNvSpPr/>
                    <p:nvPr/>
                  </p:nvSpPr>
                  <p:spPr>
                    <a:xfrm>
                      <a:off x="420480" y="3187080"/>
                      <a:ext cx="502560" cy="6832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2" name="Freeform 22"/>
                    <p:cNvSpPr/>
                    <p:nvPr/>
                  </p:nvSpPr>
                  <p:spPr>
                    <a:xfrm>
                      <a:off x="972720" y="3919680"/>
                      <a:ext cx="498960" cy="732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3" name="Freeform 23"/>
                    <p:cNvSpPr/>
                    <p:nvPr/>
                  </p:nvSpPr>
                  <p:spPr>
                    <a:xfrm>
                      <a:off x="520200" y="3327840"/>
                      <a:ext cx="502200" cy="6832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4" name="Freeform 24"/>
                    <p:cNvSpPr/>
                    <p:nvPr/>
                  </p:nvSpPr>
                  <p:spPr>
                    <a:xfrm>
                      <a:off x="640080" y="3484080"/>
                      <a:ext cx="502560" cy="6832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5" name="Freeform 25"/>
                    <p:cNvSpPr/>
                    <p:nvPr/>
                  </p:nvSpPr>
                  <p:spPr>
                    <a:xfrm>
                      <a:off x="750240" y="3632760"/>
                      <a:ext cx="502560" cy="6832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6" name="Freeform 26"/>
                    <p:cNvSpPr/>
                    <p:nvPr/>
                  </p:nvSpPr>
                  <p:spPr>
                    <a:xfrm>
                      <a:off x="860040" y="3781080"/>
                      <a:ext cx="502200" cy="6832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857" name="Group 27"/>
                    <p:cNvGrpSpPr/>
                    <p:nvPr/>
                  </p:nvGrpSpPr>
                  <p:grpSpPr>
                    <a:xfrm>
                      <a:off x="1054440" y="4038480"/>
                      <a:ext cx="338040" cy="514800"/>
                      <a:chOff x="1054440" y="4038480"/>
                      <a:chExt cx="338040" cy="514800"/>
                    </a:xfrm>
                  </p:grpSpPr>
                  <p:sp>
                    <p:nvSpPr>
                      <p:cNvPr id="858" name="Freeform 28"/>
                      <p:cNvSpPr/>
                      <p:nvPr/>
                    </p:nvSpPr>
                    <p:spPr>
                      <a:xfrm>
                        <a:off x="1146600" y="4038480"/>
                        <a:ext cx="245880" cy="7056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120" bIns="24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59" name="Freeform 29"/>
                      <p:cNvSpPr/>
                      <p:nvPr/>
                    </p:nvSpPr>
                    <p:spPr>
                      <a:xfrm>
                        <a:off x="1111680" y="4186800"/>
                        <a:ext cx="245880" cy="7020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60" name="Freeform 30"/>
                      <p:cNvSpPr/>
                      <p:nvPr/>
                    </p:nvSpPr>
                    <p:spPr>
                      <a:xfrm>
                        <a:off x="1138320" y="4101480"/>
                        <a:ext cx="245880" cy="7056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120" bIns="24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61" name="Freeform 31"/>
                      <p:cNvSpPr/>
                      <p:nvPr/>
                    </p:nvSpPr>
                    <p:spPr>
                      <a:xfrm>
                        <a:off x="1095840" y="4263120"/>
                        <a:ext cx="245880" cy="7056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120" bIns="24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62" name="Freeform 32"/>
                      <p:cNvSpPr/>
                      <p:nvPr/>
                    </p:nvSpPr>
                    <p:spPr>
                      <a:xfrm>
                        <a:off x="1082880" y="4334040"/>
                        <a:ext cx="245880" cy="7056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120" bIns="24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63" name="Freeform 33"/>
                      <p:cNvSpPr/>
                      <p:nvPr/>
                    </p:nvSpPr>
                    <p:spPr>
                      <a:xfrm>
                        <a:off x="1054440" y="4482720"/>
                        <a:ext cx="245880" cy="7056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120" bIns="24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64" name="Freeform 34"/>
                      <p:cNvSpPr/>
                      <p:nvPr/>
                    </p:nvSpPr>
                    <p:spPr>
                      <a:xfrm>
                        <a:off x="1061280" y="4404960"/>
                        <a:ext cx="245880" cy="7056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prstDash val="sysDot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120" bIns="24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65" name="Group 35"/>
              <p:cNvGrpSpPr/>
              <p:nvPr/>
            </p:nvGrpSpPr>
            <p:grpSpPr>
              <a:xfrm>
                <a:off x="1516320" y="3214080"/>
                <a:ext cx="357480" cy="732600"/>
                <a:chOff x="1516320" y="3214080"/>
                <a:chExt cx="357480" cy="732600"/>
              </a:xfrm>
            </p:grpSpPr>
            <p:sp>
              <p:nvSpPr>
                <p:cNvPr id="866" name="Freeform 36"/>
                <p:cNvSpPr/>
                <p:nvPr/>
              </p:nvSpPr>
              <p:spPr>
                <a:xfrm>
                  <a:off x="1523880" y="3214080"/>
                  <a:ext cx="349920" cy="9144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7" name="Freeform 37"/>
                <p:cNvSpPr/>
                <p:nvPr/>
              </p:nvSpPr>
              <p:spPr>
                <a:xfrm>
                  <a:off x="1520640" y="3362400"/>
                  <a:ext cx="349920" cy="9144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8" name="Freeform 38"/>
                <p:cNvSpPr/>
                <p:nvPr/>
              </p:nvSpPr>
              <p:spPr>
                <a:xfrm>
                  <a:off x="1523880" y="3511080"/>
                  <a:ext cx="349920" cy="9144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9" name="Freeform 39"/>
                <p:cNvSpPr/>
                <p:nvPr/>
              </p:nvSpPr>
              <p:spPr>
                <a:xfrm>
                  <a:off x="1516320" y="3672000"/>
                  <a:ext cx="349920" cy="9144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0" name="Freeform 40"/>
                <p:cNvSpPr/>
                <p:nvPr/>
              </p:nvSpPr>
              <p:spPr>
                <a:xfrm>
                  <a:off x="1516320" y="3855240"/>
                  <a:ext cx="349920" cy="9144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1" name="Freeform 41"/>
                <p:cNvSpPr/>
                <p:nvPr/>
              </p:nvSpPr>
              <p:spPr>
                <a:xfrm>
                  <a:off x="1516320" y="3284280"/>
                  <a:ext cx="349920" cy="9144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2" name="Freeform 42"/>
                <p:cNvSpPr/>
                <p:nvPr/>
              </p:nvSpPr>
              <p:spPr>
                <a:xfrm>
                  <a:off x="1516320" y="3432960"/>
                  <a:ext cx="349920" cy="9144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3" name="Freeform 43"/>
                <p:cNvSpPr/>
                <p:nvPr/>
              </p:nvSpPr>
              <p:spPr>
                <a:xfrm>
                  <a:off x="1523880" y="3581640"/>
                  <a:ext cx="349920" cy="9144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4" name="Freeform 44"/>
                <p:cNvSpPr/>
                <p:nvPr/>
              </p:nvSpPr>
              <p:spPr>
                <a:xfrm>
                  <a:off x="1523880" y="3763800"/>
                  <a:ext cx="349920" cy="91440"/>
                </a:xfrm>
                <a:prstGeom prst="pie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75" name="Music"/>
            <p:cNvSpPr/>
            <p:nvPr/>
          </p:nvSpPr>
          <p:spPr>
            <a:xfrm>
              <a:off x="1374840" y="4194000"/>
              <a:ext cx="230040" cy="34596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6" name="Group 46"/>
          <p:cNvGrpSpPr/>
          <p:nvPr/>
        </p:nvGrpSpPr>
        <p:grpSpPr>
          <a:xfrm>
            <a:off x="507960" y="3346560"/>
            <a:ext cx="1042560" cy="674640"/>
            <a:chOff x="507960" y="3346560"/>
            <a:chExt cx="1042560" cy="674640"/>
          </a:xfrm>
        </p:grpSpPr>
        <p:pic>
          <p:nvPicPr>
            <p:cNvPr id="877" name="Picture 47" descr="j0234687"/>
            <p:cNvPicPr/>
            <p:nvPr/>
          </p:nvPicPr>
          <p:blipFill>
            <a:blip r:embed="rId3"/>
            <a:stretch/>
          </p:blipFill>
          <p:spPr>
            <a:xfrm>
              <a:off x="507960" y="3346560"/>
              <a:ext cx="70596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j0285360"/>
            <p:cNvPicPr/>
            <p:nvPr/>
          </p:nvPicPr>
          <p:blipFill>
            <a:blip r:embed="rId4"/>
            <a:stretch/>
          </p:blipFill>
          <p:spPr>
            <a:xfrm>
              <a:off x="1197720" y="3526920"/>
              <a:ext cx="352800" cy="44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Freeform 49"/>
          <p:cNvSpPr/>
          <p:nvPr/>
        </p:nvSpPr>
        <p:spPr>
          <a:xfrm>
            <a:off x="731880" y="4797360"/>
            <a:ext cx="168120" cy="287280"/>
          </a:xfrm>
          <a:prstGeom prst="pie">
            <a:avLst/>
          </a:prstGeom>
          <a:noFill/>
          <a:ln w="2844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1963-E6A8-4002-890E-D8868AF5AF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674064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Алгоритмы  преобразования  ТФ  в  НСС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Rectangle 7"/>
          <p:cNvSpPr/>
          <p:nvPr/>
        </p:nvSpPr>
        <p:spPr>
          <a:xfrm>
            <a:off x="446040" y="2276640"/>
            <a:ext cx="477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Алгоритм "А2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01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10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010101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01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01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01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00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01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01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01</a:t>
            </a: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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5" name="Object 9"/>
          <p:cNvGraphicFramePr/>
          <p:nvPr/>
        </p:nvGraphicFramePr>
        <p:xfrm>
          <a:off x="5292720" y="2038320"/>
          <a:ext cx="112248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2038320"/>
                    <a:ext cx="112248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7" name="Rectangle 11"/>
          <p:cNvSpPr/>
          <p:nvPr/>
        </p:nvSpPr>
        <p:spPr>
          <a:xfrm>
            <a:off x="539640" y="234144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k1=2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AutoShape 13"/>
          <p:cNvSpPr/>
          <p:nvPr/>
        </p:nvSpPr>
        <p:spPr>
          <a:xfrm rot="5400000">
            <a:off x="536040" y="2679480"/>
            <a:ext cx="216000" cy="2732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000 h 273240"/>
              <a:gd name="textAreaBottom" fmla="*/ 264240 h 27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464"/>
                </a:lnTo>
                <a:cubicBezTo>
                  <a:pt x="10800" y="9632"/>
                  <a:pt x="5400" y="10800"/>
                  <a:pt x="0" y="10800"/>
                </a:cubicBezTo>
                <a:cubicBezTo>
                  <a:pt x="5400" y="10800"/>
                  <a:pt x="10800" y="11968"/>
                  <a:pt x="10800" y="13136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Rectangle 21"/>
          <p:cNvSpPr/>
          <p:nvPr/>
        </p:nvSpPr>
        <p:spPr>
          <a:xfrm>
            <a:off x="539640" y="3860640"/>
            <a:ext cx="477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Алгоритм "А3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0110010101101101101000110110100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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AutoShape 22"/>
          <p:cNvSpPr/>
          <p:nvPr/>
        </p:nvSpPr>
        <p:spPr>
          <a:xfrm rot="5400000">
            <a:off x="1187640" y="3788640"/>
            <a:ext cx="216000" cy="122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400 h 1223640"/>
              <a:gd name="textAreaBottom" fmla="*/ 1182240 h 122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464"/>
                </a:lnTo>
                <a:cubicBezTo>
                  <a:pt x="10800" y="9632"/>
                  <a:pt x="5400" y="10800"/>
                  <a:pt x="0" y="10800"/>
                </a:cubicBezTo>
                <a:cubicBezTo>
                  <a:pt x="5400" y="10800"/>
                  <a:pt x="10800" y="11968"/>
                  <a:pt x="10800" y="13136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AutoShape 23"/>
          <p:cNvSpPr/>
          <p:nvPr/>
        </p:nvSpPr>
        <p:spPr>
          <a:xfrm rot="5400000">
            <a:off x="2496240" y="3737880"/>
            <a:ext cx="216000" cy="13255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4640 h 1325520"/>
              <a:gd name="textAreaBottom" fmla="*/ 1280880 h 132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464"/>
                </a:lnTo>
                <a:cubicBezTo>
                  <a:pt x="10800" y="9632"/>
                  <a:pt x="5400" y="10800"/>
                  <a:pt x="0" y="10800"/>
                </a:cubicBezTo>
                <a:cubicBezTo>
                  <a:pt x="5400" y="10800"/>
                  <a:pt x="10800" y="11968"/>
                  <a:pt x="10800" y="13136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AutoShape 24"/>
          <p:cNvSpPr/>
          <p:nvPr/>
        </p:nvSpPr>
        <p:spPr>
          <a:xfrm rot="5400000">
            <a:off x="3866040" y="3731400"/>
            <a:ext cx="228600" cy="1325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4640 h 1325520"/>
              <a:gd name="textAreaBottom" fmla="*/ 1280880 h 132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464"/>
                </a:lnTo>
                <a:cubicBezTo>
                  <a:pt x="10800" y="9632"/>
                  <a:pt x="5400" y="10800"/>
                  <a:pt x="0" y="10800"/>
                </a:cubicBezTo>
                <a:cubicBezTo>
                  <a:pt x="5400" y="10800"/>
                  <a:pt x="10800" y="11968"/>
                  <a:pt x="10800" y="13136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Freeform 25"/>
          <p:cNvSpPr/>
          <p:nvPr/>
        </p:nvSpPr>
        <p:spPr>
          <a:xfrm>
            <a:off x="5364000" y="3573360"/>
            <a:ext cx="986040" cy="1079640"/>
          </a:xfrm>
          <a:prstGeom prst="pie">
            <a:avLst/>
          </a:prstGeom>
          <a:solidFill>
            <a:srgbClr val="00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Rectangle 26"/>
          <p:cNvSpPr/>
          <p:nvPr/>
        </p:nvSpPr>
        <p:spPr>
          <a:xfrm>
            <a:off x="611280" y="5157720"/>
            <a:ext cx="47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               …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Алгоритм "А9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0110010101101101101000110110100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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Freeform 27"/>
          <p:cNvSpPr/>
          <p:nvPr/>
        </p:nvSpPr>
        <p:spPr>
          <a:xfrm>
            <a:off x="5435640" y="5229360"/>
            <a:ext cx="985680" cy="1079280"/>
          </a:xfrm>
          <a:prstGeom prst="pie">
            <a:avLst/>
          </a:prstGeom>
          <a:solidFill>
            <a:srgbClr val="00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Freeform 29"/>
          <p:cNvSpPr/>
          <p:nvPr/>
        </p:nvSpPr>
        <p:spPr>
          <a:xfrm>
            <a:off x="5445000" y="5381640"/>
            <a:ext cx="792360" cy="936720"/>
          </a:xfrm>
          <a:prstGeom prst="pie">
            <a:avLst/>
          </a:prstGeom>
          <a:solidFill>
            <a:srgbClr val="ffcc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Freeform 30"/>
          <p:cNvSpPr/>
          <p:nvPr/>
        </p:nvSpPr>
        <p:spPr>
          <a:xfrm>
            <a:off x="5435640" y="5524560"/>
            <a:ext cx="566640" cy="784080"/>
          </a:xfrm>
          <a:prstGeom prst="pie">
            <a:avLst/>
          </a:prstGeom>
          <a:solidFill>
            <a:srgbClr val="c5f8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Freeform 31"/>
          <p:cNvSpPr/>
          <p:nvPr/>
        </p:nvSpPr>
        <p:spPr>
          <a:xfrm>
            <a:off x="5435640" y="5740560"/>
            <a:ext cx="431640" cy="568080"/>
          </a:xfrm>
          <a:prstGeom prst="pie">
            <a:avLst/>
          </a:prstGeom>
          <a:solidFill>
            <a:srgbClr val="cc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Text Box 32"/>
          <p:cNvSpPr/>
          <p:nvPr/>
        </p:nvSpPr>
        <p:spPr>
          <a:xfrm>
            <a:off x="6443640" y="3213000"/>
            <a:ext cx="1655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   t 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СС 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се  НСС структуры квази-изоморфны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Freeform 34"/>
          <p:cNvSpPr/>
          <p:nvPr/>
        </p:nvSpPr>
        <p:spPr>
          <a:xfrm>
            <a:off x="8244000" y="3645000"/>
            <a:ext cx="734760" cy="863640"/>
          </a:xfrm>
          <a:prstGeom prst="pie">
            <a:avLst/>
          </a:prstGeom>
          <a:solidFill>
            <a:srgbClr val="00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Text Box 35"/>
          <p:cNvSpPr/>
          <p:nvPr/>
        </p:nvSpPr>
        <p:spPr>
          <a:xfrm>
            <a:off x="781200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Line 36"/>
          <p:cNvSpPr/>
          <p:nvPr/>
        </p:nvSpPr>
        <p:spPr>
          <a:xfrm>
            <a:off x="468360" y="314172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Freeform 38"/>
          <p:cNvSpPr/>
          <p:nvPr/>
        </p:nvSpPr>
        <p:spPr>
          <a:xfrm>
            <a:off x="698400" y="4838760"/>
            <a:ext cx="1327320" cy="390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Freeform 39"/>
          <p:cNvSpPr/>
          <p:nvPr/>
        </p:nvSpPr>
        <p:spPr>
          <a:xfrm>
            <a:off x="2050920" y="4838760"/>
            <a:ext cx="1327320" cy="390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Freeform 40"/>
          <p:cNvSpPr/>
          <p:nvPr/>
        </p:nvSpPr>
        <p:spPr>
          <a:xfrm>
            <a:off x="3348000" y="4838760"/>
            <a:ext cx="1327320" cy="390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6" name="Group 45"/>
          <p:cNvGrpSpPr/>
          <p:nvPr/>
        </p:nvGrpSpPr>
        <p:grpSpPr>
          <a:xfrm>
            <a:off x="4284720" y="6308640"/>
            <a:ext cx="431640" cy="144720"/>
            <a:chOff x="4284720" y="6308640"/>
            <a:chExt cx="431640" cy="144720"/>
          </a:xfrm>
        </p:grpSpPr>
        <p:sp>
          <p:nvSpPr>
            <p:cNvPr id="907" name="Oval 46"/>
            <p:cNvSpPr/>
            <p:nvPr/>
          </p:nvSpPr>
          <p:spPr>
            <a:xfrm>
              <a:off x="4284720" y="6308640"/>
              <a:ext cx="431640" cy="1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Line 47"/>
            <p:cNvSpPr/>
            <p:nvPr/>
          </p:nvSpPr>
          <p:spPr>
            <a:xfrm>
              <a:off x="4500720" y="6308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9" name="Group 48"/>
          <p:cNvGrpSpPr/>
          <p:nvPr/>
        </p:nvGrpSpPr>
        <p:grpSpPr>
          <a:xfrm>
            <a:off x="2050920" y="6308640"/>
            <a:ext cx="431640" cy="144720"/>
            <a:chOff x="2050920" y="6308640"/>
            <a:chExt cx="431640" cy="144720"/>
          </a:xfrm>
        </p:grpSpPr>
        <p:sp>
          <p:nvSpPr>
            <p:cNvPr id="910" name="Oval 49"/>
            <p:cNvSpPr/>
            <p:nvPr/>
          </p:nvSpPr>
          <p:spPr>
            <a:xfrm>
              <a:off x="2050920" y="6308640"/>
              <a:ext cx="431640" cy="1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Line 50"/>
            <p:cNvSpPr/>
            <p:nvPr/>
          </p:nvSpPr>
          <p:spPr>
            <a:xfrm>
              <a:off x="2266920" y="6308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2" name="Group 51"/>
          <p:cNvGrpSpPr/>
          <p:nvPr/>
        </p:nvGrpSpPr>
        <p:grpSpPr>
          <a:xfrm>
            <a:off x="1619280" y="6308640"/>
            <a:ext cx="431640" cy="144720"/>
            <a:chOff x="1619280" y="6308640"/>
            <a:chExt cx="431640" cy="144720"/>
          </a:xfrm>
        </p:grpSpPr>
        <p:sp>
          <p:nvSpPr>
            <p:cNvPr id="913" name="Oval 52"/>
            <p:cNvSpPr/>
            <p:nvPr/>
          </p:nvSpPr>
          <p:spPr>
            <a:xfrm>
              <a:off x="1619280" y="6308640"/>
              <a:ext cx="431640" cy="1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53"/>
            <p:cNvSpPr/>
            <p:nvPr/>
          </p:nvSpPr>
          <p:spPr>
            <a:xfrm>
              <a:off x="1835280" y="6308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5" name="Group 54"/>
          <p:cNvGrpSpPr/>
          <p:nvPr/>
        </p:nvGrpSpPr>
        <p:grpSpPr>
          <a:xfrm>
            <a:off x="755640" y="6308640"/>
            <a:ext cx="863280" cy="144720"/>
            <a:chOff x="755640" y="6308640"/>
            <a:chExt cx="863280" cy="144720"/>
          </a:xfrm>
        </p:grpSpPr>
        <p:sp>
          <p:nvSpPr>
            <p:cNvPr id="916" name="Oval 55"/>
            <p:cNvSpPr/>
            <p:nvPr/>
          </p:nvSpPr>
          <p:spPr>
            <a:xfrm>
              <a:off x="755640" y="6308640"/>
              <a:ext cx="863280" cy="1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Line 56"/>
            <p:cNvSpPr/>
            <p:nvPr/>
          </p:nvSpPr>
          <p:spPr>
            <a:xfrm>
              <a:off x="1187640" y="630864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8" name="Group 57"/>
          <p:cNvGrpSpPr/>
          <p:nvPr/>
        </p:nvGrpSpPr>
        <p:grpSpPr>
          <a:xfrm>
            <a:off x="3132000" y="6308640"/>
            <a:ext cx="431640" cy="144720"/>
            <a:chOff x="3132000" y="6308640"/>
            <a:chExt cx="431640" cy="144720"/>
          </a:xfrm>
        </p:grpSpPr>
        <p:sp>
          <p:nvSpPr>
            <p:cNvPr id="919" name="Oval 58"/>
            <p:cNvSpPr/>
            <p:nvPr/>
          </p:nvSpPr>
          <p:spPr>
            <a:xfrm>
              <a:off x="3132000" y="6308640"/>
              <a:ext cx="431640" cy="1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59"/>
            <p:cNvSpPr/>
            <p:nvPr/>
          </p:nvSpPr>
          <p:spPr>
            <a:xfrm>
              <a:off x="3348000" y="6308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1" name="Group 60"/>
          <p:cNvGrpSpPr/>
          <p:nvPr/>
        </p:nvGrpSpPr>
        <p:grpSpPr>
          <a:xfrm>
            <a:off x="2484360" y="6308640"/>
            <a:ext cx="647280" cy="144720"/>
            <a:chOff x="2484360" y="6308640"/>
            <a:chExt cx="647280" cy="144720"/>
          </a:xfrm>
        </p:grpSpPr>
        <p:sp>
          <p:nvSpPr>
            <p:cNvPr id="922" name="Oval 61"/>
            <p:cNvSpPr/>
            <p:nvPr/>
          </p:nvSpPr>
          <p:spPr>
            <a:xfrm>
              <a:off x="2484360" y="6308640"/>
              <a:ext cx="647280" cy="1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Line 62"/>
            <p:cNvSpPr/>
            <p:nvPr/>
          </p:nvSpPr>
          <p:spPr>
            <a:xfrm>
              <a:off x="2808360" y="6308640"/>
              <a:ext cx="10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4" name="Group 63"/>
          <p:cNvGrpSpPr/>
          <p:nvPr/>
        </p:nvGrpSpPr>
        <p:grpSpPr>
          <a:xfrm>
            <a:off x="3564000" y="6308640"/>
            <a:ext cx="718560" cy="144720"/>
            <a:chOff x="3564000" y="6308640"/>
            <a:chExt cx="718560" cy="144720"/>
          </a:xfrm>
        </p:grpSpPr>
        <p:sp>
          <p:nvSpPr>
            <p:cNvPr id="925" name="Oval 64"/>
            <p:cNvSpPr/>
            <p:nvPr/>
          </p:nvSpPr>
          <p:spPr>
            <a:xfrm>
              <a:off x="3564000" y="6308640"/>
              <a:ext cx="718560" cy="1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65"/>
            <p:cNvSpPr/>
            <p:nvPr/>
          </p:nvSpPr>
          <p:spPr>
            <a:xfrm>
              <a:off x="3923640" y="6308640"/>
              <a:ext cx="11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6436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арактеристики ассоциативной памяти на базе НСС: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время доступ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коэффициент компрессии-сжати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надежность хранения информации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и др.)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имеют тенденцию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к улучшению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как в среднем, так и в абсолютных значениях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по мере роста объема вводимой информации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из ПО.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182600" y="3213000"/>
            <a:ext cx="7772400" cy="29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30" name="Object 5"/>
          <p:cNvGraphicFramePr/>
          <p:nvPr/>
        </p:nvGraphicFramePr>
        <p:xfrm>
          <a:off x="250920" y="3213000"/>
          <a:ext cx="7921440" cy="35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213000"/>
                    <a:ext cx="7921440" cy="35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280" y="387000"/>
            <a:ext cx="6696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Информационная экономи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15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08000" y="2351880"/>
            <a:ext cx="903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ермин </a:t>
            </a:r>
            <a:r>
              <a:rPr b="0" lang="en-GB" sz="16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"экономика знаний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был введен американским ученым Ф.Махлупом в 1962 г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90-х годов </a:t>
            </a:r>
            <a:r>
              <a:rPr b="0" lang="en-GB" sz="16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"экономика знаний",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как ускоренное развитие нематериальной сферы и нематериальной среды хозяйственной деятельности, стала реальностью в США и др.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90% объема знаний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, которым располагает человечество, получено за последние 30 лет,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90% из общего числа ученых и инженеров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, за всю историю цивилизации, - это наши современники. Это наиболее явные признаки </a:t>
            </a:r>
            <a:r>
              <a:rPr b="0" lang="en-GB" sz="1600" spc="-1" strike="noStrike">
                <a:solidFill>
                  <a:srgbClr val="333399"/>
                </a:solidFill>
                <a:latin typeface="Times New Roman"/>
                <a:ea typeface="Lucida Sans Unicode"/>
              </a:rPr>
              <a:t>экономики основанной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на знаниях.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231080"/>
            <a:ext cx="8424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  <a:ea typeface="Lucida Sans Unicode"/>
              </a:rPr>
              <a:t>Основные направления реализации стратегии Российской Федерации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в области развития науки и инноваций на период до 2015 г.: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Tahoma"/>
                <a:ea typeface="Lucida Sans Unicode"/>
              </a:rPr>
              <a:t>опережающее развитие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среды «генерации знаний»,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Tahoma"/>
                <a:ea typeface="Lucida Sans Unicode"/>
              </a:rPr>
              <a:t>обеспечение конкурентоспособности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сектора исследований и разработок  по приоритетным направлениям;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Tahoma"/>
                <a:ea typeface="Lucida Sans Unicode"/>
              </a:rPr>
              <a:t>создание эффективной инновационной инфраструктуры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;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Tahoma"/>
                <a:ea typeface="Lucida Sans Unicode"/>
              </a:rPr>
              <a:t>стимулирование технологической модернизации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отраслей экономики с использованием механизма «технологических коридоров».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34" name="Object 5"/>
          <p:cNvGraphicFramePr/>
          <p:nvPr/>
        </p:nvGraphicFramePr>
        <p:xfrm>
          <a:off x="34920" y="1125360"/>
          <a:ext cx="45021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125360"/>
                    <a:ext cx="45021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6" name="PlaceHolder 2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12144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новные  свойства  НСС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7" name="Text Box 12"/>
          <p:cNvSpPr/>
          <p:nvPr/>
        </p:nvSpPr>
        <p:spPr>
          <a:xfrm>
            <a:off x="4356000" y="1287360"/>
            <a:ext cx="4537080" cy="5547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ahoma"/>
              </a:rPr>
              <a:t>Нейросемантическая форма (НСС) представления информации гомоморфна причинно-следственной структуре процессов ПО, т.е. НСС представляет информационную модель ПО или ее онтологию.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элемент (образ) НСС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</a:t>
            </a:r>
            <a:r>
              <a:rPr b="0" lang="ru-RU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роцесс ПО, т.е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элемент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редставляет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600" spc="-1" strike="noStrike">
                <a:solidFill>
                  <a:srgbClr val="3333cc"/>
                </a:solidFill>
                <a:latin typeface="Tahoma"/>
              </a:rPr>
              <a:t>свертку и развертку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любых процессов ПО.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вязи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элемента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отражают порядок следования процессов ПО.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Каждый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элемент имеет свое имя (номер слоя, номер в слое).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600" spc="-1" strike="noStrike">
                <a:solidFill>
                  <a:srgbClr val="008000"/>
                </a:solidFill>
                <a:latin typeface="Tahoma"/>
              </a:rPr>
              <a:t>Анализ НСС дает:</a:t>
            </a:r>
            <a:r>
              <a:rPr b="0" i="1" lang="ru-RU" sz="16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- всю статистику процессов ПО;                       -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се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распределения текстовой энтропии;                          - целостность и аналитичность;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- …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т.е. </a:t>
            </a:r>
            <a:r>
              <a:rPr b="1" i="1" lang="ru-RU" sz="1600" spc="-1" strike="noStrike">
                <a:solidFill>
                  <a:srgbClr val="3333cc"/>
                </a:solidFill>
                <a:latin typeface="Tahoma"/>
              </a:rPr>
              <a:t>НСС – это полный анализ ТФ(ПО)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Text Box 13"/>
          <p:cNvSpPr/>
          <p:nvPr/>
        </p:nvSpPr>
        <p:spPr>
          <a:xfrm>
            <a:off x="395280" y="551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…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васасвсавасв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755640" y="580068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Текстовая форма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AutoShape 15"/>
          <p:cNvSpPr/>
          <p:nvPr/>
        </p:nvSpPr>
        <p:spPr>
          <a:xfrm>
            <a:off x="2427120" y="5475240"/>
            <a:ext cx="358920" cy="287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D815-736E-4DD7-9A28-C3D49FDA5D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66661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висимость  формы  НСС  от  типов ТФ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"периодический  сигнал",  "реальный  текст" 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и "белый  шум")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Rectangle 70"/>
          <p:cNvSpPr/>
          <p:nvPr/>
        </p:nvSpPr>
        <p:spPr>
          <a:xfrm>
            <a:off x="446040" y="2276640"/>
            <a:ext cx="47736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                     </a:t>
            </a: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Периодический  сигнал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sdfsffsfdhsdfsffsfdhsdfsffsfdh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sdfsffsfdhsdfsffsfdhsdfsffsfdh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AutoShape 71"/>
          <p:cNvSpPr/>
          <p:nvPr/>
        </p:nvSpPr>
        <p:spPr>
          <a:xfrm rot="5400000">
            <a:off x="774000" y="2257200"/>
            <a:ext cx="216000" cy="685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3040 h 685800"/>
              <a:gd name="textAreaBottom" fmla="*/ 6627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464"/>
                </a:lnTo>
                <a:cubicBezTo>
                  <a:pt x="10800" y="9632"/>
                  <a:pt x="5400" y="10800"/>
                  <a:pt x="0" y="10800"/>
                </a:cubicBezTo>
                <a:cubicBezTo>
                  <a:pt x="5400" y="10800"/>
                  <a:pt x="10800" y="11968"/>
                  <a:pt x="10800" y="13136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AutoShape 72"/>
          <p:cNvSpPr/>
          <p:nvPr/>
        </p:nvSpPr>
        <p:spPr>
          <a:xfrm rot="16200000">
            <a:off x="1582560" y="1952640"/>
            <a:ext cx="217440" cy="2160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73080 h 2160360"/>
              <a:gd name="textAreaBottom" fmla="*/ 208728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218"/>
                </a:lnTo>
                <a:cubicBezTo>
                  <a:pt x="10800" y="9386"/>
                  <a:pt x="5400" y="10554"/>
                  <a:pt x="0" y="10554"/>
                </a:cubicBezTo>
                <a:cubicBezTo>
                  <a:pt x="5400" y="10554"/>
                  <a:pt x="10800" y="11722"/>
                  <a:pt x="10800" y="12890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Freeform 73"/>
          <p:cNvSpPr/>
          <p:nvPr/>
        </p:nvSpPr>
        <p:spPr>
          <a:xfrm>
            <a:off x="5435640" y="2057400"/>
            <a:ext cx="985680" cy="1082520"/>
          </a:xfrm>
          <a:prstGeom prst="pie">
            <a:avLst/>
          </a:prstGeom>
          <a:solidFill>
            <a:srgbClr val="00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Text Box 74"/>
          <p:cNvSpPr/>
          <p:nvPr/>
        </p:nvSpPr>
        <p:spPr>
          <a:xfrm>
            <a:off x="6516720" y="1892160"/>
            <a:ext cx="2448000" cy="1459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= Log T|k*Log A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= T | k 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P &gt; 100…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Line 75"/>
          <p:cNvSpPr/>
          <p:nvPr/>
        </p:nvSpPr>
        <p:spPr>
          <a:xfrm>
            <a:off x="5460840" y="2060640"/>
            <a:ext cx="0" cy="14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Line 76"/>
          <p:cNvSpPr/>
          <p:nvPr/>
        </p:nvSpPr>
        <p:spPr>
          <a:xfrm>
            <a:off x="5470560" y="28908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Line 77"/>
          <p:cNvSpPr/>
          <p:nvPr/>
        </p:nvSpPr>
        <p:spPr>
          <a:xfrm>
            <a:off x="5364000" y="20350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Text Box 78"/>
          <p:cNvSpPr/>
          <p:nvPr/>
        </p:nvSpPr>
        <p:spPr>
          <a:xfrm>
            <a:off x="5003640" y="2270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Text Box 79"/>
          <p:cNvSpPr/>
          <p:nvPr/>
        </p:nvSpPr>
        <p:spPr>
          <a:xfrm>
            <a:off x="5651640" y="2846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Text Box 80"/>
          <p:cNvSpPr/>
          <p:nvPr/>
        </p:nvSpPr>
        <p:spPr>
          <a:xfrm>
            <a:off x="147636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Text Box 81"/>
          <p:cNvSpPr/>
          <p:nvPr/>
        </p:nvSpPr>
        <p:spPr>
          <a:xfrm>
            <a:off x="684360" y="2198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Rectangle 83"/>
          <p:cNvSpPr/>
          <p:nvPr/>
        </p:nvSpPr>
        <p:spPr>
          <a:xfrm>
            <a:off x="468360" y="5445000"/>
            <a:ext cx="4773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Белый  шум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ersdfs</a:t>
            </a:r>
            <a:r>
              <a:rPr b="0" lang="ru-RU" sz="1400" spc="-1" strike="noStrike">
                <a:solidFill>
                  <a:srgbClr val="3333cc"/>
                </a:solidFill>
                <a:latin typeface="Tahoma"/>
              </a:rPr>
              <a:t>ываав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f</a:t>
            </a:r>
            <a:r>
              <a:rPr b="0" lang="ru-RU" sz="1400" spc="-1" strike="noStrike">
                <a:solidFill>
                  <a:srgbClr val="3333cc"/>
                </a:solidFill>
                <a:latin typeface="Tahoma"/>
              </a:rPr>
              <a:t>рппангшл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sfdh</a:t>
            </a:r>
            <a:r>
              <a:rPr b="0" lang="ru-RU" sz="1400" spc="-1" strike="noStrike">
                <a:solidFill>
                  <a:srgbClr val="3333cc"/>
                </a:solidFill>
                <a:latin typeface="Tahoma"/>
              </a:rPr>
              <a:t>а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ар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err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олдзз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оз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fsff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озжхэъ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у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AutoShape 85"/>
          <p:cNvSpPr/>
          <p:nvPr/>
        </p:nvSpPr>
        <p:spPr>
          <a:xfrm rot="16200000">
            <a:off x="1604880" y="5121360"/>
            <a:ext cx="217440" cy="2160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73080 h 2160720"/>
              <a:gd name="textAreaBottom" fmla="*/ 208764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218"/>
                </a:lnTo>
                <a:cubicBezTo>
                  <a:pt x="10800" y="9386"/>
                  <a:pt x="5400" y="10554"/>
                  <a:pt x="0" y="10554"/>
                </a:cubicBezTo>
                <a:cubicBezTo>
                  <a:pt x="5400" y="10554"/>
                  <a:pt x="10800" y="11722"/>
                  <a:pt x="10800" y="12890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Freeform 86"/>
          <p:cNvSpPr/>
          <p:nvPr/>
        </p:nvSpPr>
        <p:spPr>
          <a:xfrm>
            <a:off x="5457960" y="5226120"/>
            <a:ext cx="3051000" cy="1082520"/>
          </a:xfrm>
          <a:prstGeom prst="pie">
            <a:avLst/>
          </a:prstGeom>
          <a:solidFill>
            <a:srgbClr val="00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Freeform 88"/>
          <p:cNvSpPr/>
          <p:nvPr/>
        </p:nvSpPr>
        <p:spPr>
          <a:xfrm>
            <a:off x="5473800" y="5245200"/>
            <a:ext cx="2743200" cy="865080"/>
          </a:xfrm>
          <a:prstGeom prst="pie">
            <a:avLst/>
          </a:prstGeom>
          <a:solidFill>
            <a:srgbClr val="ff0000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Line 89"/>
          <p:cNvSpPr/>
          <p:nvPr/>
        </p:nvSpPr>
        <p:spPr>
          <a:xfrm>
            <a:off x="5492880" y="5805360"/>
            <a:ext cx="303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Line 90"/>
          <p:cNvSpPr/>
          <p:nvPr/>
        </p:nvSpPr>
        <p:spPr>
          <a:xfrm>
            <a:off x="5386320" y="52038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Text Box 91"/>
          <p:cNvSpPr/>
          <p:nvPr/>
        </p:nvSpPr>
        <p:spPr>
          <a:xfrm>
            <a:off x="5025960" y="5438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Text Box 92"/>
          <p:cNvSpPr/>
          <p:nvPr/>
        </p:nvSpPr>
        <p:spPr>
          <a:xfrm>
            <a:off x="5651640" y="5870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Text Box 93"/>
          <p:cNvSpPr/>
          <p:nvPr/>
        </p:nvSpPr>
        <p:spPr>
          <a:xfrm>
            <a:off x="1498680" y="6310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Rectangle 96"/>
          <p:cNvSpPr/>
          <p:nvPr/>
        </p:nvSpPr>
        <p:spPr>
          <a:xfrm>
            <a:off x="468360" y="3860640"/>
            <a:ext cx="488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                   </a:t>
            </a: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Реальный  текст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ahoma"/>
              </a:rPr>
              <a:t>Коля ловит рыбу.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3333cc"/>
                </a:solidFill>
                <a:latin typeface="Tahoma"/>
              </a:rPr>
              <a:t>Нейроны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- элементная база новой ли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AutoShape 98"/>
          <p:cNvSpPr/>
          <p:nvPr/>
        </p:nvSpPr>
        <p:spPr>
          <a:xfrm rot="16200000">
            <a:off x="1554120" y="3537000"/>
            <a:ext cx="217440" cy="2160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73080 h 2160720"/>
              <a:gd name="textAreaBottom" fmla="*/ 208764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218"/>
                </a:lnTo>
                <a:cubicBezTo>
                  <a:pt x="10800" y="9386"/>
                  <a:pt x="5400" y="10554"/>
                  <a:pt x="0" y="10554"/>
                </a:cubicBezTo>
                <a:cubicBezTo>
                  <a:pt x="5400" y="10554"/>
                  <a:pt x="10800" y="11722"/>
                  <a:pt x="10800" y="12890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Freeform 99"/>
          <p:cNvSpPr/>
          <p:nvPr/>
        </p:nvSpPr>
        <p:spPr>
          <a:xfrm>
            <a:off x="5457960" y="3645000"/>
            <a:ext cx="1133280" cy="1082520"/>
          </a:xfrm>
          <a:prstGeom prst="pie">
            <a:avLst/>
          </a:prstGeom>
          <a:solidFill>
            <a:srgbClr val="00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Freeform 101"/>
          <p:cNvSpPr/>
          <p:nvPr/>
        </p:nvSpPr>
        <p:spPr>
          <a:xfrm>
            <a:off x="5477040" y="3643200"/>
            <a:ext cx="1114200" cy="1019160"/>
          </a:xfrm>
          <a:prstGeom prst="pie">
            <a:avLst/>
          </a:prstGeom>
          <a:solidFill>
            <a:srgbClr val="ff0000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Freeform 102"/>
          <p:cNvSpPr/>
          <p:nvPr/>
        </p:nvSpPr>
        <p:spPr>
          <a:xfrm>
            <a:off x="5492880" y="4432320"/>
            <a:ext cx="1022400" cy="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Line 103"/>
          <p:cNvSpPr/>
          <p:nvPr/>
        </p:nvSpPr>
        <p:spPr>
          <a:xfrm>
            <a:off x="5386320" y="36194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Text Box 104"/>
          <p:cNvSpPr/>
          <p:nvPr/>
        </p:nvSpPr>
        <p:spPr>
          <a:xfrm>
            <a:off x="5025960" y="3854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Text Box 106"/>
          <p:cNvSpPr/>
          <p:nvPr/>
        </p:nvSpPr>
        <p:spPr>
          <a:xfrm>
            <a:off x="1498680" y="4726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Text Box 108"/>
          <p:cNvSpPr/>
          <p:nvPr/>
        </p:nvSpPr>
        <p:spPr>
          <a:xfrm>
            <a:off x="6516720" y="3789360"/>
            <a:ext cx="244800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P &gt; 1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омпрессия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AutoShape 110"/>
          <p:cNvSpPr/>
          <p:nvPr/>
        </p:nvSpPr>
        <p:spPr>
          <a:xfrm rot="16200000">
            <a:off x="5783040" y="2938320"/>
            <a:ext cx="114480" cy="663480"/>
          </a:xfrm>
          <a:custGeom>
            <a:avLst/>
            <a:gdLst>
              <a:gd name="textAreaLeft" fmla="*/ 73080 w 114480"/>
              <a:gd name="textAreaRight" fmla="*/ 114840 w 114480"/>
              <a:gd name="textAreaTop" fmla="*/ 22320 h 663480"/>
              <a:gd name="textAreaBottom" fmla="*/ 641160 h 66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8"/>
                  <a:pt x="10800" y="2336"/>
                </a:cubicBezTo>
                <a:lnTo>
                  <a:pt x="10800" y="8218"/>
                </a:lnTo>
                <a:cubicBezTo>
                  <a:pt x="10800" y="9386"/>
                  <a:pt x="5400" y="10554"/>
                  <a:pt x="0" y="10554"/>
                </a:cubicBezTo>
                <a:cubicBezTo>
                  <a:pt x="5400" y="10554"/>
                  <a:pt x="10800" y="11722"/>
                  <a:pt x="10800" y="12890"/>
                </a:cubicBezTo>
                <a:lnTo>
                  <a:pt x="10800" y="19264"/>
                </a:lnTo>
                <a:cubicBezTo>
                  <a:pt x="10800" y="204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Text Box 111"/>
          <p:cNvSpPr/>
          <p:nvPr/>
        </p:nvSpPr>
        <p:spPr>
          <a:xfrm>
            <a:off x="5651640" y="327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Text Box 112"/>
          <p:cNvSpPr/>
          <p:nvPr/>
        </p:nvSpPr>
        <p:spPr>
          <a:xfrm>
            <a:off x="572436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Line 114"/>
          <p:cNvSpPr/>
          <p:nvPr/>
        </p:nvSpPr>
        <p:spPr>
          <a:xfrm>
            <a:off x="5651640" y="58053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Text Box 115"/>
          <p:cNvSpPr/>
          <p:nvPr/>
        </p:nvSpPr>
        <p:spPr>
          <a:xfrm>
            <a:off x="6516720" y="4699080"/>
            <a:ext cx="2448000" cy="1067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=Log 2L|k*LogA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= 2L | k 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P =0,3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82" name="Object 4"/>
          <p:cNvGraphicFramePr/>
          <p:nvPr/>
        </p:nvGraphicFramePr>
        <p:xfrm>
          <a:off x="468360" y="1341360"/>
          <a:ext cx="2585880" cy="41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2585880" cy="41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4" name="Text Box 5"/>
          <p:cNvSpPr/>
          <p:nvPr/>
        </p:nvSpPr>
        <p:spPr>
          <a:xfrm>
            <a:off x="3201840" y="1301760"/>
            <a:ext cx="5473800" cy="5375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6600"/>
                </a:solidFill>
                <a:latin typeface="Tahoma"/>
              </a:rPr>
              <a:t>ассоциативность (через </a:t>
            </a:r>
            <a:r>
              <a:rPr b="1" i="1" lang="en-US" sz="1800" spc="-1" strike="noStrike">
                <a:solidFill>
                  <a:srgbClr val="ff6600"/>
                </a:solidFill>
                <a:latin typeface="Tahoma"/>
              </a:rPr>
              <a:t>N</a:t>
            </a:r>
            <a:r>
              <a:rPr b="1" i="1" lang="ru-RU" sz="1800" spc="-1" strike="noStrike">
                <a:solidFill>
                  <a:srgbClr val="ff6600"/>
                </a:solidFill>
                <a:latin typeface="Tahoma"/>
              </a:rPr>
              <a:t>-эл. пред. слоя)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гностичность (прич.-след. связи)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ерархичность (вверх-вниз)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локальная интеграция и анализ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лный образный анализ ПО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днотипность (множество слоя)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ратковременная  и  долговрем. памяти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аксимальная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распараллеливаемость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ткрытость и наращиваемость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гипертекстовость (навигация по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эл.)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извольность  ПО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емонстрация  абстракций, творчества …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…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1116000" y="476280"/>
            <a:ext cx="6696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Дополнительные  свойства  НСС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88" name="Object 4"/>
          <p:cNvGraphicFramePr/>
          <p:nvPr/>
        </p:nvGraphicFramePr>
        <p:xfrm>
          <a:off x="468360" y="1341360"/>
          <a:ext cx="2585880" cy="41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2585880" cy="41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0" name="Text Box 5"/>
          <p:cNvSpPr/>
          <p:nvPr/>
        </p:nvSpPr>
        <p:spPr>
          <a:xfrm>
            <a:off x="3201840" y="1301760"/>
            <a:ext cx="5473800" cy="5375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 ассоциативность (через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эл. пред. слоя)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6600"/>
                </a:solidFill>
                <a:latin typeface="Tahoma"/>
              </a:rPr>
              <a:t>прогностичность (прич.-след. связи)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ерархичность (вверх-вниз)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локальная интеграция и анализ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лный образный анализ ПО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днотипность (множество слоя)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ратковременная  и  долговрем. памяти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аксимальная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распараллеливаемость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ткрытость и наращиваемость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гипертекстовость (навигация по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эл.)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извольность  ПО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емонстрация  абстракций, творчества …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…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Rectangle 6"/>
          <p:cNvSpPr/>
          <p:nvPr/>
        </p:nvSpPr>
        <p:spPr>
          <a:xfrm>
            <a:off x="1116000" y="476280"/>
            <a:ext cx="6696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Дополнительные  свойства  НСС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4" name="Object 4"/>
          <p:cNvGraphicFramePr/>
          <p:nvPr/>
        </p:nvGraphicFramePr>
        <p:xfrm>
          <a:off x="468360" y="1341360"/>
          <a:ext cx="2585880" cy="41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2585880" cy="41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6" name="Text Box 5"/>
          <p:cNvSpPr/>
          <p:nvPr/>
        </p:nvSpPr>
        <p:spPr>
          <a:xfrm>
            <a:off x="3201840" y="1301760"/>
            <a:ext cx="5473800" cy="5375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 ассоциативность (через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эл. пред. слоя)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гностичность (прич.-след. связи)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ерархичность (вверх-вниз)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локальная интеграция и анализ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лный образный анализ ПО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6600"/>
                </a:solidFill>
                <a:latin typeface="Tahoma"/>
              </a:rPr>
              <a:t>однотипность (множество слоя)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ратковременная  и  долговрем. памяти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аксимальная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распараллеливаемость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ткрытость и наращиваемость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гипертекстовость (навигация по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эл.)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извольность  ПО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емонстрация  абстракций, творчества …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…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Rectangle 6"/>
          <p:cNvSpPr/>
          <p:nvPr/>
        </p:nvSpPr>
        <p:spPr>
          <a:xfrm>
            <a:off x="1116000" y="476280"/>
            <a:ext cx="6696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Дополнительные  свойства  НСС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8638-0A33-4C3A-ABBB-56F9EAF724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9EAA-97B6-4416-8C7A-43C3F239DD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280" y="3573360"/>
            <a:ext cx="828036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дача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рерывном потоке Т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обходимо вы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ить образы,  соответствующие процессам любо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01" name="Group 3"/>
          <p:cNvGrpSpPr/>
          <p:nvPr/>
        </p:nvGrpSpPr>
        <p:grpSpPr>
          <a:xfrm>
            <a:off x="1182600" y="2060640"/>
            <a:ext cx="3749760" cy="1266840"/>
            <a:chOff x="1182600" y="2060640"/>
            <a:chExt cx="3749760" cy="1266840"/>
          </a:xfrm>
        </p:grpSpPr>
        <p:sp>
          <p:nvSpPr>
            <p:cNvPr id="1002" name="Text Box 4"/>
            <p:cNvSpPr/>
            <p:nvPr/>
          </p:nvSpPr>
          <p:spPr>
            <a:xfrm>
              <a:off x="1182600" y="2060640"/>
              <a:ext cx="3749760" cy="12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Times New Roman"/>
                </a:rPr>
                <a:t>МАКРИСРИ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СМАКДУБЛЕН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3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03" name="Group 5"/>
            <p:cNvGrpSpPr/>
            <p:nvPr/>
          </p:nvGrpSpPr>
          <p:grpSpPr>
            <a:xfrm>
              <a:off x="1547640" y="2391840"/>
              <a:ext cx="1872000" cy="306720"/>
              <a:chOff x="1547640" y="2391840"/>
              <a:chExt cx="1872000" cy="306720"/>
            </a:xfrm>
          </p:grpSpPr>
          <p:sp>
            <p:nvSpPr>
              <p:cNvPr id="1004" name="Line 6"/>
              <p:cNvSpPr/>
              <p:nvPr/>
            </p:nvSpPr>
            <p:spPr>
              <a:xfrm flipV="1">
                <a:off x="1547640" y="2391840"/>
                <a:ext cx="0" cy="2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5" name="Line 7"/>
              <p:cNvSpPr/>
              <p:nvPr/>
            </p:nvSpPr>
            <p:spPr>
              <a:xfrm flipV="1">
                <a:off x="2700360" y="2391840"/>
                <a:ext cx="0" cy="2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6" name="Line 8"/>
              <p:cNvSpPr/>
              <p:nvPr/>
            </p:nvSpPr>
            <p:spPr>
              <a:xfrm flipV="1">
                <a:off x="3419640" y="241128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07" name="Group 9"/>
          <p:cNvGrpSpPr/>
          <p:nvPr/>
        </p:nvGrpSpPr>
        <p:grpSpPr>
          <a:xfrm>
            <a:off x="-360360" y="2060640"/>
            <a:ext cx="1171440" cy="1439640"/>
            <a:chOff x="-360360" y="2060640"/>
            <a:chExt cx="1171440" cy="1439640"/>
          </a:xfrm>
        </p:grpSpPr>
        <p:sp>
          <p:nvSpPr>
            <p:cNvPr id="1008" name="Oval 10"/>
            <p:cNvSpPr/>
            <p:nvPr/>
          </p:nvSpPr>
          <p:spPr>
            <a:xfrm>
              <a:off x="-360360" y="2060640"/>
              <a:ext cx="1152360" cy="1439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Oval 11"/>
            <p:cNvSpPr/>
            <p:nvPr/>
          </p:nvSpPr>
          <p:spPr>
            <a:xfrm>
              <a:off x="647640" y="2558880"/>
              <a:ext cx="16344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Text Box 12"/>
            <p:cNvSpPr/>
            <p:nvPr/>
          </p:nvSpPr>
          <p:spPr>
            <a:xfrm>
              <a:off x="36360" y="2224080"/>
              <a:ext cx="73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О</a:t>
              </a:r>
              <a:endParaRPr b="1" i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1" name="Line 13"/>
          <p:cNvSpPr/>
          <p:nvPr/>
        </p:nvSpPr>
        <p:spPr>
          <a:xfrm>
            <a:off x="4427640" y="2276640"/>
            <a:ext cx="288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Text Box 14"/>
          <p:cNvSpPr/>
          <p:nvPr/>
        </p:nvSpPr>
        <p:spPr>
          <a:xfrm>
            <a:off x="5003640" y="1700280"/>
            <a:ext cx="3672000" cy="1818000"/>
          </a:xfrm>
          <a:prstGeom prst="rect">
            <a:avLst/>
          </a:prstGeom>
          <a:solidFill>
            <a:srgbClr val="feede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ИС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Text Box 15"/>
          <p:cNvSpPr/>
          <p:nvPr/>
        </p:nvSpPr>
        <p:spPr>
          <a:xfrm>
            <a:off x="5219640" y="1773360"/>
            <a:ext cx="792360" cy="17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АКРИСМКД УБЛЕНД …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Text Box 16"/>
          <p:cNvSpPr/>
          <p:nvPr/>
        </p:nvSpPr>
        <p:spPr>
          <a:xfrm>
            <a:off x="6875640" y="1773360"/>
            <a:ext cx="792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РИС ДУБ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МАКЛЕН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Rectangle 18"/>
          <p:cNvSpPr/>
          <p:nvPr/>
        </p:nvSpPr>
        <p:spPr>
          <a:xfrm>
            <a:off x="468360" y="4797360"/>
            <a:ext cx="835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тод: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роение в ИС множества различн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словарей и выбор минимальног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Rectangle 19"/>
          <p:cNvSpPr/>
          <p:nvPr/>
        </p:nvSpPr>
        <p:spPr>
          <a:xfrm>
            <a:off x="468360" y="5950080"/>
            <a:ext cx="8137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нструментарий: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йросемантическ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уктуры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AutoShape 20"/>
          <p:cNvSpPr/>
          <p:nvPr/>
        </p:nvSpPr>
        <p:spPr>
          <a:xfrm>
            <a:off x="6084720" y="1916280"/>
            <a:ext cx="287640" cy="1512720"/>
          </a:xfrm>
          <a:custGeom>
            <a:avLst/>
            <a:gdLst>
              <a:gd name="textAreaLeft" fmla="*/ 0 w 287640"/>
              <a:gd name="textAreaRight" fmla="*/ 103680 w 28764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2819"/>
                </a:lnTo>
                <a:cubicBezTo>
                  <a:pt x="10800" y="13719"/>
                  <a:pt x="16200" y="14619"/>
                  <a:pt x="21600" y="14619"/>
                </a:cubicBezTo>
                <a:cubicBezTo>
                  <a:pt x="16200" y="14619"/>
                  <a:pt x="10800" y="15519"/>
                  <a:pt x="10800" y="1641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Text Box 21"/>
          <p:cNvSpPr/>
          <p:nvPr/>
        </p:nvSpPr>
        <p:spPr>
          <a:xfrm>
            <a:off x="6372360" y="285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AutoShape 22"/>
          <p:cNvSpPr/>
          <p:nvPr/>
        </p:nvSpPr>
        <p:spPr>
          <a:xfrm>
            <a:off x="7740720" y="1844640"/>
            <a:ext cx="360360" cy="1079640"/>
          </a:xfrm>
          <a:custGeom>
            <a:avLst/>
            <a:gdLst>
              <a:gd name="textAreaLeft" fmla="*/ 0 w 360360"/>
              <a:gd name="textAreaRight" fmla="*/ 129960 w 360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2819"/>
                </a:lnTo>
                <a:cubicBezTo>
                  <a:pt x="10800" y="13719"/>
                  <a:pt x="16200" y="14619"/>
                  <a:pt x="21600" y="14619"/>
                </a:cubicBezTo>
                <a:cubicBezTo>
                  <a:pt x="16200" y="14619"/>
                  <a:pt x="10800" y="15519"/>
                  <a:pt x="10800" y="1641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Text Box 23"/>
          <p:cNvSpPr/>
          <p:nvPr/>
        </p:nvSpPr>
        <p:spPr>
          <a:xfrm>
            <a:off x="7956720" y="2492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Rm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Line 24"/>
          <p:cNvSpPr/>
          <p:nvPr/>
        </p:nvSpPr>
        <p:spPr>
          <a:xfrm flipV="1">
            <a:off x="755640" y="2257560"/>
            <a:ext cx="431640" cy="4507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Заголовок 1"/>
          <p:cNvSpPr/>
          <p:nvPr/>
        </p:nvSpPr>
        <p:spPr>
          <a:xfrm>
            <a:off x="826920" y="260280"/>
            <a:ext cx="779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Пример  реализации автоструктуризации</a:t>
            </a:r>
            <a:endParaRPr b="1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Text Box 2"/>
          <p:cNvSpPr/>
          <p:nvPr/>
        </p:nvSpPr>
        <p:spPr>
          <a:xfrm>
            <a:off x="3274920" y="1989000"/>
            <a:ext cx="3168720" cy="210168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010101010101001001001110110101010101010101010101010100101010101010101010101010000010101010101001010101010101010101001010100101010101010101010100101010101010101001010100101010101010101010010101010100100110101010101010101010101010101010101010101010101010100110010101010101010101010101010101010100101010101010101010101010010101010101010100110101010101010101001010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42120" cy="9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Общеизвестный факт: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все организмы "объективны" в структуризации окружающего мира на отдельные образ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6" name="Picture 5" descr="em-bt2523t"/>
          <p:cNvPicPr/>
          <p:nvPr/>
        </p:nvPicPr>
        <p:blipFill>
          <a:blip r:embed="rId1"/>
          <a:stretch/>
        </p:blipFill>
        <p:spPr>
          <a:xfrm>
            <a:off x="7319880" y="1916280"/>
            <a:ext cx="1428840" cy="18000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6" descr=""/>
          <p:cNvPicPr/>
          <p:nvPr/>
        </p:nvPicPr>
        <p:blipFill>
          <a:blip r:embed="rId2"/>
          <a:stretch/>
        </p:blipFill>
        <p:spPr>
          <a:xfrm>
            <a:off x="6948360" y="4437000"/>
            <a:ext cx="1798920" cy="19447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7" descr="Los2"/>
          <p:cNvPicPr/>
          <p:nvPr/>
        </p:nvPicPr>
        <p:blipFill>
          <a:blip r:embed="rId3"/>
          <a:stretch/>
        </p:blipFill>
        <p:spPr>
          <a:xfrm>
            <a:off x="971640" y="4653000"/>
            <a:ext cx="1299960" cy="1844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8" descr="pinguin"/>
          <p:cNvPicPr/>
          <p:nvPr/>
        </p:nvPicPr>
        <p:blipFill>
          <a:blip r:embed="rId4"/>
          <a:stretch/>
        </p:blipFill>
        <p:spPr>
          <a:xfrm>
            <a:off x="3851280" y="4869000"/>
            <a:ext cx="1628640" cy="1828800"/>
          </a:xfrm>
          <a:prstGeom prst="rect">
            <a:avLst/>
          </a:prstGeom>
          <a:ln w="0">
            <a:noFill/>
          </a:ln>
        </p:spPr>
      </p:pic>
      <p:sp>
        <p:nvSpPr>
          <p:cNvPr id="1030" name="Line 9"/>
          <p:cNvSpPr/>
          <p:nvPr/>
        </p:nvSpPr>
        <p:spPr>
          <a:xfrm>
            <a:off x="6443640" y="2781360"/>
            <a:ext cx="79236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Text Box 10"/>
          <p:cNvSpPr/>
          <p:nvPr/>
        </p:nvSpPr>
        <p:spPr>
          <a:xfrm>
            <a:off x="6227640" y="2492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0100101…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Line 11"/>
          <p:cNvSpPr/>
          <p:nvPr/>
        </p:nvSpPr>
        <p:spPr>
          <a:xfrm>
            <a:off x="6300720" y="4365720"/>
            <a:ext cx="719280" cy="6476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Text Box 12"/>
          <p:cNvSpPr/>
          <p:nvPr/>
        </p:nvSpPr>
        <p:spPr>
          <a:xfrm rot="2613000">
            <a:off x="6125040" y="4428720"/>
            <a:ext cx="14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0100101…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4643280" y="4508640"/>
            <a:ext cx="0" cy="2887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Line 14"/>
          <p:cNvSpPr/>
          <p:nvPr/>
        </p:nvSpPr>
        <p:spPr>
          <a:xfrm flipH="1">
            <a:off x="2124000" y="4581360"/>
            <a:ext cx="1008000" cy="719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Text Box 15"/>
          <p:cNvSpPr/>
          <p:nvPr/>
        </p:nvSpPr>
        <p:spPr>
          <a:xfrm rot="19606800">
            <a:off x="2032200" y="460008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1010010…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Text Box 16"/>
          <p:cNvSpPr/>
          <p:nvPr/>
        </p:nvSpPr>
        <p:spPr>
          <a:xfrm>
            <a:off x="349236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0100101…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8" name="Object 17"/>
          <p:cNvGraphicFramePr/>
          <p:nvPr/>
        </p:nvGraphicFramePr>
        <p:xfrm>
          <a:off x="395280" y="1413000"/>
          <a:ext cx="590400" cy="5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1413000"/>
                    <a:ext cx="5904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0" name="Object 18"/>
          <p:cNvGraphicFramePr/>
          <p:nvPr/>
        </p:nvGraphicFramePr>
        <p:xfrm>
          <a:off x="3879720" y="4941720"/>
          <a:ext cx="441360" cy="64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79720" y="4941720"/>
                    <a:ext cx="441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Object 19"/>
          <p:cNvGraphicFramePr/>
          <p:nvPr/>
        </p:nvGraphicFramePr>
        <p:xfrm>
          <a:off x="8207280" y="1700280"/>
          <a:ext cx="39708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07280" y="1700280"/>
                    <a:ext cx="3970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Object 20"/>
          <p:cNvGraphicFramePr/>
          <p:nvPr/>
        </p:nvGraphicFramePr>
        <p:xfrm>
          <a:off x="8101080" y="3716280"/>
          <a:ext cx="662040" cy="72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5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01080" y="3716280"/>
                    <a:ext cx="662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6" name="Object 21"/>
          <p:cNvGraphicFramePr/>
          <p:nvPr/>
        </p:nvGraphicFramePr>
        <p:xfrm>
          <a:off x="158760" y="4221000"/>
          <a:ext cx="927000" cy="1008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47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8760" y="4221000"/>
                    <a:ext cx="9270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Object 22"/>
          <p:cNvGraphicFramePr/>
          <p:nvPr/>
        </p:nvGraphicFramePr>
        <p:xfrm>
          <a:off x="5076720" y="4797360"/>
          <a:ext cx="528840" cy="57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49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76720" y="4797360"/>
                    <a:ext cx="5288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AutoShape 23"/>
          <p:cNvSpPr/>
          <p:nvPr/>
        </p:nvSpPr>
        <p:spPr>
          <a:xfrm>
            <a:off x="7813800" y="1844640"/>
            <a:ext cx="287280" cy="2890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AutoShape 24"/>
          <p:cNvSpPr/>
          <p:nvPr/>
        </p:nvSpPr>
        <p:spPr>
          <a:xfrm>
            <a:off x="7740720" y="4076640"/>
            <a:ext cx="287280" cy="2890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AutoShape 25"/>
          <p:cNvSpPr/>
          <p:nvPr/>
        </p:nvSpPr>
        <p:spPr>
          <a:xfrm flipH="1">
            <a:off x="1042920" y="4437000"/>
            <a:ext cx="287280" cy="2890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Text Box 26"/>
          <p:cNvSpPr/>
          <p:nvPr/>
        </p:nvSpPr>
        <p:spPr>
          <a:xfrm>
            <a:off x="3276720" y="155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933"/>
                </a:solidFill>
                <a:latin typeface="Tahoma"/>
              </a:rPr>
              <a:t>Предметная область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AutoShape 27"/>
          <p:cNvSpPr/>
          <p:nvPr/>
        </p:nvSpPr>
        <p:spPr>
          <a:xfrm>
            <a:off x="4788000" y="4724280"/>
            <a:ext cx="360360" cy="144720"/>
          </a:xfrm>
          <a:custGeom>
            <a:avLst/>
            <a:gdLst>
              <a:gd name="textAreaLeft" fmla="*/ 63000 w 360360"/>
              <a:gd name="textAreaRight" fmla="*/ 261360 w 360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AutoShape 28"/>
          <p:cNvSpPr/>
          <p:nvPr/>
        </p:nvSpPr>
        <p:spPr>
          <a:xfrm flipH="1">
            <a:off x="4210920" y="4724280"/>
            <a:ext cx="360360" cy="144720"/>
          </a:xfrm>
          <a:custGeom>
            <a:avLst/>
            <a:gdLst>
              <a:gd name="textAreaLeft" fmla="*/ 63000 w 360360"/>
              <a:gd name="textAreaRight" fmla="*/ 261360 w 360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6" name="Group 29"/>
          <p:cNvGrpSpPr/>
          <p:nvPr/>
        </p:nvGrpSpPr>
        <p:grpSpPr>
          <a:xfrm>
            <a:off x="179280" y="1268280"/>
            <a:ext cx="2016360" cy="2737080"/>
            <a:chOff x="179280" y="1268280"/>
            <a:chExt cx="2016360" cy="2737080"/>
          </a:xfrm>
        </p:grpSpPr>
        <p:pic>
          <p:nvPicPr>
            <p:cNvPr id="1057" name="Picture 30" descr=""/>
            <p:cNvPicPr/>
            <p:nvPr/>
          </p:nvPicPr>
          <p:blipFill>
            <a:blip r:embed="rId17"/>
            <a:stretch/>
          </p:blipFill>
          <p:spPr>
            <a:xfrm>
              <a:off x="324000" y="2133720"/>
              <a:ext cx="1871640" cy="1871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58" name="Object 31"/>
            <p:cNvGraphicFramePr/>
            <p:nvPr/>
          </p:nvGraphicFramePr>
          <p:xfrm>
            <a:off x="388800" y="1268280"/>
            <a:ext cx="730440" cy="7938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59" name="Object 31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388800" y="1268280"/>
                      <a:ext cx="730440" cy="79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0" name="AutoShape 32"/>
            <p:cNvSpPr/>
            <p:nvPr/>
          </p:nvSpPr>
          <p:spPr>
            <a:xfrm flipH="1">
              <a:off x="1186560" y="1700280"/>
              <a:ext cx="287640" cy="288720"/>
            </a:xfrm>
            <a:prstGeom prst="pi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Freeform 33"/>
            <p:cNvSpPr/>
            <p:nvPr/>
          </p:nvSpPr>
          <p:spPr>
            <a:xfrm>
              <a:off x="179280" y="1700280"/>
              <a:ext cx="289080" cy="720720"/>
            </a:xfrm>
            <a:prstGeom prst="pie">
              <a:avLst/>
            </a:prstGeom>
            <a:noFill/>
            <a:ln w="5724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62" name="Text Box 34"/>
          <p:cNvSpPr/>
          <p:nvPr/>
        </p:nvSpPr>
        <p:spPr>
          <a:xfrm>
            <a:off x="1908000" y="2492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..1010010…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35"/>
          <p:cNvSpPr/>
          <p:nvPr/>
        </p:nvSpPr>
        <p:spPr>
          <a:xfrm flipH="1">
            <a:off x="1979640" y="2852640"/>
            <a:ext cx="93672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4" name="Object 36"/>
          <p:cNvGraphicFramePr/>
          <p:nvPr/>
        </p:nvGraphicFramePr>
        <p:xfrm>
          <a:off x="3094200" y="2205000"/>
          <a:ext cx="3095640" cy="154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65" name="Object 3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094200" y="2205000"/>
                    <a:ext cx="309564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6" name="Object 37"/>
          <p:cNvGraphicFramePr/>
          <p:nvPr/>
        </p:nvGraphicFramePr>
        <p:xfrm>
          <a:off x="5923080" y="2349360"/>
          <a:ext cx="272880" cy="20163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067" name="Object 3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923080" y="2349360"/>
                    <a:ext cx="2728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8" name="Picture 38" descr="middle"/>
          <p:cNvPicPr/>
          <p:nvPr/>
        </p:nvPicPr>
        <p:blipFill>
          <a:blip r:embed="rId24"/>
          <a:stretch/>
        </p:blipFill>
        <p:spPr>
          <a:xfrm>
            <a:off x="2987640" y="2325600"/>
            <a:ext cx="3097080" cy="2152800"/>
          </a:xfrm>
          <a:prstGeom prst="rect">
            <a:avLst/>
          </a:prstGeom>
          <a:ln w="0">
            <a:noFill/>
          </a:ln>
        </p:spPr>
      </p:pic>
      <p:sp>
        <p:nvSpPr>
          <p:cNvPr id="1069" name="Text Box 39"/>
          <p:cNvSpPr/>
          <p:nvPr/>
        </p:nvSpPr>
        <p:spPr>
          <a:xfrm rot="19302600">
            <a:off x="2629800" y="1819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73BF-DF8D-4EB4-AEF0-F4DC24E1EC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Номер слайда 8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E810-F955-48D6-BEDD-264810565B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153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Традиционный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"контрабандный"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способ структуризации  ПО  в  системах  И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1182600" y="201744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4" name="Object 4"/>
          <p:cNvGraphicFramePr/>
          <p:nvPr/>
        </p:nvGraphicFramePr>
        <p:xfrm>
          <a:off x="611280" y="3386160"/>
          <a:ext cx="8126280" cy="28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86160"/>
                    <a:ext cx="812628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6" name="Rectangle 5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Text Box 6"/>
          <p:cNvSpPr/>
          <p:nvPr/>
        </p:nvSpPr>
        <p:spPr>
          <a:xfrm>
            <a:off x="7164360" y="29242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8" name="Object 7"/>
          <p:cNvGraphicFramePr/>
          <p:nvPr/>
        </p:nvGraphicFramePr>
        <p:xfrm>
          <a:off x="6792840" y="4206960"/>
          <a:ext cx="366840" cy="3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92840" y="4206960"/>
                    <a:ext cx="3668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8"/>
          <p:cNvGraphicFramePr/>
          <p:nvPr/>
        </p:nvGraphicFramePr>
        <p:xfrm>
          <a:off x="7596360" y="2708280"/>
          <a:ext cx="52992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96360" y="2708280"/>
                    <a:ext cx="529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Text Box 9"/>
          <p:cNvSpPr/>
          <p:nvPr/>
        </p:nvSpPr>
        <p:spPr>
          <a:xfrm>
            <a:off x="3635280" y="2421000"/>
            <a:ext cx="144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-мист систем ИИ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3" name="Picture 10" descr="middle"/>
          <p:cNvPicPr/>
          <p:nvPr/>
        </p:nvPicPr>
        <p:blipFill>
          <a:blip r:embed="rId7"/>
          <a:stretch/>
        </p:blipFill>
        <p:spPr>
          <a:xfrm>
            <a:off x="179280" y="3068640"/>
            <a:ext cx="3456000" cy="3529080"/>
          </a:xfrm>
          <a:prstGeom prst="rect">
            <a:avLst/>
          </a:prstGeom>
          <a:ln w="0">
            <a:noFill/>
          </a:ln>
        </p:spPr>
      </p:pic>
      <p:sp>
        <p:nvSpPr>
          <p:cNvPr id="1084" name="Text Box 11"/>
          <p:cNvSpPr/>
          <p:nvPr/>
        </p:nvSpPr>
        <p:spPr>
          <a:xfrm>
            <a:off x="324000" y="249228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933"/>
                </a:solidFill>
                <a:latin typeface="Tahoma"/>
              </a:rPr>
              <a:t>Предметная область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Rectangle 12"/>
          <p:cNvSpPr/>
          <p:nvPr/>
        </p:nvSpPr>
        <p:spPr>
          <a:xfrm>
            <a:off x="5867280" y="3933720"/>
            <a:ext cx="2737080" cy="2448000"/>
          </a:xfrm>
          <a:prstGeom prst="rect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Freeform 13"/>
          <p:cNvSpPr/>
          <p:nvPr/>
        </p:nvSpPr>
        <p:spPr>
          <a:xfrm>
            <a:off x="8286840" y="3009960"/>
            <a:ext cx="539640" cy="14270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Freeform 14"/>
          <p:cNvSpPr/>
          <p:nvPr/>
        </p:nvSpPr>
        <p:spPr>
          <a:xfrm>
            <a:off x="6084720" y="3065400"/>
            <a:ext cx="762120" cy="1084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8" name="Object 15"/>
          <p:cNvGraphicFramePr/>
          <p:nvPr/>
        </p:nvGraphicFramePr>
        <p:xfrm>
          <a:off x="4995720" y="2095560"/>
          <a:ext cx="1376640" cy="1798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89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95720" y="2095560"/>
                    <a:ext cx="13766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0" name="Object 16"/>
          <p:cNvGraphicFramePr/>
          <p:nvPr/>
        </p:nvGraphicFramePr>
        <p:xfrm>
          <a:off x="5305320" y="2239920"/>
          <a:ext cx="79704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91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05320" y="2239920"/>
                    <a:ext cx="797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2" name="Freeform 17"/>
          <p:cNvSpPr/>
          <p:nvPr/>
        </p:nvSpPr>
        <p:spPr>
          <a:xfrm>
            <a:off x="3348000" y="2276640"/>
            <a:ext cx="1800360" cy="792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Text Box 18"/>
          <p:cNvSpPr/>
          <p:nvPr/>
        </p:nvSpPr>
        <p:spPr>
          <a:xfrm>
            <a:off x="6877080" y="234936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льзователь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Text Box 19"/>
          <p:cNvSpPr/>
          <p:nvPr/>
        </p:nvSpPr>
        <p:spPr>
          <a:xfrm>
            <a:off x="4500720" y="436572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Демонстрационный пример</a:t>
            </a:r>
            <a:br>
              <a:rPr sz="3600"/>
            </a:b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четыре равновероятных процесса формируют непрерывный поток ТФ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635280" y="2421000"/>
            <a:ext cx="374976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СМАКРИСРИ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СМАКДУБЛЕ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Text Box 4"/>
          <p:cNvSpPr/>
          <p:nvPr/>
        </p:nvSpPr>
        <p:spPr>
          <a:xfrm>
            <a:off x="3635280" y="2276640"/>
            <a:ext cx="6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8" name="Group 5"/>
          <p:cNvGrpSpPr/>
          <p:nvPr/>
        </p:nvGrpSpPr>
        <p:grpSpPr>
          <a:xfrm>
            <a:off x="7020000" y="1413000"/>
            <a:ext cx="1584360" cy="2232000"/>
            <a:chOff x="7020000" y="1413000"/>
            <a:chExt cx="1584360" cy="2232000"/>
          </a:xfrm>
        </p:grpSpPr>
        <p:sp>
          <p:nvSpPr>
            <p:cNvPr id="1099" name="Text Box 6"/>
            <p:cNvSpPr/>
            <p:nvPr/>
          </p:nvSpPr>
          <p:spPr>
            <a:xfrm>
              <a:off x="7452000" y="1413000"/>
              <a:ext cx="1152360" cy="2232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ИС</a:t>
              </a:r>
              <a:endParaRPr b="1" i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____</a:t>
              </a:r>
              <a:endParaRPr b="1" i="1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"Генетич. программа"</a:t>
              </a:r>
              <a:endParaRPr b="1" i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Line 7"/>
            <p:cNvSpPr/>
            <p:nvPr/>
          </p:nvSpPr>
          <p:spPr>
            <a:xfrm>
              <a:off x="7020000" y="2580120"/>
              <a:ext cx="2890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1" name="Oval 8"/>
            <p:cNvSpPr/>
            <p:nvPr/>
          </p:nvSpPr>
          <p:spPr>
            <a:xfrm>
              <a:off x="7380360" y="2421360"/>
              <a:ext cx="18108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2" name="Rectangle 9"/>
          <p:cNvSpPr/>
          <p:nvPr/>
        </p:nvSpPr>
        <p:spPr>
          <a:xfrm>
            <a:off x="142920" y="3951360"/>
            <a:ext cx="900108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обходимо построить словарь в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разов,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полностью покрывающий ТФ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Примем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я обработки символа и образа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один такт 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нергетические затраты на обработку одного образа в ИС оценим 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1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нергетические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траты на хранение одного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за в памяти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- 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0,5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 каждый прогнозируемый символ ИС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удет получать - 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+1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редненный энергетический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аланс ИС на 12 такт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мволов =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обработка)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-1/2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хранение)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 (12-N)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рогнозирование) =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2 -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/2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)*E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3" name="Group 10"/>
          <p:cNvGrpSpPr/>
          <p:nvPr/>
        </p:nvGrpSpPr>
        <p:grpSpPr>
          <a:xfrm>
            <a:off x="395280" y="1197000"/>
            <a:ext cx="3240720" cy="2879640"/>
            <a:chOff x="395280" y="1197000"/>
            <a:chExt cx="3240720" cy="2879640"/>
          </a:xfrm>
        </p:grpSpPr>
        <p:grpSp>
          <p:nvGrpSpPr>
            <p:cNvPr id="1104" name="Group 11"/>
            <p:cNvGrpSpPr/>
            <p:nvPr/>
          </p:nvGrpSpPr>
          <p:grpSpPr>
            <a:xfrm>
              <a:off x="395280" y="1197000"/>
              <a:ext cx="3240720" cy="2879640"/>
              <a:chOff x="395280" y="1197000"/>
              <a:chExt cx="3240720" cy="2879640"/>
            </a:xfrm>
          </p:grpSpPr>
          <p:grpSp>
            <p:nvGrpSpPr>
              <p:cNvPr id="1105" name="Group 12"/>
              <p:cNvGrpSpPr/>
              <p:nvPr/>
            </p:nvGrpSpPr>
            <p:grpSpPr>
              <a:xfrm>
                <a:off x="395280" y="1197000"/>
                <a:ext cx="2879280" cy="2879640"/>
                <a:chOff x="395280" y="1197000"/>
                <a:chExt cx="2879280" cy="2879640"/>
              </a:xfrm>
            </p:grpSpPr>
            <p:sp>
              <p:nvSpPr>
                <p:cNvPr id="1106" name="Oval 13"/>
                <p:cNvSpPr/>
                <p:nvPr/>
              </p:nvSpPr>
              <p:spPr>
                <a:xfrm>
                  <a:off x="395280" y="1197000"/>
                  <a:ext cx="2879280" cy="287964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7" name="Text Box 14"/>
                <p:cNvSpPr/>
                <p:nvPr/>
              </p:nvSpPr>
              <p:spPr>
                <a:xfrm>
                  <a:off x="2195280" y="1412640"/>
                  <a:ext cx="73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ПО</a:t>
                  </a:r>
                  <a:endParaRPr b="1" i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Oval 15"/>
                <p:cNvSpPr/>
                <p:nvPr/>
              </p:nvSpPr>
              <p:spPr>
                <a:xfrm>
                  <a:off x="1547280" y="1339920"/>
                  <a:ext cx="576000" cy="504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9" name="Oval 16"/>
                <p:cNvSpPr/>
                <p:nvPr/>
              </p:nvSpPr>
              <p:spPr>
                <a:xfrm>
                  <a:off x="610920" y="2923920"/>
                  <a:ext cx="575640" cy="5050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0" name="Oval 17"/>
                <p:cNvSpPr/>
                <p:nvPr/>
              </p:nvSpPr>
              <p:spPr>
                <a:xfrm>
                  <a:off x="2555640" y="2923920"/>
                  <a:ext cx="575640" cy="5050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Line 18"/>
                <p:cNvSpPr/>
                <p:nvPr/>
              </p:nvSpPr>
              <p:spPr>
                <a:xfrm>
                  <a:off x="2195280" y="2779560"/>
                  <a:ext cx="43128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2" name="Line 19"/>
                <p:cNvSpPr/>
                <p:nvPr/>
              </p:nvSpPr>
              <p:spPr>
                <a:xfrm flipV="1">
                  <a:off x="1115640" y="2779560"/>
                  <a:ext cx="36000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3" name="Line 20"/>
                <p:cNvSpPr/>
                <p:nvPr/>
              </p:nvSpPr>
              <p:spPr>
                <a:xfrm>
                  <a:off x="2050560" y="1700280"/>
                  <a:ext cx="792000" cy="122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Line 21"/>
                <p:cNvSpPr/>
                <p:nvPr/>
              </p:nvSpPr>
              <p:spPr>
                <a:xfrm>
                  <a:off x="1115640" y="3213000"/>
                  <a:ext cx="1510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5" name="Line 22"/>
                <p:cNvSpPr/>
                <p:nvPr/>
              </p:nvSpPr>
              <p:spPr>
                <a:xfrm flipH="1">
                  <a:off x="899280" y="1628640"/>
                  <a:ext cx="718920" cy="1295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6" name="Group 23"/>
              <p:cNvGrpSpPr/>
              <p:nvPr/>
            </p:nvGrpSpPr>
            <p:grpSpPr>
              <a:xfrm>
                <a:off x="468000" y="1225440"/>
                <a:ext cx="3168000" cy="2274840"/>
                <a:chOff x="468000" y="1225440"/>
                <a:chExt cx="3168000" cy="2274840"/>
              </a:xfrm>
            </p:grpSpPr>
            <p:sp>
              <p:nvSpPr>
                <p:cNvPr id="1117" name="Oval 24"/>
                <p:cNvSpPr/>
                <p:nvPr/>
              </p:nvSpPr>
              <p:spPr>
                <a:xfrm>
                  <a:off x="3166200" y="2421000"/>
                  <a:ext cx="163440" cy="360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8" name="Line 25"/>
                <p:cNvSpPr/>
                <p:nvPr/>
              </p:nvSpPr>
              <p:spPr>
                <a:xfrm>
                  <a:off x="3347280" y="2636640"/>
                  <a:ext cx="28872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9" name="Text Box 26"/>
                <p:cNvSpPr/>
                <p:nvPr/>
              </p:nvSpPr>
              <p:spPr>
                <a:xfrm>
                  <a:off x="1402560" y="2421000"/>
                  <a:ext cx="792000" cy="36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9933"/>
                      </a:solidFill>
                      <a:latin typeface="Times New Roman"/>
                    </a:rPr>
                    <a:t>ДУБ</a:t>
                  </a: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0" name="Text Box 27"/>
                <p:cNvSpPr/>
                <p:nvPr/>
              </p:nvSpPr>
              <p:spPr>
                <a:xfrm>
                  <a:off x="2339280" y="1987560"/>
                  <a:ext cx="791640" cy="36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9933"/>
                      </a:solidFill>
                      <a:latin typeface="Times New Roman"/>
                    </a:rPr>
                    <a:t>ЛЕН</a:t>
                  </a: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1" name="Text Box 28"/>
                <p:cNvSpPr/>
                <p:nvPr/>
              </p:nvSpPr>
              <p:spPr>
                <a:xfrm>
                  <a:off x="1475640" y="3139920"/>
                  <a:ext cx="791640" cy="36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9933"/>
                      </a:solidFill>
                      <a:latin typeface="Times New Roman"/>
                    </a:rPr>
                    <a:t>РИС</a:t>
                  </a: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2" name="Text Box 29"/>
                <p:cNvSpPr/>
                <p:nvPr/>
              </p:nvSpPr>
              <p:spPr>
                <a:xfrm>
                  <a:off x="468000" y="2060640"/>
                  <a:ext cx="791640" cy="36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9933"/>
                      </a:solidFill>
                      <a:latin typeface="Times New Roman"/>
                    </a:rPr>
                    <a:t>МАК</a:t>
                  </a: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Text Box 30"/>
                <p:cNvSpPr/>
                <p:nvPr/>
              </p:nvSpPr>
              <p:spPr>
                <a:xfrm>
                  <a:off x="1608840" y="1225440"/>
                  <a:ext cx="5760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a</a:t>
                  </a:r>
                  <a:r>
                    <a:rPr b="1" i="1" lang="en-US" sz="2800" spc="-1" strike="noStrike" baseline="-25000">
                      <a:solidFill>
                        <a:srgbClr val="ffffff"/>
                      </a:solidFill>
                      <a:latin typeface="Tahoma"/>
                    </a:rPr>
                    <a:t>j</a:t>
                  </a:r>
                  <a:endParaRPr b="1" i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4" name="Text Box 31"/>
                <p:cNvSpPr/>
                <p:nvPr/>
              </p:nvSpPr>
              <p:spPr>
                <a:xfrm>
                  <a:off x="662760" y="2852640"/>
                  <a:ext cx="5760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a</a:t>
                  </a:r>
                  <a:r>
                    <a:rPr b="1" i="1" lang="en-US" sz="2800" spc="-1" strike="noStrike" baseline="-25000">
                      <a:solidFill>
                        <a:srgbClr val="ffffff"/>
                      </a:solidFill>
                      <a:latin typeface="Tahoma"/>
                    </a:rPr>
                    <a:t>i</a:t>
                  </a:r>
                  <a:endParaRPr b="1" i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5" name="Text Box 32"/>
                <p:cNvSpPr/>
                <p:nvPr/>
              </p:nvSpPr>
              <p:spPr>
                <a:xfrm>
                  <a:off x="2607480" y="2836800"/>
                  <a:ext cx="5760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a</a:t>
                  </a:r>
                  <a:r>
                    <a:rPr b="1" i="1" lang="en-US" sz="2800" spc="-1" strike="noStrike" baseline="-25000">
                      <a:solidFill>
                        <a:srgbClr val="ffffff"/>
                      </a:solidFill>
                      <a:latin typeface="Tahoma"/>
                    </a:rPr>
                    <a:t>k</a:t>
                  </a:r>
                  <a:endParaRPr b="1" i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26" name="Line 33"/>
            <p:cNvSpPr/>
            <p:nvPr/>
          </p:nvSpPr>
          <p:spPr>
            <a:xfrm>
              <a:off x="1834920" y="1839600"/>
              <a:ext cx="0" cy="57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7" name="Text Box 34"/>
          <p:cNvSpPr/>
          <p:nvPr/>
        </p:nvSpPr>
        <p:spPr>
          <a:xfrm>
            <a:off x="3924360" y="21258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Текстовой поток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Text Box 35"/>
          <p:cNvSpPr/>
          <p:nvPr/>
        </p:nvSpPr>
        <p:spPr>
          <a:xfrm>
            <a:off x="5148360" y="3284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крашенный поток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AutoShape 36"/>
          <p:cNvSpPr/>
          <p:nvPr/>
        </p:nvSpPr>
        <p:spPr>
          <a:xfrm rot="5400000">
            <a:off x="5903280" y="2169360"/>
            <a:ext cx="504720" cy="1728720"/>
          </a:xfrm>
          <a:custGeom>
            <a:avLst/>
            <a:gdLst>
              <a:gd name="textAreaLeft" fmla="*/ 0 w 504720"/>
              <a:gd name="textAreaRight" fmla="*/ 182160 w 5047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9328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Результаты   эксперимента 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вая структуризация словаря ИС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396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Форма словаря: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наибольший размер образа - один символ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&lt;М&gt;&lt;А&gt;&lt;К&gt;&lt;Р&gt;&lt;И&gt;&lt;С&gt;&lt;Л&gt;&lt;Е&gt;&lt;Н&gt;&lt;Д&gt;&lt;У&gt;&lt;Б&gt;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траты энергии на хранен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ИС)=1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*(0,5Е)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траты энергии на распознавание 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нозирование (Т) = 0Т (т.к. у образа только один символ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тролирование потенциальной энергии ТФ =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односимвольного словаря усредненный энергетический баланс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= -18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Line 4"/>
          <p:cNvSpPr/>
          <p:nvPr/>
        </p:nvSpPr>
        <p:spPr>
          <a:xfrm>
            <a:off x="684360" y="4724280"/>
            <a:ext cx="7632720" cy="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Rectangle 8"/>
          <p:cNvSpPr/>
          <p:nvPr/>
        </p:nvSpPr>
        <p:spPr>
          <a:xfrm>
            <a:off x="1116000" y="5084640"/>
            <a:ext cx="6840720" cy="106956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Эволюционный потенциал ИС =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,T):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{E~T}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П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редненный энергетический баланс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исленно характеризующи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е жизнеспособность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Rectangle 11"/>
          <p:cNvSpPr/>
          <p:nvPr/>
        </p:nvSpPr>
        <p:spPr>
          <a:xfrm>
            <a:off x="495360" y="385452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Итог: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7280" y="387000"/>
            <a:ext cx="6696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Инструментарий экономики  знан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15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133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87480" indent="-987480">
              <a:tabLst>
                <a:tab algn="l" pos="0"/>
                <a:tab algn="l" pos="987480"/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1045880"/>
              </a:tabLst>
            </a:pPr>
            <a:r>
              <a:rPr b="1" lang="en-GB" sz="1800" spc="-1" strike="noStrike">
                <a:solidFill>
                  <a:srgbClr val="336600"/>
                </a:solidFill>
                <a:latin typeface="Tahoma"/>
                <a:ea typeface="Lucida Sans Unicode"/>
              </a:rPr>
              <a:t>Задача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Необходимо перерабатывать крупномасштабные потоки слабоструктурированной информации до 1 Гб/с в  “on line”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278460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Отсутствие инструментария по эффективной разработке информационного ресурса это не только </a:t>
            </a:r>
            <a:r>
              <a:rPr b="0" lang="en-GB" sz="1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упущенные выгоды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с 1960г),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но и катастрофические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  <a:ea typeface="Lucida Sans Unicode"/>
              </a:rPr>
              <a:t>угрозы от неуправляемости и непрогнозируемости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последствий ТГД (с 2000г).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044600"/>
            <a:ext cx="8820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tabLst>
                <a:tab algn="l" pos="0"/>
                <a:tab algn="l" pos="179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Инструментарий на базе: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9280" indent="-179280">
              <a:buClr>
                <a:srgbClr val="000000"/>
              </a:buClr>
              <a:buFont typeface="Tahoma"/>
              <a:buChar char="-"/>
              <a:tabLst>
                <a:tab algn="l" pos="179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человеческого ресурса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(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ТТХ:  10 Гц, объем памяти 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ahoma"/>
                <a:ea typeface="Lucida Sans Unicode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образов, но даже при таких низких значениях ТТХ человек часто выигрывает соревнование у ЭВМ);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9280" indent="-179280">
              <a:buClr>
                <a:srgbClr val="000000"/>
              </a:buClr>
              <a:buFont typeface="Tahoma"/>
              <a:buChar char="-"/>
              <a:tabLst>
                <a:tab algn="l" pos="179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алгоритмического подхода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на базе эвристик. сложность, длительность, т.Геделя);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9280" indent="-179280">
              <a:buClr>
                <a:srgbClr val="000000"/>
              </a:buClr>
              <a:buFont typeface="Tahoma"/>
              <a:buChar char="-"/>
              <a:tabLst>
                <a:tab algn="l" pos="179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классические нейросети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эвристичность, сложность обучения, негарантированность результата, непрозрачность управления);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9280" indent="-179280">
              <a:buClr>
                <a:srgbClr val="000000"/>
              </a:buClr>
              <a:buFont typeface="Tahoma"/>
              <a:buChar char="-"/>
              <a:tabLst>
                <a:tab algn="l" pos="179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нейросемантика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незавершен процесс теоретической разработки).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7C23-683E-4366-864E-010D745BA6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5198-78DE-4982-86C6-3856C3DEC4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979640" y="685800"/>
            <a:ext cx="56880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тора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уктуризация словаря 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84320" y="2060280"/>
            <a:ext cx="89596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) Минимальная форма словаря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&lt;МА&gt;&lt;К&gt;&lt;РИ&gt;&lt;С&gt;&lt;ЛЕ&gt;&lt;Н&gt;&lt;ДУ&gt;&lt;Б&gt;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траты энергии на хранен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ИС) )= 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на распознавание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прогнозирование = 0,5Т (на образ), контролирование ТФ = +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339933"/>
                </a:solidFill>
                <a:latin typeface="Tahoma"/>
              </a:rPr>
              <a:t>Итог</a:t>
            </a:r>
            <a:r>
              <a:rPr b="0" i="1" lang="en-US" sz="18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339933"/>
                </a:solidFill>
                <a:latin typeface="Tahoma"/>
              </a:rPr>
              <a:t>а) </a:t>
            </a:r>
            <a:r>
              <a:rPr b="0" lang="ru-RU" sz="1800" spc="-1" strike="noStrike">
                <a:solidFill>
                  <a:srgbClr val="339933"/>
                </a:solidFill>
                <a:latin typeface="Tahoma"/>
              </a:rPr>
              <a:t>4Е- + (0,5Т * 8(образов на ТФ=12) = 4</a:t>
            </a:r>
            <a:r>
              <a:rPr b="0" lang="en-US" sz="1800" spc="-1" strike="noStrike">
                <a:solidFill>
                  <a:srgbClr val="339933"/>
                </a:solidFill>
                <a:latin typeface="Tahoma"/>
              </a:rPr>
              <a:t>E</a:t>
            </a:r>
            <a:r>
              <a:rPr b="0" lang="ru-RU" sz="1800" spc="-1" strike="noStrike">
                <a:solidFill>
                  <a:srgbClr val="339933"/>
                </a:solidFill>
                <a:latin typeface="Tahoma"/>
              </a:rPr>
              <a:t>+) + 8</a:t>
            </a:r>
            <a:r>
              <a:rPr b="0" lang="en-US" sz="1800" spc="-1" strike="noStrike">
                <a:solidFill>
                  <a:srgbClr val="339933"/>
                </a:solidFill>
                <a:latin typeface="Tahoma"/>
              </a:rPr>
              <a:t>E</a:t>
            </a:r>
            <a:r>
              <a:rPr b="0" lang="ru-RU" sz="1800" spc="-1" strike="noStrike">
                <a:solidFill>
                  <a:srgbClr val="339933"/>
                </a:solidFill>
                <a:latin typeface="Tahoma"/>
              </a:rPr>
              <a:t>- =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-8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ru-RU" sz="1800" spc="-1" strike="noStrike">
                <a:solidFill>
                  <a:srgbClr val="339933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б) Максимальная форма (без полного пересечения)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&lt;МА&gt;&lt;КЛ&gt;&lt;КР&gt;&lt;КД&gt;&lt;КМ&gt; &lt;ЛЕ&gt;…&lt;БД&gt;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траты энергии на хранен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ИС)= 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-10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на распознавание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прогнозирование = 0,2Т (на образ), контролирование ТФ = +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339933"/>
                </a:solidFill>
                <a:latin typeface="Tahoma"/>
              </a:rPr>
              <a:t>Итог б)</a:t>
            </a:r>
            <a:r>
              <a:rPr b="0" lang="ru-RU" sz="1800" spc="-1" strike="noStrike">
                <a:solidFill>
                  <a:srgbClr val="339933"/>
                </a:solidFill>
                <a:latin typeface="Tahoma"/>
              </a:rPr>
              <a:t> 10Е- + (0,2Т * 20(образов на ТФ=12) = 4</a:t>
            </a:r>
            <a:r>
              <a:rPr b="0" lang="en-US" sz="1800" spc="-1" strike="noStrike">
                <a:solidFill>
                  <a:srgbClr val="339933"/>
                </a:solidFill>
                <a:latin typeface="Tahoma"/>
              </a:rPr>
              <a:t>E</a:t>
            </a:r>
            <a:r>
              <a:rPr b="0" lang="ru-RU" sz="1800" spc="-1" strike="noStrike">
                <a:solidFill>
                  <a:srgbClr val="339933"/>
                </a:solidFill>
                <a:latin typeface="Tahoma"/>
              </a:rPr>
              <a:t>+) + 20</a:t>
            </a:r>
            <a:r>
              <a:rPr b="0" lang="en-US" sz="1800" spc="-1" strike="noStrike">
                <a:solidFill>
                  <a:srgbClr val="339933"/>
                </a:solidFill>
                <a:latin typeface="Tahoma"/>
              </a:rPr>
              <a:t>E</a:t>
            </a:r>
            <a:r>
              <a:rPr b="0" lang="ru-RU" sz="1800" spc="-1" strike="noStrike">
                <a:solidFill>
                  <a:srgbClr val="339933"/>
                </a:solidFill>
                <a:latin typeface="Tahoma"/>
              </a:rPr>
              <a:t>- =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-26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Итоговый лучший эволюционный потенциал = - 8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Rectangle 4"/>
          <p:cNvSpPr/>
          <p:nvPr/>
        </p:nvSpPr>
        <p:spPr>
          <a:xfrm>
            <a:off x="2087280" y="1190520"/>
            <a:ext cx="53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(наибольший  размер  образа  - два  символа)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4D19-C49C-4BF8-A3A6-CD0238DDFD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DB0A-E0BC-4B46-A335-4B99825FDB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84216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етья структуризация словаря </a:t>
            </a:r>
            <a:br>
              <a:rPr sz="2400"/>
            </a:br>
            <a:br>
              <a:rPr sz="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(наибольший  размер  образа  в  три  символа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84320" y="2060280"/>
            <a:ext cx="89596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а) Минимальная форма словаря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&lt;МАК&gt;&lt;РИС&gt;&lt;ЛЕН&gt;&lt;ДУБ&gt;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траты энергии на хранен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ИС)=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на распознавание =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прогнозирование = 2Т (на образ), контролирование ТФ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339933"/>
                </a:solidFill>
                <a:latin typeface="Tahoma"/>
              </a:rPr>
              <a:t>Итог</a:t>
            </a:r>
            <a:r>
              <a:rPr b="0" i="1" lang="en-US" sz="2000" spc="-1" strike="noStrike">
                <a:solidFill>
                  <a:srgbClr val="339933"/>
                </a:solidFill>
                <a:latin typeface="Tahoma"/>
              </a:rPr>
              <a:t>  </a:t>
            </a:r>
            <a:r>
              <a:rPr b="0" i="1" lang="ru-RU" sz="2000" spc="-1" strike="noStrike">
                <a:solidFill>
                  <a:srgbClr val="339933"/>
                </a:solidFill>
                <a:latin typeface="Tahoma"/>
              </a:rPr>
              <a:t>а) 2</a:t>
            </a:r>
            <a:r>
              <a:rPr b="0" lang="ru-RU" sz="2000" spc="-1" strike="noStrike">
                <a:solidFill>
                  <a:srgbClr val="339933"/>
                </a:solidFill>
                <a:latin typeface="Tahoma"/>
              </a:rPr>
              <a:t>Е- + (2Т * 4(образов на ТФ=12) = 8</a:t>
            </a: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339933"/>
                </a:solidFill>
                <a:latin typeface="Tahoma"/>
              </a:rPr>
              <a:t>+) + 4</a:t>
            </a: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339933"/>
                </a:solidFill>
                <a:latin typeface="Tahoma"/>
              </a:rPr>
              <a:t>- =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33993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б) Максимальная форма (без дублирования, т.е. без полного пересечения)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&lt;АКР&gt;&lt;ИСР&gt;&lt;ИСМ&gt;&lt;АКД&gt; &lt;УБЛ&gt;&lt;ЕНД&gt; … &lt;АКМ&gt;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траты энергии на хранен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ИС)= 3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8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на распознавание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прогнозирование (Т) =+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, контролирование ТФ =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339933"/>
                </a:solidFill>
                <a:latin typeface="Tahoma"/>
              </a:rPr>
              <a:t>Итог </a:t>
            </a:r>
            <a:r>
              <a:rPr b="0" i="1" lang="en-US" sz="20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339933"/>
                </a:solidFill>
                <a:latin typeface="Tahoma"/>
              </a:rPr>
              <a:t>б)</a:t>
            </a:r>
            <a:r>
              <a:rPr b="0" lang="ru-RU" sz="2000" spc="-1" strike="noStrike">
                <a:solidFill>
                  <a:srgbClr val="339933"/>
                </a:solidFill>
                <a:latin typeface="Tahoma"/>
              </a:rPr>
              <a:t> =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-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0E</a:t>
            </a:r>
            <a:r>
              <a:rPr b="0" lang="ru-RU" sz="2000" spc="-1" strike="noStrike">
                <a:solidFill>
                  <a:srgbClr val="339933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Лучший итоговый эволюционный потенциал =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0E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(!!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68C5-FE0F-431B-8100-4D245D37FA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0ACD-1809-4438-8469-5036EA5175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712944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твертая структуризация словаря</a:t>
            </a:r>
            <a:br>
              <a:rPr sz="2400"/>
            </a:b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(наибольший размер образа в четыре символа) 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84320" y="2060280"/>
            <a:ext cx="89596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а) Минимальная форма словаря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&lt;МАК&gt;&lt;РИС&gt;&lt;ЛЕН&gt;&lt;ДУБ&gt;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траты энергии н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ранен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ИС)=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на распознавание =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прогнозирование = 2Т (на образ), контролирование ТФ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339933"/>
                </a:solidFill>
                <a:latin typeface="Tahoma"/>
              </a:rPr>
              <a:t>Итог</a:t>
            </a:r>
            <a:r>
              <a:rPr b="0" i="1" lang="en-US" sz="2000" spc="-1" strike="noStrike">
                <a:solidFill>
                  <a:srgbClr val="339933"/>
                </a:solidFill>
                <a:latin typeface="Tahoma"/>
              </a:rPr>
              <a:t>  </a:t>
            </a:r>
            <a:r>
              <a:rPr b="0" i="1" lang="ru-RU" sz="2000" spc="-1" strike="noStrike">
                <a:solidFill>
                  <a:srgbClr val="339933"/>
                </a:solidFill>
                <a:latin typeface="Tahoma"/>
              </a:rPr>
              <a:t>а) 2</a:t>
            </a:r>
            <a:r>
              <a:rPr b="0" lang="ru-RU" sz="2000" spc="-1" strike="noStrike">
                <a:solidFill>
                  <a:srgbClr val="339933"/>
                </a:solidFill>
                <a:latin typeface="Tahoma"/>
              </a:rPr>
              <a:t>Е- + (2Т * 4(образов на ТФ=12) = 8</a:t>
            </a: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339933"/>
                </a:solidFill>
                <a:latin typeface="Tahoma"/>
              </a:rPr>
              <a:t>+) + 4</a:t>
            </a: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339933"/>
                </a:solidFill>
                <a:latin typeface="Tahoma"/>
              </a:rPr>
              <a:t>- =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+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б) Максимальная форма (без дублирования)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&lt;АКРИ&gt;&lt;ИСРИ&gt;&lt;ИСМА&gt; &lt;АКДУ&gt;&lt;УБЛЕ&gt;&lt;ЕНДУ&gt; … &lt;АКМА&gt;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траты энергии н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ранен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ИС)= 4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4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на распознавание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прогнозирование ≈ 0Т (на образ), контролирование ТФ = 0,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339933"/>
                </a:solidFill>
                <a:latin typeface="Tahoma"/>
              </a:rPr>
              <a:t>Итог  б)</a:t>
            </a:r>
            <a:r>
              <a:rPr b="0" lang="ru-RU" sz="2000" spc="-1" strike="noStrike">
                <a:solidFill>
                  <a:srgbClr val="339933"/>
                </a:solidFill>
                <a:latin typeface="Tahoma"/>
              </a:rPr>
              <a:t> =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-7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339933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Лучший итоговый эволюционный потенциал =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7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17EE-EC69-451C-8777-6E69A5887E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71294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ятая, шестая,  седьмая и другие структуризации словаря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46200" y="2785680"/>
            <a:ext cx="79264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учший итоговый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эволюционный потенциал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11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1100" spc="-1" strike="noStrike">
                <a:solidFill>
                  <a:srgbClr val="ff0000"/>
                </a:solidFill>
                <a:latin typeface="Tahoma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+2</a:t>
            </a:r>
            <a:r>
              <a:rPr b="0" lang="en-US" sz="2800" spc="-1" strike="noStrike">
                <a:solidFill>
                  <a:srgbClr val="339933"/>
                </a:solidFill>
                <a:latin typeface="Tahoma"/>
              </a:rPr>
              <a:t>E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339933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204</a:t>
            </a:r>
            <a:r>
              <a:rPr b="0" lang="en-US" sz="2800" spc="-1" strike="noStrike">
                <a:solidFill>
                  <a:srgbClr val="339933"/>
                </a:solidFill>
                <a:latin typeface="Tahoma"/>
              </a:rPr>
              <a:t>E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 . . 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339933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Худший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9933"/>
                </a:solidFill>
                <a:latin typeface="Tahoma"/>
              </a:rPr>
              <a:t>+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339933"/>
                </a:solidFill>
                <a:latin typeface="Tahoma"/>
              </a:rPr>
              <a:t>E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339933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204</a:t>
            </a:r>
            <a:r>
              <a:rPr b="0" lang="en-US" sz="2800" spc="-1" strike="noStrike">
                <a:solidFill>
                  <a:srgbClr val="339933"/>
                </a:solidFill>
                <a:latin typeface="Tahoma"/>
              </a:rPr>
              <a:t>E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 . . .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-</a:t>
            </a:r>
            <a:r>
              <a:rPr b="1" lang="ru-RU" sz="3600" spc="-1" strike="noStrike">
                <a:solidFill>
                  <a:srgbClr val="ff33cc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Прямая соединительная линия 4"/>
          <p:cNvSpPr/>
          <p:nvPr/>
        </p:nvSpPr>
        <p:spPr>
          <a:xfrm>
            <a:off x="642960" y="4143240"/>
            <a:ext cx="7286760" cy="1800"/>
          </a:xfrm>
          <a:prstGeom prst="line">
            <a:avLst/>
          </a:prstGeom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DB7F-E4EA-451D-BEAA-9B7DCBBF52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0392-0754-4DA6-AAB0-C757A5334C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4" name="Group 3"/>
          <p:cNvGrpSpPr/>
          <p:nvPr/>
        </p:nvGrpSpPr>
        <p:grpSpPr>
          <a:xfrm>
            <a:off x="-108000" y="2017800"/>
            <a:ext cx="5170680" cy="3003480"/>
            <a:chOff x="-108000" y="2017800"/>
            <a:chExt cx="5170680" cy="3003480"/>
          </a:xfrm>
        </p:grpSpPr>
        <p:grpSp>
          <p:nvGrpSpPr>
            <p:cNvPr id="1155" name="Group 4"/>
            <p:cNvGrpSpPr/>
            <p:nvPr/>
          </p:nvGrpSpPr>
          <p:grpSpPr>
            <a:xfrm>
              <a:off x="1312920" y="2017800"/>
              <a:ext cx="3749760" cy="1266840"/>
              <a:chOff x="1312920" y="2017800"/>
              <a:chExt cx="3749760" cy="1266840"/>
            </a:xfrm>
          </p:grpSpPr>
          <p:sp>
            <p:nvSpPr>
              <p:cNvPr id="1156" name="Text Box 5"/>
              <p:cNvSpPr/>
              <p:nvPr/>
            </p:nvSpPr>
            <p:spPr>
              <a:xfrm>
                <a:off x="1312920" y="2017800"/>
                <a:ext cx="3749760" cy="12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9933"/>
                    </a:solidFill>
                    <a:latin typeface="Times New Roman"/>
                  </a:rPr>
                  <a:t>МАКРИСРИ</a:t>
                </a:r>
                <a:r>
                  <a:rPr b="1" lang="ru-RU" sz="1800" spc="-1" strike="noStrike">
                    <a:solidFill>
                      <a:srgbClr val="3333cc"/>
                    </a:solidFill>
                    <a:latin typeface="Times New Roman"/>
                  </a:rPr>
                  <a:t>СМАКДУБЛЕН</a:t>
                </a:r>
                <a:r>
                  <a:rPr b="1" lang="en-US" sz="18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ru-RU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01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    t</a:t>
                </a:r>
                <a:r>
                  <a:rPr b="1" lang="ru-RU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02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   t</a:t>
                </a:r>
                <a:r>
                  <a:rPr b="1" lang="ru-RU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03</a:t>
                </a: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7" name="Line 6"/>
              <p:cNvSpPr/>
              <p:nvPr/>
            </p:nvSpPr>
            <p:spPr>
              <a:xfrm flipV="1">
                <a:off x="1817640" y="2349000"/>
                <a:ext cx="0" cy="2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8" name="Line 7"/>
              <p:cNvSpPr/>
              <p:nvPr/>
            </p:nvSpPr>
            <p:spPr>
              <a:xfrm flipV="1">
                <a:off x="2970360" y="2349000"/>
                <a:ext cx="0" cy="2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9" name="Line 8"/>
              <p:cNvSpPr/>
              <p:nvPr/>
            </p:nvSpPr>
            <p:spPr>
              <a:xfrm flipV="1">
                <a:off x="3689640" y="236844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60" name="Oval 9"/>
            <p:cNvSpPr/>
            <p:nvPr/>
          </p:nvSpPr>
          <p:spPr>
            <a:xfrm>
              <a:off x="-108000" y="2060640"/>
              <a:ext cx="1152720" cy="1439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61" name="Group 10"/>
            <p:cNvGrpSpPr/>
            <p:nvPr/>
          </p:nvGrpSpPr>
          <p:grpSpPr>
            <a:xfrm>
              <a:off x="270000" y="2565360"/>
              <a:ext cx="774000" cy="459720"/>
              <a:chOff x="270000" y="2565360"/>
              <a:chExt cx="774000" cy="459720"/>
            </a:xfrm>
          </p:grpSpPr>
          <p:sp>
            <p:nvSpPr>
              <p:cNvPr id="1162" name="Oval 11"/>
              <p:cNvSpPr/>
              <p:nvPr/>
            </p:nvSpPr>
            <p:spPr>
              <a:xfrm>
                <a:off x="880920" y="2565360"/>
                <a:ext cx="16308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3" name="Text Box 12"/>
              <p:cNvSpPr/>
              <p:nvPr/>
            </p:nvSpPr>
            <p:spPr>
              <a:xfrm>
                <a:off x="270000" y="2565360"/>
                <a:ext cx="73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ПО</a:t>
                </a:r>
                <a:endParaRPr b="1" i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64" name="Text Box 13"/>
            <p:cNvSpPr/>
            <p:nvPr/>
          </p:nvSpPr>
          <p:spPr>
            <a:xfrm>
              <a:off x="449280" y="2970360"/>
              <a:ext cx="792360" cy="12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Times New Roman"/>
                </a:rPr>
                <a:t>МАКРИС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Times New Roman"/>
                </a:rPr>
                <a:t>ЛЕН ДУБ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5" name="Text Box 14"/>
            <p:cNvSpPr/>
            <p:nvPr/>
          </p:nvSpPr>
          <p:spPr>
            <a:xfrm>
              <a:off x="1528920" y="3284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6" name="AutoShape 15"/>
            <p:cNvSpPr/>
            <p:nvPr/>
          </p:nvSpPr>
          <p:spPr>
            <a:xfrm>
              <a:off x="1314720" y="3141720"/>
              <a:ext cx="287280" cy="863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67" name="Group 16"/>
            <p:cNvGrpSpPr/>
            <p:nvPr/>
          </p:nvGrpSpPr>
          <p:grpSpPr>
            <a:xfrm>
              <a:off x="522360" y="4308480"/>
              <a:ext cx="647640" cy="712800"/>
              <a:chOff x="522360" y="4308480"/>
              <a:chExt cx="647640" cy="712800"/>
            </a:xfrm>
          </p:grpSpPr>
          <p:sp>
            <p:nvSpPr>
              <p:cNvPr id="1168" name="AutoShape 17"/>
              <p:cNvSpPr/>
              <p:nvPr/>
            </p:nvSpPr>
            <p:spPr>
              <a:xfrm flipV="1" rot="5400000">
                <a:off x="666720" y="4163760"/>
                <a:ext cx="287280" cy="576360"/>
              </a:xfrm>
              <a:custGeom>
                <a:avLst/>
                <a:gdLst>
                  <a:gd name="textAreaLeft" fmla="*/ 0 w 287280"/>
                  <a:gd name="textAreaRight" fmla="*/ 103680 w 287280"/>
                  <a:gd name="textAreaTop" fmla="*/ 14760 h 576360"/>
                  <a:gd name="textAreaBottom" fmla="*/ 561600 h 5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9" name="Text Box 18"/>
              <p:cNvSpPr/>
              <p:nvPr/>
            </p:nvSpPr>
            <p:spPr>
              <a:xfrm>
                <a:off x="594000" y="465300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£</a:t>
                </a: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0420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втоструктуризация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разов-процессов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 ИС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1" name="Line 20"/>
          <p:cNvSpPr/>
          <p:nvPr/>
        </p:nvSpPr>
        <p:spPr>
          <a:xfrm>
            <a:off x="4643280" y="2205000"/>
            <a:ext cx="289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Text Box 21"/>
          <p:cNvSpPr/>
          <p:nvPr/>
        </p:nvSpPr>
        <p:spPr>
          <a:xfrm>
            <a:off x="5076720" y="1700280"/>
            <a:ext cx="3672000" cy="3579840"/>
          </a:xfrm>
          <a:prstGeom prst="rect">
            <a:avLst/>
          </a:prstGeom>
          <a:solidFill>
            <a:srgbClr val="feede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ИС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Text Box 22"/>
          <p:cNvSpPr/>
          <p:nvPr/>
        </p:nvSpPr>
        <p:spPr>
          <a:xfrm>
            <a:off x="5219640" y="1773360"/>
            <a:ext cx="79236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АКРИСРИСМАКДУБЛЕНД …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АКМ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Text Box 23"/>
          <p:cNvSpPr/>
          <p:nvPr/>
        </p:nvSpPr>
        <p:spPr>
          <a:xfrm>
            <a:off x="6705720" y="2205000"/>
            <a:ext cx="792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РИС ДУБ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МАКЛЕН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Text Box 24"/>
          <p:cNvSpPr/>
          <p:nvPr/>
        </p:nvSpPr>
        <p:spPr>
          <a:xfrm>
            <a:off x="7834320" y="2565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=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AutoShape 25"/>
          <p:cNvSpPr/>
          <p:nvPr/>
        </p:nvSpPr>
        <p:spPr>
          <a:xfrm>
            <a:off x="7543800" y="234936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Text Box 26"/>
          <p:cNvSpPr/>
          <p:nvPr/>
        </p:nvSpPr>
        <p:spPr>
          <a:xfrm>
            <a:off x="6012000" y="4365720"/>
            <a:ext cx="3132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1800" spc="-1" strike="noStrike" baseline="78000">
                <a:solidFill>
                  <a:srgbClr val="ff0000"/>
                </a:solidFill>
                <a:latin typeface="Tahoma"/>
              </a:rPr>
              <a:t>[L</a:t>
            </a:r>
            <a:r>
              <a:rPr b="1" lang="ru-RU" sz="1800" spc="-1" strike="noStrike" baseline="78000">
                <a:solidFill>
                  <a:srgbClr val="ff0000"/>
                </a:solidFill>
                <a:latin typeface="Tahoma"/>
              </a:rPr>
              <a:t>/</a:t>
            </a:r>
            <a:r>
              <a:rPr b="1" lang="en-US" sz="1800" spc="-1" strike="noStrike" baseline="78000">
                <a:solidFill>
                  <a:srgbClr val="ff0000"/>
                </a:solidFill>
                <a:latin typeface="Tahoma"/>
              </a:rPr>
              <a:t>£]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2400" spc="-1" strike="noStrike" baseline="7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* L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AutoShape 27"/>
          <p:cNvSpPr/>
          <p:nvPr/>
        </p:nvSpPr>
        <p:spPr>
          <a:xfrm>
            <a:off x="6084720" y="1844640"/>
            <a:ext cx="287640" cy="2592360"/>
          </a:xfrm>
          <a:custGeom>
            <a:avLst/>
            <a:gdLst>
              <a:gd name="textAreaLeft" fmla="*/ 0 w 287640"/>
              <a:gd name="textAreaRight" fmla="*/ 103680 w 2876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5832"/>
                </a:lnTo>
                <a:cubicBezTo>
                  <a:pt x="10800" y="16732"/>
                  <a:pt x="16200" y="17632"/>
                  <a:pt x="21600" y="17632"/>
                </a:cubicBezTo>
                <a:cubicBezTo>
                  <a:pt x="16200" y="17632"/>
                  <a:pt x="10800" y="18532"/>
                  <a:pt x="10800" y="1943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9" name="Group 28"/>
          <p:cNvGrpSpPr/>
          <p:nvPr/>
        </p:nvGrpSpPr>
        <p:grpSpPr>
          <a:xfrm>
            <a:off x="5219640" y="4518000"/>
            <a:ext cx="863280" cy="712800"/>
            <a:chOff x="5219640" y="4518000"/>
            <a:chExt cx="863280" cy="712800"/>
          </a:xfrm>
        </p:grpSpPr>
        <p:sp>
          <p:nvSpPr>
            <p:cNvPr id="1180" name="AutoShape 29"/>
            <p:cNvSpPr/>
            <p:nvPr/>
          </p:nvSpPr>
          <p:spPr>
            <a:xfrm flipV="1" rot="5400000">
              <a:off x="5460120" y="4277520"/>
              <a:ext cx="287280" cy="7682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768240"/>
                <a:gd name="textAreaBottom" fmla="*/ 748440 h 76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1" name="Text Box 30"/>
            <p:cNvSpPr/>
            <p:nvPr/>
          </p:nvSpPr>
          <p:spPr>
            <a:xfrm>
              <a:off x="5315040" y="4862520"/>
              <a:ext cx="76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=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2" name="Text Box 31"/>
          <p:cNvSpPr/>
          <p:nvPr/>
        </p:nvSpPr>
        <p:spPr>
          <a:xfrm>
            <a:off x="5076720" y="5445000"/>
            <a:ext cx="4067280" cy="1076760"/>
          </a:xfrm>
          <a:prstGeom prst="rect">
            <a:avLst/>
          </a:prstGeom>
          <a:solidFill>
            <a:srgbClr val="ddfff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(N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&gt;&gt;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O(N)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!!!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ax    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min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32"/>
          <p:cNvSpPr/>
          <p:nvPr/>
        </p:nvSpPr>
        <p:spPr>
          <a:xfrm>
            <a:off x="1619280" y="3859200"/>
            <a:ext cx="3168720" cy="2671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инимальный словарь ИС 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----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&gt;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! ! !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Образы ИС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ru-RU" sz="2800" spc="-1" strike="noStrike">
                <a:solidFill>
                  <a:srgbClr val="339933"/>
                </a:solidFill>
                <a:latin typeface="Tahoma"/>
              </a:rPr>
              <a:t>процессам ПО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Rectangle 33"/>
          <p:cNvSpPr/>
          <p:nvPr/>
        </p:nvSpPr>
        <p:spPr>
          <a:xfrm>
            <a:off x="6373800" y="3716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L-1)=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2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34"/>
          <p:cNvSpPr/>
          <p:nvPr/>
        </p:nvSpPr>
        <p:spPr>
          <a:xfrm>
            <a:off x="7812000" y="292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in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35"/>
          <p:cNvSpPr/>
          <p:nvPr/>
        </p:nvSpPr>
        <p:spPr>
          <a:xfrm>
            <a:off x="6877080" y="47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ax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Line 2"/>
          <p:cNvSpPr/>
          <p:nvPr/>
        </p:nvSpPr>
        <p:spPr>
          <a:xfrm flipV="1">
            <a:off x="971640" y="2205000"/>
            <a:ext cx="377640" cy="5047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9775-4F92-441D-9923-9F6536DB8A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266F-0B52-4009-85E0-D067CBE4DC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Автоструктуризация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сложных  иерархических  процесс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109520" y="5979960"/>
            <a:ext cx="403416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…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ДА  КОЛЯ  ЛОВИТ  РЫБУ  СА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Line 7"/>
          <p:cNvSpPr/>
          <p:nvPr/>
        </p:nvSpPr>
        <p:spPr>
          <a:xfrm>
            <a:off x="5068800" y="6145200"/>
            <a:ext cx="36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3" name="Group 146"/>
          <p:cNvGrpSpPr/>
          <p:nvPr/>
        </p:nvGrpSpPr>
        <p:grpSpPr>
          <a:xfrm>
            <a:off x="3276720" y="3141720"/>
            <a:ext cx="5614200" cy="2086560"/>
            <a:chOff x="3276720" y="3141720"/>
            <a:chExt cx="5614200" cy="2086560"/>
          </a:xfrm>
        </p:grpSpPr>
        <p:grpSp>
          <p:nvGrpSpPr>
            <p:cNvPr id="1194" name="Group 147"/>
            <p:cNvGrpSpPr/>
            <p:nvPr/>
          </p:nvGrpSpPr>
          <p:grpSpPr>
            <a:xfrm>
              <a:off x="3276720" y="3141720"/>
              <a:ext cx="4039920" cy="398520"/>
              <a:chOff x="3276720" y="3141720"/>
              <a:chExt cx="4039920" cy="398520"/>
            </a:xfrm>
          </p:grpSpPr>
          <p:sp>
            <p:nvSpPr>
              <p:cNvPr id="1195" name="AutoShape 148"/>
              <p:cNvSpPr/>
              <p:nvPr/>
            </p:nvSpPr>
            <p:spPr>
              <a:xfrm>
                <a:off x="3276720" y="3141720"/>
                <a:ext cx="684000" cy="398520"/>
              </a:xfrm>
              <a:prstGeom prst="wedgeRoundRectCallout">
                <a:avLst>
                  <a:gd name="adj1" fmla="val -51337"/>
                  <a:gd name="adj2" fmla="val 21412"/>
                  <a:gd name="adj3" fmla="val 16667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6" name="AutoShape 149"/>
              <p:cNvSpPr/>
              <p:nvPr/>
            </p:nvSpPr>
            <p:spPr>
              <a:xfrm>
                <a:off x="4920840" y="3141720"/>
                <a:ext cx="683640" cy="398520"/>
              </a:xfrm>
              <a:prstGeom prst="wedgeRoundRectCallout">
                <a:avLst>
                  <a:gd name="adj1" fmla="val -51337"/>
                  <a:gd name="adj2" fmla="val 21412"/>
                  <a:gd name="adj3" fmla="val 16667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7" name="AutoShape 150"/>
              <p:cNvSpPr/>
              <p:nvPr/>
            </p:nvSpPr>
            <p:spPr>
              <a:xfrm>
                <a:off x="6632640" y="3141720"/>
                <a:ext cx="684000" cy="398520"/>
              </a:xfrm>
              <a:prstGeom prst="wedgeRoundRectCallout">
                <a:avLst>
                  <a:gd name="adj1" fmla="val -49481"/>
                  <a:gd name="adj2" fmla="val 18226"/>
                  <a:gd name="adj3" fmla="val 16667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…</a:t>
                </a:r>
                <a:endParaRPr b="1" i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8" name="AutoShape 151"/>
              <p:cNvSpPr/>
              <p:nvPr/>
            </p:nvSpPr>
            <p:spPr>
              <a:xfrm>
                <a:off x="5810040" y="3141720"/>
                <a:ext cx="684000" cy="398520"/>
              </a:xfrm>
              <a:prstGeom prst="wedgeRoundRectCallout">
                <a:avLst>
                  <a:gd name="adj1" fmla="val -49481"/>
                  <a:gd name="adj2" fmla="val 18226"/>
                  <a:gd name="adj3" fmla="val 16667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9" name="AutoShape 152"/>
              <p:cNvSpPr/>
              <p:nvPr/>
            </p:nvSpPr>
            <p:spPr>
              <a:xfrm>
                <a:off x="4097880" y="3141720"/>
                <a:ext cx="684000" cy="398520"/>
              </a:xfrm>
              <a:prstGeom prst="wedgeRoundRectCallout">
                <a:avLst>
                  <a:gd name="adj1" fmla="val -49481"/>
                  <a:gd name="adj2" fmla="val 18226"/>
                  <a:gd name="adj3" fmla="val 16667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0" name="Group 153"/>
            <p:cNvGrpSpPr/>
            <p:nvPr/>
          </p:nvGrpSpPr>
          <p:grpSpPr>
            <a:xfrm>
              <a:off x="3278160" y="4035600"/>
              <a:ext cx="5612760" cy="1192680"/>
              <a:chOff x="3278160" y="4035600"/>
              <a:chExt cx="5612760" cy="1192680"/>
            </a:xfrm>
          </p:grpSpPr>
          <p:grpSp>
            <p:nvGrpSpPr>
              <p:cNvPr id="1201" name="Group 154"/>
              <p:cNvGrpSpPr/>
              <p:nvPr/>
            </p:nvGrpSpPr>
            <p:grpSpPr>
              <a:xfrm>
                <a:off x="3481560" y="4434120"/>
                <a:ext cx="511200" cy="98280"/>
                <a:chOff x="3481560" y="4434120"/>
                <a:chExt cx="511200" cy="98280"/>
              </a:xfrm>
            </p:grpSpPr>
            <p:sp>
              <p:nvSpPr>
                <p:cNvPr id="1202" name="Line 155"/>
                <p:cNvSpPr/>
                <p:nvPr/>
              </p:nvSpPr>
              <p:spPr>
                <a:xfrm>
                  <a:off x="3481560" y="4434120"/>
                  <a:ext cx="137160" cy="9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3" name="Line 156"/>
                <p:cNvSpPr/>
                <p:nvPr/>
              </p:nvSpPr>
              <p:spPr>
                <a:xfrm>
                  <a:off x="3618720" y="4434120"/>
                  <a:ext cx="135720" cy="9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Line 157"/>
                <p:cNvSpPr/>
                <p:nvPr/>
              </p:nvSpPr>
              <p:spPr>
                <a:xfrm>
                  <a:off x="3686760" y="4434120"/>
                  <a:ext cx="137160" cy="9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5" name="Line 158"/>
                <p:cNvSpPr/>
                <p:nvPr/>
              </p:nvSpPr>
              <p:spPr>
                <a:xfrm>
                  <a:off x="3787560" y="4434120"/>
                  <a:ext cx="205200" cy="9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6" name="Group 159"/>
              <p:cNvGrpSpPr/>
              <p:nvPr/>
            </p:nvGrpSpPr>
            <p:grpSpPr>
              <a:xfrm>
                <a:off x="3278160" y="4035600"/>
                <a:ext cx="5612760" cy="1192680"/>
                <a:chOff x="3278160" y="4035600"/>
                <a:chExt cx="5612760" cy="1192680"/>
              </a:xfrm>
            </p:grpSpPr>
            <p:grpSp>
              <p:nvGrpSpPr>
                <p:cNvPr id="1207" name="Group 160"/>
                <p:cNvGrpSpPr/>
                <p:nvPr/>
              </p:nvGrpSpPr>
              <p:grpSpPr>
                <a:xfrm>
                  <a:off x="3278160" y="4035600"/>
                  <a:ext cx="5612760" cy="1192680"/>
                  <a:chOff x="3278160" y="4035600"/>
                  <a:chExt cx="5612760" cy="1192680"/>
                </a:xfrm>
              </p:grpSpPr>
              <p:grpSp>
                <p:nvGrpSpPr>
                  <p:cNvPr id="1208" name="Group 161"/>
                  <p:cNvGrpSpPr/>
                  <p:nvPr/>
                </p:nvGrpSpPr>
                <p:grpSpPr>
                  <a:xfrm>
                    <a:off x="3481560" y="4830120"/>
                    <a:ext cx="3557880" cy="398160"/>
                    <a:chOff x="3481560" y="4830120"/>
                    <a:chExt cx="3557880" cy="398160"/>
                  </a:xfrm>
                </p:grpSpPr>
                <p:sp>
                  <p:nvSpPr>
                    <p:cNvPr id="1209" name="AutoShape 162"/>
                    <p:cNvSpPr/>
                    <p:nvPr/>
                  </p:nvSpPr>
                  <p:spPr>
                    <a:xfrm>
                      <a:off x="3481560" y="4830120"/>
                      <a:ext cx="340920" cy="398160"/>
                    </a:xfrm>
                    <a:prstGeom prst="wedgeRoundRectCallout">
                      <a:avLst>
                        <a:gd name="adj1" fmla="val 47814"/>
                        <a:gd name="adj2" fmla="val 15046"/>
                        <a:gd name="adj3" fmla="val 16667"/>
                      </a:avLst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0" name="AutoShape 163"/>
                    <p:cNvSpPr/>
                    <p:nvPr/>
                  </p:nvSpPr>
                  <p:spPr>
                    <a:xfrm>
                      <a:off x="5123880" y="4830120"/>
                      <a:ext cx="341280" cy="398160"/>
                    </a:xfrm>
                    <a:prstGeom prst="wedgeRoundRectCallout">
                      <a:avLst>
                        <a:gd name="adj1" fmla="val 47814"/>
                        <a:gd name="adj2" fmla="val 11861"/>
                        <a:gd name="adj3" fmla="val 16667"/>
                      </a:avLst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1" name="AutoShape 164"/>
                    <p:cNvSpPr/>
                    <p:nvPr/>
                  </p:nvSpPr>
                  <p:spPr>
                    <a:xfrm>
                      <a:off x="4300920" y="4830120"/>
                      <a:ext cx="341280" cy="398160"/>
                    </a:xfrm>
                    <a:prstGeom prst="wedgeRoundRectCallout">
                      <a:avLst>
                        <a:gd name="adj1" fmla="val 47814"/>
                        <a:gd name="adj2" fmla="val 21412"/>
                        <a:gd name="adj3" fmla="val 16667"/>
                      </a:avLst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2" name="AutoShape 165"/>
                    <p:cNvSpPr/>
                    <p:nvPr/>
                  </p:nvSpPr>
                  <p:spPr>
                    <a:xfrm>
                      <a:off x="5877360" y="4830120"/>
                      <a:ext cx="340920" cy="398160"/>
                    </a:xfrm>
                    <a:prstGeom prst="wedgeRoundRectCallout">
                      <a:avLst>
                        <a:gd name="adj1" fmla="val 47814"/>
                        <a:gd name="adj2" fmla="val 18226"/>
                        <a:gd name="adj3" fmla="val 16667"/>
                      </a:avLst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3" name="AutoShape 166"/>
                    <p:cNvSpPr/>
                    <p:nvPr/>
                  </p:nvSpPr>
                  <p:spPr>
                    <a:xfrm>
                      <a:off x="6698520" y="4830120"/>
                      <a:ext cx="340920" cy="398160"/>
                    </a:xfrm>
                    <a:prstGeom prst="wedgeRoundRectCallout">
                      <a:avLst>
                        <a:gd name="adj1" fmla="val 47814"/>
                        <a:gd name="adj2" fmla="val 24592"/>
                        <a:gd name="adj3" fmla="val 16667"/>
                      </a:avLst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4" name="Group 167"/>
                  <p:cNvGrpSpPr/>
                  <p:nvPr/>
                </p:nvGrpSpPr>
                <p:grpSpPr>
                  <a:xfrm>
                    <a:off x="3278160" y="4035600"/>
                    <a:ext cx="5612760" cy="397800"/>
                    <a:chOff x="3278160" y="4035600"/>
                    <a:chExt cx="5612760" cy="397800"/>
                  </a:xfrm>
                </p:grpSpPr>
                <p:grpSp>
                  <p:nvGrpSpPr>
                    <p:cNvPr id="1215" name="Group 168"/>
                    <p:cNvGrpSpPr/>
                    <p:nvPr/>
                  </p:nvGrpSpPr>
                  <p:grpSpPr>
                    <a:xfrm>
                      <a:off x="3278160" y="4035600"/>
                      <a:ext cx="4791240" cy="397440"/>
                      <a:chOff x="3278160" y="4035600"/>
                      <a:chExt cx="4791240" cy="397440"/>
                    </a:xfrm>
                  </p:grpSpPr>
                  <p:sp>
                    <p:nvSpPr>
                      <p:cNvPr id="1216" name="AutoShape 169"/>
                      <p:cNvSpPr/>
                      <p:nvPr/>
                    </p:nvSpPr>
                    <p:spPr>
                      <a:xfrm>
                        <a:off x="3278160" y="4035600"/>
                        <a:ext cx="683640" cy="397440"/>
                      </a:xfrm>
                      <a:prstGeom prst="wedgeRoundRectCallout">
                        <a:avLst>
                          <a:gd name="adj1" fmla="val -49481"/>
                          <a:gd name="adj2" fmla="val 11861"/>
                          <a:gd name="adj3" fmla="val 16667"/>
                        </a:avLst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Коля</a:t>
                        </a:r>
                        <a:endParaRPr b="1" i="1" lang="en-US" sz="16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217" name="AutoShape 170"/>
                      <p:cNvSpPr/>
                      <p:nvPr/>
                    </p:nvSpPr>
                    <p:spPr>
                      <a:xfrm>
                        <a:off x="4099320" y="4035600"/>
                        <a:ext cx="683640" cy="397440"/>
                      </a:xfrm>
                      <a:prstGeom prst="wedgeRoundRectCallout">
                        <a:avLst>
                          <a:gd name="adj1" fmla="val -51337"/>
                          <a:gd name="adj2" fmla="val 21412"/>
                          <a:gd name="adj3" fmla="val 16667"/>
                        </a:avLst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Саша</a:t>
                        </a:r>
                        <a:endParaRPr b="1" i="1" lang="en-US" sz="16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218" name="AutoShape 171"/>
                      <p:cNvSpPr/>
                      <p:nvPr/>
                    </p:nvSpPr>
                    <p:spPr>
                      <a:xfrm>
                        <a:off x="4920480" y="4035600"/>
                        <a:ext cx="683640" cy="397440"/>
                      </a:xfrm>
                      <a:prstGeom prst="wedgeRoundRectCallout">
                        <a:avLst>
                          <a:gd name="adj1" fmla="val -49481"/>
                          <a:gd name="adj2" fmla="val 15046"/>
                          <a:gd name="adj3" fmla="val 16667"/>
                        </a:avLst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ловит</a:t>
                        </a:r>
                        <a:endParaRPr b="1" i="1" lang="en-US" sz="16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219" name="AutoShape 172"/>
                      <p:cNvSpPr/>
                      <p:nvPr/>
                    </p:nvSpPr>
                    <p:spPr>
                      <a:xfrm>
                        <a:off x="5742000" y="4035600"/>
                        <a:ext cx="683640" cy="397440"/>
                      </a:xfrm>
                      <a:prstGeom prst="wedgeRoundRectCallout">
                        <a:avLst>
                          <a:gd name="adj1" fmla="val -51337"/>
                          <a:gd name="adj2" fmla="val 11861"/>
                          <a:gd name="adj3" fmla="val 16667"/>
                        </a:avLst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рыбу</a:t>
                        </a:r>
                        <a:endParaRPr b="1" i="1" lang="en-US" sz="16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220" name="AutoShape 173"/>
                      <p:cNvSpPr/>
                      <p:nvPr/>
                    </p:nvSpPr>
                    <p:spPr>
                      <a:xfrm>
                        <a:off x="6562800" y="4035600"/>
                        <a:ext cx="684000" cy="397440"/>
                      </a:xfrm>
                      <a:prstGeom prst="wedgeRoundRectCallout">
                        <a:avLst>
                          <a:gd name="adj1" fmla="val -51337"/>
                          <a:gd name="adj2" fmla="val 21412"/>
                          <a:gd name="adj3" fmla="val 16667"/>
                        </a:avLst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рисует</a:t>
                        </a:r>
                        <a:endParaRPr b="1" i="1" lang="en-US" sz="16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221" name="AutoShape 174"/>
                      <p:cNvSpPr/>
                      <p:nvPr/>
                    </p:nvSpPr>
                    <p:spPr>
                      <a:xfrm>
                        <a:off x="7385760" y="4035600"/>
                        <a:ext cx="683640" cy="397440"/>
                      </a:xfrm>
                      <a:prstGeom prst="wedgeRoundRectCallout">
                        <a:avLst>
                          <a:gd name="adj1" fmla="val -49481"/>
                          <a:gd name="adj2" fmla="val 11861"/>
                          <a:gd name="adj3" fmla="val 16667"/>
                        </a:avLst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волка</a:t>
                        </a:r>
                        <a:endParaRPr b="1" i="1" lang="en-US" sz="16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222" name="AutoShape 175"/>
                    <p:cNvSpPr/>
                    <p:nvPr/>
                  </p:nvSpPr>
                  <p:spPr>
                    <a:xfrm>
                      <a:off x="8207280" y="4035600"/>
                      <a:ext cx="683640" cy="397800"/>
                    </a:xfrm>
                    <a:prstGeom prst="wedgeRoundRectCallout">
                      <a:avLst>
                        <a:gd name="adj1" fmla="val -51337"/>
                        <a:gd name="adj2" fmla="val -7236"/>
                        <a:gd name="adj3" fmla="val 16667"/>
                      </a:avLst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3" name="Group 176"/>
                  <p:cNvGrpSpPr/>
                  <p:nvPr/>
                </p:nvGrpSpPr>
                <p:grpSpPr>
                  <a:xfrm>
                    <a:off x="3619080" y="4433760"/>
                    <a:ext cx="4313160" cy="396000"/>
                    <a:chOff x="3619080" y="4433760"/>
                    <a:chExt cx="4313160" cy="396000"/>
                  </a:xfrm>
                </p:grpSpPr>
                <p:sp>
                  <p:nvSpPr>
                    <p:cNvPr id="1224" name="Line 177"/>
                    <p:cNvSpPr/>
                    <p:nvPr/>
                  </p:nvSpPr>
                  <p:spPr>
                    <a:xfrm flipV="1">
                      <a:off x="3619080" y="4433760"/>
                      <a:ext cx="753480" cy="39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5" name="Line 178"/>
                    <p:cNvSpPr/>
                    <p:nvPr/>
                  </p:nvSpPr>
                  <p:spPr>
                    <a:xfrm flipV="1">
                      <a:off x="3619080" y="4433760"/>
                      <a:ext cx="1026360" cy="39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6" name="Line 179"/>
                    <p:cNvSpPr/>
                    <p:nvPr/>
                  </p:nvSpPr>
                  <p:spPr>
                    <a:xfrm flipV="1">
                      <a:off x="3619080" y="4433760"/>
                      <a:ext cx="4313160" cy="39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7" name="Line 180"/>
                    <p:cNvSpPr/>
                    <p:nvPr/>
                  </p:nvSpPr>
                  <p:spPr>
                    <a:xfrm flipV="1">
                      <a:off x="5261400" y="4433760"/>
                      <a:ext cx="2329200" cy="39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8" name="Line 181"/>
                    <p:cNvSpPr/>
                    <p:nvPr/>
                  </p:nvSpPr>
                  <p:spPr>
                    <a:xfrm flipV="1">
                      <a:off x="4440240" y="4433760"/>
                      <a:ext cx="1711800" cy="39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1229" name="Line 182"/>
                <p:cNvSpPr/>
                <p:nvPr/>
              </p:nvSpPr>
              <p:spPr>
                <a:xfrm flipV="1">
                  <a:off x="5261760" y="44334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230" name="Line 183"/>
            <p:cNvSpPr/>
            <p:nvPr/>
          </p:nvSpPr>
          <p:spPr>
            <a:xfrm>
              <a:off x="5262120" y="354060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1" name="Line 184"/>
            <p:cNvSpPr/>
            <p:nvPr/>
          </p:nvSpPr>
          <p:spPr>
            <a:xfrm>
              <a:off x="3414240" y="3540600"/>
              <a:ext cx="20484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2" name="Line 185"/>
            <p:cNvSpPr/>
            <p:nvPr/>
          </p:nvSpPr>
          <p:spPr>
            <a:xfrm>
              <a:off x="3619080" y="3540600"/>
              <a:ext cx="164268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3" name="Line 186"/>
            <p:cNvSpPr/>
            <p:nvPr/>
          </p:nvSpPr>
          <p:spPr>
            <a:xfrm>
              <a:off x="3892680" y="3540600"/>
              <a:ext cx="22597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4" name="Line 187"/>
            <p:cNvSpPr/>
            <p:nvPr/>
          </p:nvSpPr>
          <p:spPr>
            <a:xfrm>
              <a:off x="4235400" y="3540600"/>
              <a:ext cx="20484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5" name="Line 188"/>
            <p:cNvSpPr/>
            <p:nvPr/>
          </p:nvSpPr>
          <p:spPr>
            <a:xfrm>
              <a:off x="4440600" y="3540600"/>
              <a:ext cx="82116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6" name="Line 189"/>
            <p:cNvSpPr/>
            <p:nvPr/>
          </p:nvSpPr>
          <p:spPr>
            <a:xfrm>
              <a:off x="4646160" y="3540600"/>
              <a:ext cx="308124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7" name="Line 190"/>
            <p:cNvSpPr/>
            <p:nvPr/>
          </p:nvSpPr>
          <p:spPr>
            <a:xfrm flipH="1">
              <a:off x="4409280" y="3540600"/>
              <a:ext cx="7531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8" name="Line 191"/>
            <p:cNvSpPr/>
            <p:nvPr/>
          </p:nvSpPr>
          <p:spPr>
            <a:xfrm>
              <a:off x="5467320" y="3540600"/>
              <a:ext cx="68508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9" name="Line 192"/>
            <p:cNvSpPr/>
            <p:nvPr/>
          </p:nvSpPr>
          <p:spPr>
            <a:xfrm flipV="1">
              <a:off x="4440600" y="3540240"/>
              <a:ext cx="157464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0" name="Line 193"/>
            <p:cNvSpPr/>
            <p:nvPr/>
          </p:nvSpPr>
          <p:spPr>
            <a:xfrm flipH="1" flipV="1">
              <a:off x="6084360" y="3540240"/>
              <a:ext cx="82116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1" name="Line 194"/>
            <p:cNvSpPr/>
            <p:nvPr/>
          </p:nvSpPr>
          <p:spPr>
            <a:xfrm flipH="1" flipV="1">
              <a:off x="6289920" y="3540240"/>
              <a:ext cx="150660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2" name="Group 200"/>
          <p:cNvGrpSpPr/>
          <p:nvPr/>
        </p:nvGrpSpPr>
        <p:grpSpPr>
          <a:xfrm>
            <a:off x="-252360" y="2421000"/>
            <a:ext cx="9253440" cy="3436920"/>
            <a:chOff x="-252360" y="2421000"/>
            <a:chExt cx="9253440" cy="3436920"/>
          </a:xfrm>
        </p:grpSpPr>
        <p:sp>
          <p:nvSpPr>
            <p:cNvPr id="1243" name="Oval 3"/>
            <p:cNvSpPr/>
            <p:nvPr/>
          </p:nvSpPr>
          <p:spPr>
            <a:xfrm>
              <a:off x="-252360" y="4221360"/>
              <a:ext cx="1152360" cy="1439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4" name="Rectangle 20"/>
            <p:cNvSpPr/>
            <p:nvPr/>
          </p:nvSpPr>
          <p:spPr>
            <a:xfrm>
              <a:off x="3349440" y="2421000"/>
              <a:ext cx="565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Tahoma"/>
                </a:rPr>
                <a:t>Иерархическая структура 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Tahoma"/>
                </a:rPr>
                <a:t>словарей  образов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Oval 4"/>
            <p:cNvSpPr/>
            <p:nvPr/>
          </p:nvSpPr>
          <p:spPr>
            <a:xfrm rot="18543600">
              <a:off x="573840" y="5232600"/>
              <a:ext cx="36180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Line 12"/>
            <p:cNvSpPr/>
            <p:nvPr/>
          </p:nvSpPr>
          <p:spPr>
            <a:xfrm>
              <a:off x="757080" y="5300640"/>
              <a:ext cx="385920" cy="5572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7" name="Text Box 197"/>
          <p:cNvSpPr/>
          <p:nvPr/>
        </p:nvSpPr>
        <p:spPr>
          <a:xfrm>
            <a:off x="34920" y="3141720"/>
            <a:ext cx="2521080" cy="143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одл.  Сказ.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 Дополн.</a:t>
            </a:r>
            <a:r>
              <a:rPr b="1" lang="ru-RU" sz="1800" spc="-1" strike="noStrike">
                <a:solidFill>
                  <a:srgbClr val="339933"/>
                </a:solidFill>
                <a:latin typeface="Times New Roman"/>
              </a:rPr>
              <a:t>   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Times New Roman"/>
              </a:rPr>
              <a:t>Коля   ловит   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9933"/>
                </a:solidFill>
                <a:latin typeface="Times New Roman"/>
              </a:rPr>
              <a:t>волка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Times New Roman"/>
              </a:rPr>
              <a:t>Саша  рисует  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9933"/>
                </a:solidFill>
                <a:latin typeface="Times New Roman"/>
              </a:rPr>
              <a:t>рыбу       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</a:rPr>
              <a:t>…         …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Rectangle 198"/>
          <p:cNvSpPr/>
          <p:nvPr/>
        </p:nvSpPr>
        <p:spPr>
          <a:xfrm>
            <a:off x="163080" y="2421000"/>
            <a:ext cx="2133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Иерархические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роцессы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Rectangle 199"/>
          <p:cNvSpPr/>
          <p:nvPr/>
        </p:nvSpPr>
        <p:spPr>
          <a:xfrm>
            <a:off x="7885080" y="335772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ИС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Text Box 5"/>
          <p:cNvSpPr/>
          <p:nvPr/>
        </p:nvSpPr>
        <p:spPr>
          <a:xfrm>
            <a:off x="166680" y="4724280"/>
            <a:ext cx="7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Line 201"/>
          <p:cNvSpPr/>
          <p:nvPr/>
        </p:nvSpPr>
        <p:spPr>
          <a:xfrm>
            <a:off x="46080" y="3500280"/>
            <a:ext cx="248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Line 204"/>
          <p:cNvSpPr/>
          <p:nvPr/>
        </p:nvSpPr>
        <p:spPr>
          <a:xfrm>
            <a:off x="826920" y="3141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3" name="Line 205"/>
          <p:cNvSpPr/>
          <p:nvPr/>
        </p:nvSpPr>
        <p:spPr>
          <a:xfrm>
            <a:off x="1522440" y="3141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Line 206"/>
          <p:cNvSpPr/>
          <p:nvPr/>
        </p:nvSpPr>
        <p:spPr>
          <a:xfrm flipV="1">
            <a:off x="5408640" y="5857920"/>
            <a:ext cx="0" cy="287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Line 207"/>
          <p:cNvSpPr/>
          <p:nvPr/>
        </p:nvSpPr>
        <p:spPr>
          <a:xfrm>
            <a:off x="4211640" y="443700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Line 208"/>
          <p:cNvSpPr/>
          <p:nvPr/>
        </p:nvSpPr>
        <p:spPr>
          <a:xfrm>
            <a:off x="4500720" y="4437000"/>
            <a:ext cx="1425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AutoShape 209"/>
          <p:cNvSpPr/>
          <p:nvPr/>
        </p:nvSpPr>
        <p:spPr>
          <a:xfrm flipH="1">
            <a:off x="706320" y="3619440"/>
            <a:ext cx="108000" cy="792360"/>
          </a:xfrm>
          <a:custGeom>
            <a:avLst/>
            <a:gdLst>
              <a:gd name="textAreaLeft" fmla="*/ 69480 w 108000"/>
              <a:gd name="textAreaRight" fmla="*/ 108720 w 108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AutoShape 210"/>
          <p:cNvSpPr/>
          <p:nvPr/>
        </p:nvSpPr>
        <p:spPr>
          <a:xfrm flipH="1">
            <a:off x="1511280" y="3624120"/>
            <a:ext cx="108000" cy="792360"/>
          </a:xfrm>
          <a:custGeom>
            <a:avLst/>
            <a:gdLst>
              <a:gd name="textAreaLeft" fmla="*/ 69480 w 108000"/>
              <a:gd name="textAreaRight" fmla="*/ 108720 w 108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AutoShape 211"/>
          <p:cNvSpPr/>
          <p:nvPr/>
        </p:nvSpPr>
        <p:spPr>
          <a:xfrm flipH="1">
            <a:off x="2302920" y="3624120"/>
            <a:ext cx="107640" cy="792360"/>
          </a:xfrm>
          <a:custGeom>
            <a:avLst/>
            <a:gdLst>
              <a:gd name="textAreaLeft" fmla="*/ 68760 w 107640"/>
              <a:gd name="textAreaRight" fmla="*/ 108000 w 107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60" name="Прямая со стрелкой 73"/>
          <p:cNvCxnSpPr/>
          <p:nvPr/>
        </p:nvCxnSpPr>
        <p:spPr>
          <a:xfrm>
            <a:off x="3142800" y="5357880"/>
            <a:ext cx="5644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1" name="Прямая со стрелкой 75"/>
          <p:cNvCxnSpPr/>
          <p:nvPr/>
        </p:nvCxnSpPr>
        <p:spPr>
          <a:xfrm flipV="1">
            <a:off x="3141720" y="2542680"/>
            <a:ext cx="2160" cy="285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2" name="Прямоугольник 76"/>
          <p:cNvSpPr/>
          <p:nvPr/>
        </p:nvSpPr>
        <p:spPr>
          <a:xfrm>
            <a:off x="3143160" y="542916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1          2          3         4          5          6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Прямоугольник 77"/>
          <p:cNvSpPr/>
          <p:nvPr/>
        </p:nvSpPr>
        <p:spPr>
          <a:xfrm>
            <a:off x="2643120" y="3214800"/>
            <a:ext cx="50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2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4537-3645-4DD6-B861-8EF77F1DF5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7" name="Object 5"/>
          <p:cNvGraphicFramePr/>
          <p:nvPr/>
        </p:nvGraphicFramePr>
        <p:xfrm>
          <a:off x="1041480" y="1716120"/>
          <a:ext cx="691524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1716120"/>
                    <a:ext cx="691524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9" name="Rectangle 6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Rectangle 7"/>
          <p:cNvSpPr/>
          <p:nvPr/>
        </p:nvSpPr>
        <p:spPr>
          <a:xfrm>
            <a:off x="285840" y="4503960"/>
            <a:ext cx="813600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) все пространство состояний процессов ПО;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) если человек может правильно структурировать данную ТФ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непривычной, но взаимнооднозначной нотации,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) наличие характерных особенностей динамического процесс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и минимизации ресурса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ИС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Min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 длина ТФ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=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-1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– число процессов ПО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Line 8"/>
          <p:cNvSpPr/>
          <p:nvPr/>
        </p:nvSpPr>
        <p:spPr>
          <a:xfrm>
            <a:off x="539640" y="6072120"/>
            <a:ext cx="554508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title"/>
          </p:nvPr>
        </p:nvSpPr>
        <p:spPr>
          <a:xfrm>
            <a:off x="1714680" y="642960"/>
            <a:ext cx="636408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Критерии  достаточности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длины ТФ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для выполнения автоструктуризаци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3" name="Rectangle 12"/>
          <p:cNvSpPr/>
          <p:nvPr/>
        </p:nvSpPr>
        <p:spPr>
          <a:xfrm>
            <a:off x="6589800" y="3957480"/>
            <a:ext cx="1213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лина ТФ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84B5-3FBE-47DB-AFAA-2C3E6B7193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08000" y="2060640"/>
            <a:ext cx="894384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br>
              <a:rPr sz="600"/>
            </a:br>
            <a:r>
              <a:rPr b="1" lang="en-US" sz="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ru-RU" sz="28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(компрессия)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0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и t </a:t>
            </a:r>
            <a:r>
              <a:rPr b="1" lang="ru-RU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2000"/>
            </a:br>
            <a:r>
              <a:rPr b="0" lang="ru-RU" sz="8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ли </a:t>
            </a:r>
            <a:r>
              <a:rPr b="1" lang="ru-RU" sz="2000" spc="-1" strike="noStrike">
                <a:solidFill>
                  <a:srgbClr val="5a79f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5a79fc"/>
                </a:solidFill>
                <a:latin typeface="Tahoma"/>
              </a:rPr>
              <a:t>R</a:t>
            </a:r>
            <a:r>
              <a:rPr b="1" lang="ru-RU" sz="2000" spc="-1" strike="noStrike" baseline="-25000">
                <a:solidFill>
                  <a:srgbClr val="5a79fc"/>
                </a:solidFill>
                <a:latin typeface="Tahoma"/>
              </a:rPr>
              <a:t>ИУС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1" lang="ru-RU" sz="2000" spc="-1" strike="noStrike">
                <a:solidFill>
                  <a:srgbClr val="339933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9933"/>
                </a:solidFill>
                <a:latin typeface="Tahoma"/>
              </a:rPr>
              <a:t>T</a:t>
            </a:r>
            <a:r>
              <a:rPr b="1" lang="ru-RU" sz="2000" spc="-1" strike="noStrike">
                <a:solidFill>
                  <a:srgbClr val="339933"/>
                </a:solidFill>
                <a:latin typeface="Tahoma"/>
              </a:rPr>
              <a:t>Ф</a:t>
            </a:r>
            <a:r>
              <a:rPr b="1" lang="ru-RU" sz="2000" spc="-1" strike="noStrike" baseline="-25000">
                <a:solidFill>
                  <a:srgbClr val="339933"/>
                </a:solidFill>
                <a:latin typeface="Tahoma"/>
              </a:rPr>
              <a:t>ИС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0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и  </a:t>
            </a:r>
            <a:r>
              <a:rPr b="1" lang="ru-RU" sz="2000" spc="-1" strike="noStrike">
                <a:solidFill>
                  <a:srgbClr val="5a79f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5a79fc"/>
                </a:solidFill>
                <a:latin typeface="Tahoma"/>
              </a:rPr>
              <a:t>R</a:t>
            </a:r>
            <a:r>
              <a:rPr b="1" lang="ru-RU" sz="2000" spc="-1" strike="noStrike" baseline="-25000">
                <a:solidFill>
                  <a:srgbClr val="5a79fc"/>
                </a:solidFill>
                <a:latin typeface="Tahoma"/>
              </a:rPr>
              <a:t>ИУС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),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при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t </a:t>
            </a:r>
            <a:r>
              <a:rPr b="1" lang="ru-RU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 при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 </a:t>
            </a:r>
            <a:r>
              <a:rPr b="1" lang="ru-RU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M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182600" y="260280"/>
            <a:ext cx="777240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Rectangle 4"/>
          <p:cNvSpPr/>
          <p:nvPr/>
        </p:nvSpPr>
        <p:spPr>
          <a:xfrm>
            <a:off x="-173160" y="3649680"/>
            <a:ext cx="961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именты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RISMAKDUBLENLENDUBMAKMAKLENRISRISLENMAKRISDUBRIS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gt;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 выделяются вс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процесс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&lt;MAK&gt;&lt;RIS&gt;&lt;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LEN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&gt;&lt;DUB&gt;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)&lt;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ОМЗЕБРЫСКИТНАДОМДОМВНАДОМВСКИТВНАСКИТВВЗЕБРЫНАВНА&gt;,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 выделяются вс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процесс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&lt;ЗЕБРЫ&gt;&lt;СКИТ&gt;&lt;ДОМ&gt;&lt;НА&gt;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&lt;В&gt;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виг алфавита А в код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C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мере б)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&lt;ЕПНИЖВСЬТЛЙУОБЕПНЕПНГОБЕПНГТЛЙУГОБТЛЙУГЖВСЬОБГОБ&gt;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+1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&lt;?IGB@&lt;KVLECMH;?IG?IG=H;?IG=LECM=H;LECM==B&lt;KVH;=H;{&gt;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-133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Rectangle 2"/>
          <p:cNvSpPr/>
          <p:nvPr/>
        </p:nvSpPr>
        <p:spPr>
          <a:xfrm>
            <a:off x="1182600" y="333360"/>
            <a:ext cx="728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Автоструктуризация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на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нейросемантических структурах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79" name="Group 4"/>
          <p:cNvGrpSpPr/>
          <p:nvPr/>
        </p:nvGrpSpPr>
        <p:grpSpPr>
          <a:xfrm>
            <a:off x="2529360" y="1989000"/>
            <a:ext cx="6467040" cy="831240"/>
            <a:chOff x="2529360" y="1989000"/>
            <a:chExt cx="6467040" cy="831240"/>
          </a:xfrm>
        </p:grpSpPr>
        <p:sp>
          <p:nvSpPr>
            <p:cNvPr id="1280" name="Rectangle 0"/>
            <p:cNvSpPr/>
            <p:nvPr/>
          </p:nvSpPr>
          <p:spPr>
            <a:xfrm>
              <a:off x="2749320" y="1989000"/>
              <a:ext cx="604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a79fc"/>
                  </a:solidFill>
                  <a:latin typeface="Tahoma"/>
                </a:rPr>
                <a:t>R</a:t>
              </a:r>
              <a:r>
                <a:rPr b="1" lang="ru-RU" sz="1800" spc="-1" strike="noStrike" baseline="-25000">
                  <a:solidFill>
                    <a:srgbClr val="5a79fc"/>
                  </a:solidFill>
                  <a:latin typeface="Tahoma"/>
                </a:rPr>
                <a:t>ИУС</a:t>
              </a:r>
              <a:r>
                <a:rPr b="1" lang="ru-RU" sz="1800" spc="-1" strike="noStrike">
                  <a:solidFill>
                    <a:srgbClr val="5a79fc"/>
                  </a:solidFill>
                  <a:latin typeface="Tahoma"/>
                </a:rPr>
                <a:t> = </a:t>
              </a:r>
              <a:r>
                <a:rPr b="1" lang="en-US" sz="1800" spc="-1" strike="noStrike">
                  <a:solidFill>
                    <a:srgbClr val="5a79fc"/>
                  </a:solidFill>
                  <a:latin typeface="Tahoma"/>
                </a:rPr>
                <a:t>f</a:t>
              </a:r>
              <a:r>
                <a:rPr b="1" lang="ru-RU" sz="1800" spc="-1" strike="noStrike">
                  <a:solidFill>
                    <a:srgbClr val="5a79fc"/>
                  </a:solidFill>
                  <a:latin typeface="Tahoma"/>
                </a:rPr>
                <a:t>(число </a:t>
              </a:r>
              <a:r>
                <a:rPr b="1" lang="en-US" sz="1800" spc="-1" strike="noStrike">
                  <a:solidFill>
                    <a:srgbClr val="5a79fc"/>
                  </a:solidFill>
                  <a:latin typeface="Tahoma"/>
                </a:rPr>
                <a:t>N</a:t>
              </a:r>
              <a:r>
                <a:rPr b="1" lang="ru-RU" sz="1800" spc="-1" strike="noStrike">
                  <a:solidFill>
                    <a:srgbClr val="5a79fc"/>
                  </a:solidFill>
                  <a:latin typeface="Tahoma"/>
                </a:rPr>
                <a:t>-элементов, число</a:t>
              </a:r>
              <a:r>
                <a:rPr b="1" lang="ru-RU" sz="1800" spc="-1" strike="noStrike">
                  <a:solidFill>
                    <a:srgbClr val="00ffff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5a79fc"/>
                  </a:solidFill>
                  <a:latin typeface="Tahoma"/>
                </a:rPr>
                <a:t>связей)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в битах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1" name="Rectangle 1"/>
            <p:cNvSpPr/>
            <p:nvPr/>
          </p:nvSpPr>
          <p:spPr>
            <a:xfrm>
              <a:off x="2529360" y="2414520"/>
              <a:ext cx="646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Tahoma"/>
                </a:rPr>
                <a:t>T</a:t>
              </a:r>
              <a:r>
                <a:rPr b="1" lang="ru-RU" sz="1800" spc="-1" strike="noStrike">
                  <a:solidFill>
                    <a:srgbClr val="339933"/>
                  </a:solidFill>
                  <a:latin typeface="Tahoma"/>
                </a:rPr>
                <a:t>Ф</a:t>
              </a:r>
              <a:r>
                <a:rPr b="1" lang="ru-RU" sz="1800" spc="-1" strike="noStrike" baseline="-25000">
                  <a:solidFill>
                    <a:srgbClr val="339933"/>
                  </a:solidFill>
                  <a:latin typeface="Tahoma"/>
                </a:rPr>
                <a:t>ИУС</a:t>
              </a:r>
              <a:r>
                <a:rPr b="0" lang="ru-RU" sz="1800" spc="-1" strike="noStrike">
                  <a:solidFill>
                    <a:srgbClr val="339933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339933"/>
                  </a:solidFill>
                  <a:latin typeface="Tahoma"/>
                </a:rPr>
                <a:t>= объем текстовой информации в ИУС</a:t>
              </a:r>
              <a:r>
                <a:rPr b="0" lang="ru-RU" sz="1800" spc="-1" strike="noStrike">
                  <a:solidFill>
                    <a:srgbClr val="333399"/>
                  </a:solidFill>
                  <a:latin typeface="Tahoma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в битах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2" name="Line 3"/>
            <p:cNvSpPr/>
            <p:nvPr/>
          </p:nvSpPr>
          <p:spPr>
            <a:xfrm>
              <a:off x="2843280" y="2421000"/>
              <a:ext cx="511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/>
          </p:nvPr>
        </p:nvSpPr>
        <p:spPr>
          <a:xfrm>
            <a:off x="1692360" y="3357360"/>
            <a:ext cx="597672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4920" y="331920"/>
            <a:ext cx="910908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тверждение 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б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автоструктуриза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Минимальный словарь ИС  может  достигаться  только  при  его  </a:t>
            </a:r>
            <a:r>
              <a:rPr b="1" lang="ru-RU" sz="2100" spc="-1" strike="noStrike">
                <a:solidFill>
                  <a:srgbClr val="3333cc"/>
                </a:solidFill>
                <a:latin typeface="Times New Roman"/>
              </a:rPr>
              <a:t>гомоморфности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 исходной структуре процессов  в  ПО</a:t>
            </a:r>
            <a:endParaRPr b="1" i="1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дставим равномерно случайное формирование ТФ двумя посимвольно непересекающимися процессами А (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1,t2)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и Б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1+1,t3)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</a:rPr>
              <a:t>проц. А       проц. 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…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УКЛОНУКЛОН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ЭРМИТАЖ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УКЛОН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ЭРМИ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…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браз А        образ 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дположим, что мы строим образы словаря на отрезках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t1,t2]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и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t2+1, t3]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 Два эти образа в ИС имеют общую длину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3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1+1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Отметим, что структура процессов ПО и словаря ИС гомоморфна.</a:t>
            </a:r>
            <a:endParaRPr b="1" i="1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Если границы образов словаря будут отличаться хотя бы на 1 от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2+1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3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то возрастет количество образов словаря и его размер. При этом, структура словаря и структура процессов в ПО будут уже различны.</a:t>
            </a:r>
            <a:endParaRPr b="1" i="1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им образом, только минимальным словарем образов (т.е. с максимальным </a:t>
            </a:r>
            <a:r>
              <a:rPr b="1" lang="ru-RU" sz="2100" spc="-1" strike="noStrike">
                <a:solidFill>
                  <a:srgbClr val="00cc00"/>
                </a:solidFill>
                <a:latin typeface="Times New Roman"/>
              </a:rPr>
              <a:t>эволюционным потенциалом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) закрашиваются эти два процесса. </a:t>
            </a:r>
            <a:endParaRPr b="1" i="1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сложных иерархических процессо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ПО, </a:t>
            </a:r>
            <a:r>
              <a:rPr b="0" lang="ru-RU" sz="2100" spc="-1" strike="noStrike">
                <a:solidFill>
                  <a:srgbClr val="339933"/>
                </a:solidFill>
                <a:latin typeface="Times New Roman"/>
              </a:rPr>
              <a:t>процессы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100" spc="-1" strike="noStrike">
                <a:solidFill>
                  <a:srgbClr val="3333cc"/>
                </a:solidFill>
                <a:latin typeface="Times New Roman"/>
              </a:rPr>
              <a:t>образы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заменяем иероглифами (номерами) следующего уровня и сводим задачу к уже рассмотренному доказательству. </a:t>
            </a:r>
            <a:endParaRPr b="1" i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Line 4"/>
          <p:cNvSpPr/>
          <p:nvPr/>
        </p:nvSpPr>
        <p:spPr>
          <a:xfrm>
            <a:off x="2144880" y="2133720"/>
            <a:ext cx="215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Line 5"/>
          <p:cNvSpPr/>
          <p:nvPr/>
        </p:nvSpPr>
        <p:spPr>
          <a:xfrm>
            <a:off x="313200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Line 6"/>
          <p:cNvSpPr/>
          <p:nvPr/>
        </p:nvSpPr>
        <p:spPr>
          <a:xfrm>
            <a:off x="471636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Line 7"/>
          <p:cNvSpPr/>
          <p:nvPr/>
        </p:nvSpPr>
        <p:spPr>
          <a:xfrm>
            <a:off x="330516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9" name="Group 30"/>
          <p:cNvGrpSpPr/>
          <p:nvPr/>
        </p:nvGrpSpPr>
        <p:grpSpPr>
          <a:xfrm>
            <a:off x="2124000" y="2852280"/>
            <a:ext cx="2808360" cy="431640"/>
            <a:chOff x="2124000" y="2852280"/>
            <a:chExt cx="2808360" cy="431640"/>
          </a:xfrm>
        </p:grpSpPr>
        <p:sp>
          <p:nvSpPr>
            <p:cNvPr id="1290" name="Line 8"/>
            <p:cNvSpPr/>
            <p:nvPr/>
          </p:nvSpPr>
          <p:spPr>
            <a:xfrm flipV="1">
              <a:off x="2124000" y="285228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Line 9"/>
            <p:cNvSpPr/>
            <p:nvPr/>
          </p:nvSpPr>
          <p:spPr>
            <a:xfrm flipV="1">
              <a:off x="3132000" y="285228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Line 10"/>
            <p:cNvSpPr/>
            <p:nvPr/>
          </p:nvSpPr>
          <p:spPr>
            <a:xfrm flipV="1">
              <a:off x="4716360" y="285228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Line 11"/>
            <p:cNvSpPr/>
            <p:nvPr/>
          </p:nvSpPr>
          <p:spPr>
            <a:xfrm flipV="1">
              <a:off x="3305160" y="285228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4" name="Rectangle 12"/>
          <p:cNvSpPr/>
          <p:nvPr/>
        </p:nvSpPr>
        <p:spPr>
          <a:xfrm>
            <a:off x="1774440" y="1917720"/>
            <a:ext cx="29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1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t2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2+1        t3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Text Box 14"/>
          <p:cNvSpPr/>
          <p:nvPr/>
        </p:nvSpPr>
        <p:spPr>
          <a:xfrm>
            <a:off x="7954920" y="1933560"/>
            <a:ext cx="72072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Tahoma"/>
              </a:rPr>
              <a:t>ПО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С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Line 16"/>
          <p:cNvSpPr/>
          <p:nvPr/>
        </p:nvSpPr>
        <p:spPr>
          <a:xfrm flipV="1">
            <a:off x="8272440" y="2336760"/>
            <a:ext cx="0" cy="50472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Line 31"/>
          <p:cNvSpPr/>
          <p:nvPr/>
        </p:nvSpPr>
        <p:spPr>
          <a:xfrm>
            <a:off x="755640" y="285264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8" name="Group 35"/>
          <p:cNvGrpSpPr/>
          <p:nvPr/>
        </p:nvGrpSpPr>
        <p:grpSpPr>
          <a:xfrm>
            <a:off x="5143680" y="2923920"/>
            <a:ext cx="512640" cy="466920"/>
            <a:chOff x="5143680" y="2923920"/>
            <a:chExt cx="512640" cy="466920"/>
          </a:xfrm>
        </p:grpSpPr>
        <p:sp>
          <p:nvSpPr>
            <p:cNvPr id="1299" name="AutoShape 36"/>
            <p:cNvSpPr/>
            <p:nvPr/>
          </p:nvSpPr>
          <p:spPr>
            <a:xfrm flipV="1" rot="16200000">
              <a:off x="5258880" y="2895120"/>
              <a:ext cx="144360" cy="2012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6480 h 201240"/>
                <a:gd name="textAreaBottom" fmla="*/ 194760 h 2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68"/>
                    <a:pt x="10800" y="2336"/>
                  </a:cubicBezTo>
                  <a:lnTo>
                    <a:pt x="10800" y="8464"/>
                  </a:lnTo>
                  <a:cubicBezTo>
                    <a:pt x="10800" y="9632"/>
                    <a:pt x="5400" y="10800"/>
                    <a:pt x="0" y="10800"/>
                  </a:cubicBezTo>
                  <a:cubicBezTo>
                    <a:pt x="5400" y="10800"/>
                    <a:pt x="10800" y="11968"/>
                    <a:pt x="10800" y="13136"/>
                  </a:cubicBezTo>
                  <a:lnTo>
                    <a:pt x="10800" y="19264"/>
                  </a:lnTo>
                  <a:cubicBezTo>
                    <a:pt x="10800" y="2043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0" name="Rectangle 37"/>
            <p:cNvSpPr/>
            <p:nvPr/>
          </p:nvSpPr>
          <p:spPr>
            <a:xfrm>
              <a:off x="5143680" y="3022560"/>
              <a:ext cx="51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1116000" y="2049480"/>
            <a:ext cx="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"/>
          <p:cNvSpPr/>
          <p:nvPr/>
        </p:nvSpPr>
        <p:spPr>
          <a:xfrm>
            <a:off x="5048280" y="2060640"/>
            <a:ext cx="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42600" y="1285920"/>
            <a:ext cx="7529400" cy="523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ВИД   ИСХОДНОЙ   ТФ    </a:t>
            </a:r>
            <a:r>
              <a:rPr b="1" lang="ru-RU" sz="1800" spc="-1" strike="noStrike">
                <a:solidFill>
                  <a:srgbClr val="008000"/>
                </a:solidFill>
                <a:latin typeface="Tahoma"/>
              </a:rPr>
              <a:t>(1000 символов),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Tahoma"/>
              </a:rPr>
              <a:t>на  которой  будет  построена  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НСС</a:t>
            </a:r>
            <a:r>
              <a:rPr b="1" lang="ru-RU" sz="1800" spc="-1" strike="noStrike">
                <a:solidFill>
                  <a:srgbClr val="008000"/>
                </a:solidFill>
                <a:latin typeface="Tahoma"/>
              </a:rPr>
              <a:t>  </a:t>
            </a:r>
            <a:br>
              <a:rPr sz="1800"/>
            </a:br>
            <a:br>
              <a:rPr sz="14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А.С.Иванов ст.инж., оклад 8500 руб.; М.А.Сидорян мнс, оклад 5505 руб.; С.С.Петровичев ст.инж., отдел 17, 850 руб.; М.А.Иванидзе холост, ст.инж., оклад, 8500 руб.; М.А.Сидорян женат, двое детей. ст.инж., оклад 7200 руб.; Д.А.Иваншвили инженер, оклад 4055 руб.; М.М.Петров, оклад 6050 руб. ст.инж.; И.И.Петров, оклад 9050 руб., вед.инж.; С.С.Иванян оклад 8550 руб., инженер; М.К.Сидоров, инженер, оклад 5000 руб.; Ф.А.Иваненко, оклад 4700 руб. холост; А.С.Иванов ст.инж., оклад 8500 руб., холост; И.Д.Петрян, оклад 9000 руб. вед.инж.; В.А.Ивановский вед.инж., оклад 9500 руб.; А.В.Ивановский женат, четверо детей. оклад 7600 руб.; Ф.Ф.Петров мнс, оклад 5650 руб.; А.А.Иванов, оклад 6500 руб. вед.инж.; И.И.Иванский зав.отделом, оклад 7440 руб.; М.К.Сидоров, оклад 8020 руб. ст.инж.; А.Д.Иваншвили ст.инж., оклад 8500 руб.; С.С.Иванян ст.инж., оклад 8500 руб.; М.М.Иванидзе ст.инж., оклад 4000 руб.; А.М.Иваншвили вед.инж., оклад 5605 руб.; М.А.Петров, оклад 9000 руб. вед.инж.; А.А.Иванов вед.инж., уволен 05.05.05.;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4" name="Заголовок 1"/>
          <p:cNvSpPr/>
          <p:nvPr/>
        </p:nvSpPr>
        <p:spPr>
          <a:xfrm>
            <a:off x="6429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ример  формирования  НСС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"Отдел  кадров"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8000" y="216000"/>
            <a:ext cx="6697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Инструментарий экономики  знаний </a:t>
            </a:r>
            <a:br>
              <a:rPr sz="2000"/>
            </a:b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- «сильный ИИ»  (способный  к  саморазвитию), «Искусственный  разум» (ИР)</a:t>
            </a: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15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208520"/>
            <a:ext cx="84247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Перенос механизмов и архитектуры ЦНС человека на электронную элементную базу, позволит создать ИУС в миллиарды раз более быстродействующую, с неограниченной памятью и с миллионами параллельных процессов.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Начальные попытки создания ИИ свелись к разработкам на базе эвристик, т.е. «слабого ИИ». Способного ИИ к саморазвитию, т.е.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«сильного ИИ»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, с 60-х годов прошлого века так и не было создано.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В 80 годы, рассматривалось создание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ЭВМ пятого поколения на базе ИИ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(США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SCI "Стратегическая программная инициатива", Западная Европа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"ЭВРИКА" и "ESPRIT", и Япония MIT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проект пятого поколения ЭВМ, а также и СССР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"Старт", стоимостью каждого из проектов в десятки миллиардов долларов).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В полном объеме ни одна из стратегических национальных программ по созданию ЭВМ пятого поколения не была реализована.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Причиной неудачи можно считать отсутствие проработанной естественно-научной концепции по обработке неструктурированной информации, как человеком, так и другими биологическими информационно-управляющими системами, рассматриваемыми в качестве прототипа ИИ.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1026"/>
          <p:cNvSpPr/>
          <p:nvPr/>
        </p:nvSpPr>
        <p:spPr>
          <a:xfrm>
            <a:off x="250920" y="243000"/>
            <a:ext cx="8893080" cy="66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ahoma"/>
              </a:rPr>
              <a:t>Автоматически  сформированный  гиперграф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ru-RU" sz="1400" spc="-1" strike="noStrike">
                <a:solidFill>
                  <a:srgbClr val="3333cc"/>
                </a:solidFill>
                <a:latin typeface="Tahoma"/>
              </a:rPr>
              <a:t>SS  структуры  N-элементов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===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compress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= 1.70 (!!!)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===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NN   kb  L_N   w  buf    inf_sod cods -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sloi=1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 slovar=82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-  6    6   22   256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клад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-  4    4   24   175    &lt;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уб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-  8    8   10   172    &lt;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т.инж.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 -  8    8    7    166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вед.инж.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 -  8    8    3    158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Иванов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 -  8    8    2    156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холост;/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 -  7    7    5    144    &lt;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етров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 -  7    7    3    140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нженер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 -  6    6    3    122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Иван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 -  6    6    3   122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ванов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 -  6    6    2   120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ванян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2 -  6    6    2   120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.Сидо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3 -  6    6    2   120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швили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4 -  6    6    2   120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етей.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5 -  2    2   31  111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6 -  5    5    7   101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.;/М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7 -  5    5    3    93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.;/А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8 -  5    5    3    93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ки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9 -  5    5    2    91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.;/Ф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0 -  5    5    2    91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идор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1 -  5    5    2    91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жена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2 -  4    4    5    81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850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3 -  4    4    4    79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ван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4 -  4    4    2    75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тд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5 -  4    4    2    75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дз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6 -  4    4    2    75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С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7 -  3    3    3    54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05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8 -  3    3    3    54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.С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9 -  3    3    2    52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ов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Rectangle 1027"/>
          <p:cNvSpPr/>
          <p:nvPr/>
        </p:nvSpPr>
        <p:spPr>
          <a:xfrm>
            <a:off x="3059280" y="981000"/>
            <a:ext cx="7200720" cy="3136320"/>
          </a:xfrm>
          <a:prstGeom prst="rect">
            <a:avLst/>
          </a:prstGeom>
          <a:solidFill>
            <a:srgbClr val="cb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NN   kb  L_N   w  buf    inf_sod cods -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sloi=2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slovar=63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-  7   34    2   238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С.Иванов ст.инж., оклад 8500 руб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    26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    3   15    1   22    2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-  8   20    2   228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9000 руб. вед.инж.;/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4   31   80    2   34    4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0   71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-  2    8   18   108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, оклад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5    1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 -  2    9    6      97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руб.;/М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     2   16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 -  3   10    2     88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ст.инж.;/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    3   70   71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-  7   24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7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.И.Иванский зав.отделом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    33   33   23   1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7   24   59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 -  2    9    2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69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.Сидоров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  12   29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 -  2    9    2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9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, инженер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   15    8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 -  2    6    5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4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00 руб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31    2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 -  2    5    4     61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руб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2   69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 -  2    7    2     59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Сидор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 32   20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2 -  2    3    3     41    &lt;.;/&gt;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35   71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3 -  2    4    2     40    &lt;С.С.&gt;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28   69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4 -  2    3    2     39    &lt;000&gt;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31   80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Rectangle 1028"/>
          <p:cNvSpPr/>
          <p:nvPr/>
        </p:nvSpPr>
        <p:spPr>
          <a:xfrm>
            <a:off x="3419640" y="3284640"/>
            <a:ext cx="7272000" cy="2253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NN   kb  L_N  w  buf    inf_sod cods -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sloi=3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slovar=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35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-  3   63    1    12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С.Иванов ст.инж., оклад 8500 руб., холост;/И.Д.Петрян,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клад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&gt;     1   21    3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-  3   51    1    12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9000 руб. вед.инж.;/В.А.Ивановский вед.инж., оклад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&gt;     2   25    3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-  3   46    1    11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С.Иванов ст.инж., оклад 8500 руб.;/М.А.Сидор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     1   53   11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 -  3   40    1    11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тдел 17, 850 руб.;/М.А.Иванидзе холост,&gt;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33    4   24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 -  3   44    1    11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Сидорян женат, двое детей. ст.инж., оклад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&gt;    11   17    3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 -  3   33    1    11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.А.Иваншвили инженер, оклад 4055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    26    3   47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 -  3   33    1    11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9500 руб.;/А.В.Ивановский женат,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58    9   20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 -  3   46    1    11    &lt;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четверо детей. оклад 7600 руб.;/Ф.Ф.Петров мнс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gt;    18    9   31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…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Rectangle 1029"/>
          <p:cNvSpPr/>
          <p:nvPr/>
        </p:nvSpPr>
        <p:spPr>
          <a:xfrm>
            <a:off x="3708360" y="5013360"/>
            <a:ext cx="7272360" cy="1189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NN   kb  L_N  w  buf    inf_sod cods -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sloi=4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slovar=12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1 -  3  114    1     12   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тдел 17, 850 руб.;/М.А.Иванидзе холост, ст.инж., оклад, 8500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уб.;/М.А.Сидорян женат, двое детей. ст.инж., оклад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&gt;     4   15    5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2 -  3  111    1    12   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000 руб.;/Ф.А.Иваненко, оклад 4700 руб. холост;/А.С.Иванов ст.инж., оклад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8500 руб., холост;/И.Д.Петрян, оклад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&gt;    18   28    1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Rectangle 1030"/>
          <p:cNvSpPr/>
          <p:nvPr/>
        </p:nvSpPr>
        <p:spPr>
          <a:xfrm>
            <a:off x="4211640" y="6165720"/>
            <a:ext cx="410544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NN   kb  L_N  w  buf    inf_sod cods -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sloi=7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 slovar=1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1 -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2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1014    1     11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   2    1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1026"/>
          <p:cNvSpPr/>
          <p:nvPr/>
        </p:nvSpPr>
        <p:spPr>
          <a:xfrm>
            <a:off x="468360" y="1268280"/>
            <a:ext cx="8209080" cy="551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=========== </a:t>
            </a:r>
            <a:r>
              <a:rPr b="0" lang="ru-RU" sz="1400" spc="-1" strike="noStrike">
                <a:solidFill>
                  <a:srgbClr val="ff0000"/>
                </a:solidFill>
                <a:latin typeface="Arial Narrow"/>
              </a:rPr>
              <a:t>Номер запроса=1  Запрос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ru-RU" sz="1400" spc="-1" strike="noStrike">
                <a:solidFill>
                  <a:srgbClr val="3333cc"/>
                </a:solidFill>
                <a:latin typeface="Arial Narrow"/>
              </a:rPr>
              <a:t>'</a:t>
            </a:r>
            <a:r>
              <a:rPr b="1" lang="ru-RU" sz="1600" spc="-1" strike="noStrike">
                <a:solidFill>
                  <a:srgbClr val="3333cc"/>
                </a:solidFill>
                <a:latin typeface="Arial Narrow"/>
              </a:rPr>
              <a:t>оклад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'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2  j_max=49  UT=  1  T_astr=1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енко,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1  j_max=68  UT= 50  T_astr=2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1  j_max= 4  UT= 36  T_astr=3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л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лад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3  j_max= 2  UT= 53  T_astr=4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ла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лад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4  j_max= 9  UT=  1  T_astr=5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лад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600" spc="-1" strike="noStrike">
                <a:solidFill>
                  <a:srgbClr val="3333cc"/>
                </a:solidFill>
                <a:latin typeface="Arial Narrow"/>
              </a:rPr>
              <a:t>6500 руб. вед.инж.;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 Narrow"/>
              </a:rPr>
              <a:t>И.И.Иванский зав.отделом, оклад 7440 руб.;&gt;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=========== </a:t>
            </a:r>
            <a:r>
              <a:rPr b="0" lang="ru-RU" sz="1400" spc="-1" strike="noStrike">
                <a:solidFill>
                  <a:srgbClr val="ff0000"/>
                </a:solidFill>
                <a:latin typeface="Arial Narrow"/>
              </a:rPr>
              <a:t>Номер запроса=2  Запрос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1" lang="ru-RU" sz="1600" spc="-1" strike="noStrike">
                <a:solidFill>
                  <a:srgbClr val="3333cc"/>
                </a:solidFill>
                <a:latin typeface="Arial Narrow"/>
              </a:rPr>
              <a:t>Иван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'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2  j_max=41  UT=  1  T_astr=1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.Д.Петрян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1  j_max=43  UT= 50  T_astr=2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в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о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1  j_max= 6  UT= 56  T_astr=3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ва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ван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3  j_max=26  UT= 36  T_astr=4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ван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600" spc="-1" strike="noStrike">
                <a:solidFill>
                  <a:srgbClr val="3333cc"/>
                </a:solidFill>
                <a:latin typeface="Arial Narrow"/>
              </a:rPr>
              <a:t>А.С.Иванов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=========== </a:t>
            </a:r>
            <a:r>
              <a:rPr b="0" lang="ru-RU" sz="1400" spc="-1" strike="noStrike">
                <a:solidFill>
                  <a:srgbClr val="ff0000"/>
                </a:solidFill>
                <a:latin typeface="Arial Narrow"/>
              </a:rPr>
              <a:t>Номер запроса=3  Запрос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 '</a:t>
            </a:r>
            <a:r>
              <a:rPr b="1" lang="ru-RU" sz="1600" spc="-1" strike="noStrike">
                <a:solidFill>
                  <a:srgbClr val="3333cc"/>
                </a:solidFill>
                <a:latin typeface="Arial Narrow"/>
              </a:rPr>
              <a:t>идзе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'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ax_sloi=1  j_max=52  UT=  6  T_astr=1  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чев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ax_sloi=1  j_max=26  UT= 25  T_astr=2  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д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дзе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ax_sloi=1  j_max=26  UT= 56  T_astr=3  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дз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дзе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ax_sloi=2  j_max=30  UT=  3  T_astr=4  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дзе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600" spc="-1" strike="noStrike">
                <a:solidFill>
                  <a:srgbClr val="3333cc"/>
                </a:solidFill>
                <a:latin typeface="Arial Narrow"/>
              </a:rPr>
              <a:t>М.А.Иванидзе холост, ст.инж.&gt;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=========== </a:t>
            </a:r>
            <a:r>
              <a:rPr b="0" lang="ru-RU" sz="1400" spc="-1" strike="noStrike">
                <a:solidFill>
                  <a:srgbClr val="ff0000"/>
                </a:solidFill>
                <a:latin typeface="Arial Narrow"/>
              </a:rPr>
              <a:t>Номер запроса=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4</a:t>
            </a:r>
            <a:r>
              <a:rPr b="0" lang="ru-RU" sz="1400" spc="-1" strike="noStrike">
                <a:solidFill>
                  <a:srgbClr val="ff0000"/>
                </a:solidFill>
                <a:latin typeface="Arial Narrow"/>
              </a:rPr>
              <a:t>  Запрос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 '</a:t>
            </a:r>
            <a:r>
              <a:rPr b="1" lang="ru-RU" sz="1600" spc="-1" strike="noStrike">
                <a:solidFill>
                  <a:srgbClr val="3333cc"/>
                </a:solidFill>
                <a:latin typeface="Arial Narrow"/>
              </a:rPr>
              <a:t>оклит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'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2  j_max=49  UT=  1  T_astr=1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енко,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1  j_max=68  UT= 50  T_astr=2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1  j_max= 4  UT= 36  T_astr=3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л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лад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1  j_max= 4  UT= 48  T_astr=4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л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лад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Max_sloi=1  j_max= 4  UT= 60  T_astr=5   запрос = &lt;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лит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=&gt;  реакция = &lt;</a:t>
            </a:r>
            <a:r>
              <a:rPr b="1" lang="ru-RU" sz="1600" spc="-1" strike="noStrike">
                <a:solidFill>
                  <a:srgbClr val="3333cc"/>
                </a:solidFill>
                <a:latin typeface="Arial Narrow"/>
              </a:rPr>
              <a:t>оклад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1027"/>
          <p:cNvSpPr/>
          <p:nvPr/>
        </p:nvSpPr>
        <p:spPr>
          <a:xfrm>
            <a:off x="900000" y="189000"/>
            <a:ext cx="3743280" cy="1067400"/>
          </a:xfrm>
          <a:prstGeom prst="rect">
            <a:avLst/>
          </a:prstGeom>
          <a:solidFill>
            <a:srgbClr val="cb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 Narrow"/>
              </a:rPr>
              <a:t>оклад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 Narrow"/>
              </a:rPr>
              <a:t>Иван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 Narrow"/>
              </a:rPr>
              <a:t>идзе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 Narrow"/>
              </a:rPr>
              <a:t>оклит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Rectangle 1028"/>
          <p:cNvSpPr/>
          <p:nvPr/>
        </p:nvSpPr>
        <p:spPr>
          <a:xfrm>
            <a:off x="1979640" y="333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Файл  запроса  в  НСС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Rectangle 1029"/>
          <p:cNvSpPr/>
          <p:nvPr/>
        </p:nvSpPr>
        <p:spPr>
          <a:xfrm>
            <a:off x="2556000" y="907920"/>
            <a:ext cx="4103640" cy="642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инамика  реакции  НСС  на  запрос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77420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ид  ТФ  в другой нотации  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SCII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1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br>
              <a:rPr sz="9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Р-ЗбЯмнб_x001f_рс-зме-+_x001f_нйкЯг_x001f_7/4/_x001f_пта-:_x001f_Л-ї-ЗбЯмзгжд_x001f_фнкнр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+_x001f_рс-зме-+_x001f_нйкЯг_x001f_7///_x001f_пта-:_x001f_Р-Р-Одспнбзцдб_x001f_рс-зме-+_x001f_н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гдк_x001f_06+_x001f_нйкЯг_x001f_74//_x001f_пта-:_x001f_Л-ї-Рзгнпюм_x001f_лмр+_x001f_нйкЯг_x001f_4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4//_x001f_пта-:_x001f_Л-ї-Одспюм_x001f_едмЯс+_x001f_гбнд_x001f_гдсди-_x001f_рс-зме-+_x001f_нйкЯг_x001f_6/5/_x001f_пта-:_x001f_ї-Р-ЗбЯмчбзкз_x001f_змедмдп+_x001f_нйкЯг_x001f_3/3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/_x001f_пта-:_x001f_Л-ї-Одспнб+_x001f_нйкЯг_x001f_7/4/_x001f_пта-_x001f_рс-зме-:_x001f_ї-Г-Одспюм_x001f_бдг-зме-+_x001f_нйкЯг_x001f_8///_x001f_пта-:_x001f_Р-Р-ЗбЯмюм_x001f_змедмд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+_x001f_нйкЯг_x001f_74//_x001f_пта-:_x001f_Л-Й-Рзгнпнб+_x001f_нйкЯг_x001f_4/4/_x001f_пта-_x001f_змедмдп:Л-Й-ЗбЯмдмйн+_x001f_нйкЯг_x001f_3/2/_x001f_пта-_x001f_фнкнрс:_x001f_З-З-Одспнб+_x001f_нйкЯг_x001f_8/2/_x001f_пта-_x001f_бдг-зме-:_x001f_З-З-ЗбЯмнбрйзи_x001f_бдг-зме-+_x001f_нйкЯг_x001f_804/_x001f_пта-:_x001f_ї-Р-Рзгнпнбрйзи_x001f_едмЯс+_x001f_спнд_x001f_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гдсди-_x001f_нйкЯг_x001f_80//_x001f_пта-:ї-Р-Одспдмйн_x001f_лмр+_x001f_нйкЯг_x001f_4/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//_x001f_пта-:_x001f_ї-ї-ЗбЯмзгжд+_x001f_нйкЯг_x001f_84//_x001f_пта-_x001f_зме-:З-З-Рзгнпрй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и_x001f_жЯб-нсгдкнл+_x001f_нйкЯг_x001f_64//_x001f_пта-:_x001f_Л-Й-Рзгнпнб+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_x001f_нйкЯг_x001f_7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/6/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_x001f_пта-_x001f_рс-зме-:_x001f_Р-Р-Рзгнпцтй+_x001f_нйкЯг_x001f_746/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_x001f_пта-_x001f_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с-зме-:_x001f_ї-Г-ЗбЯмчбзкз_x001f_рс-зме-+_x001f_нйкЯг_x001f_74//_x001f_пта-:Л-Й-Рзгнпюм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+_x001f_нйкЯг_x001f_474/_x001f_пта-_x001f_рс-зме-:_x001f_Л-Л-ЗбЯмзгжд_x001f_рс-зме-+_x001f_нйкЯг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_x001f_57//_x001f_пта-:_x001f_З-З-Рзгнпчбзкз_x001f_бдг-зме-+_x001f_нйкЯг_x001f_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88//_x001f_пта-:Л-ї-Двнпнб_x001f_нйкЯг_x001f_8/8/_x001f_пта-_x001f_бдг-зме-:ї-ї-ЗбЯмнб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_x001f_б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г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зме-+_x001f_т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нкдм_x001f_/4-/4-/4-:я</a:t>
            </a: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6227640" y="1341360"/>
            <a:ext cx="2592360" cy="3600360"/>
          </a:xfrm>
          <a:prstGeom prst="rect">
            <a:avLst/>
          </a:prstGeom>
          <a:solidFill>
            <a:srgbClr val="d5ffd7"/>
          </a:solidFill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AutoShape 3"/>
          <p:cNvSpPr/>
          <p:nvPr/>
        </p:nvSpPr>
        <p:spPr>
          <a:xfrm>
            <a:off x="6588000" y="5381640"/>
            <a:ext cx="1008360" cy="504720"/>
          </a:xfrm>
          <a:prstGeom prst="wedgeRoundRectCallout">
            <a:avLst>
              <a:gd name="adj1" fmla="val -13462"/>
              <a:gd name="adj2" fmla="val 47486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249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лассическая (файловая, ТФ)  и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нейросемантическая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парадигмы  автоматизации  информационных  процессов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AutoShape 7"/>
          <p:cNvSpPr/>
          <p:nvPr/>
        </p:nvSpPr>
        <p:spPr>
          <a:xfrm>
            <a:off x="1835280" y="5092560"/>
            <a:ext cx="504720" cy="432000"/>
          </a:xfrm>
          <a:prstGeom prst="leftRightArrow">
            <a:avLst>
              <a:gd name="adj1" fmla="val 50000"/>
              <a:gd name="adj2" fmla="val 23258"/>
            </a:avLst>
          </a:prstGeom>
          <a:solidFill>
            <a:srgbClr val="5bfb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Text Box 8"/>
          <p:cNvSpPr/>
          <p:nvPr/>
        </p:nvSpPr>
        <p:spPr>
          <a:xfrm>
            <a:off x="2771640" y="2062080"/>
            <a:ext cx="2808360" cy="2454480"/>
          </a:xfrm>
          <a:prstGeom prst="rect">
            <a:avLst/>
          </a:prstGeom>
          <a:solidFill>
            <a:srgbClr val="c5f8ff"/>
          </a:solidFill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AutoShape 9"/>
          <p:cNvSpPr/>
          <p:nvPr/>
        </p:nvSpPr>
        <p:spPr>
          <a:xfrm>
            <a:off x="3448080" y="3500280"/>
            <a:ext cx="1584360" cy="792360"/>
          </a:xfrm>
          <a:prstGeom prst="wedgeRoundRectCallout">
            <a:avLst>
              <a:gd name="adj1" fmla="val -24550"/>
              <a:gd name="adj2" fmla="val 50092"/>
              <a:gd name="adj3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Алгоритм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БД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3" name="Object 10"/>
          <p:cNvGraphicFramePr/>
          <p:nvPr/>
        </p:nvGraphicFramePr>
        <p:xfrm>
          <a:off x="7093080" y="2925720"/>
          <a:ext cx="1496880" cy="19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2925720"/>
                    <a:ext cx="149688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Rectangle 11"/>
          <p:cNvSpPr/>
          <p:nvPr/>
        </p:nvSpPr>
        <p:spPr>
          <a:xfrm>
            <a:off x="6156360" y="357336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Форма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НСС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Rectangle 12"/>
          <p:cNvSpPr/>
          <p:nvPr/>
        </p:nvSpPr>
        <p:spPr>
          <a:xfrm>
            <a:off x="6556680" y="5373720"/>
            <a:ext cx="107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ahoma"/>
              </a:rPr>
              <a:t>Алгоритм 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ahoma"/>
              </a:rPr>
              <a:t>Н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CC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7" name="Group 13"/>
          <p:cNvGrpSpPr/>
          <p:nvPr/>
        </p:nvGrpSpPr>
        <p:grpSpPr>
          <a:xfrm>
            <a:off x="1547640" y="4726080"/>
            <a:ext cx="4967280" cy="1721880"/>
            <a:chOff x="1547640" y="4726080"/>
            <a:chExt cx="4967280" cy="1721880"/>
          </a:xfrm>
        </p:grpSpPr>
        <p:sp>
          <p:nvSpPr>
            <p:cNvPr id="1328" name="Rectangle 14"/>
            <p:cNvSpPr/>
            <p:nvPr/>
          </p:nvSpPr>
          <p:spPr>
            <a:xfrm>
              <a:off x="3130560" y="5805360"/>
              <a:ext cx="208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Текстовая форма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9" name="Rectangle 15"/>
            <p:cNvSpPr/>
            <p:nvPr/>
          </p:nvSpPr>
          <p:spPr>
            <a:xfrm>
              <a:off x="1547640" y="4726080"/>
              <a:ext cx="43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1011011011010001101101001010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0" name="Rectangle 16"/>
            <p:cNvSpPr/>
            <p:nvPr/>
          </p:nvSpPr>
          <p:spPr>
            <a:xfrm>
              <a:off x="1763640" y="4941720"/>
              <a:ext cx="43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01001101101000110110100101101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1" name="Rectangle 17"/>
            <p:cNvSpPr/>
            <p:nvPr/>
          </p:nvSpPr>
          <p:spPr>
            <a:xfrm>
              <a:off x="1979280" y="5157720"/>
              <a:ext cx="43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00101011011001000110110100101101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2" name="Rectangle 18"/>
            <p:cNvSpPr/>
            <p:nvPr/>
          </p:nvSpPr>
          <p:spPr>
            <a:xfrm>
              <a:off x="2195280" y="5373360"/>
              <a:ext cx="43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1100101011001101000110110100101010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33" name="Group 19"/>
          <p:cNvGrpSpPr/>
          <p:nvPr/>
        </p:nvGrpSpPr>
        <p:grpSpPr>
          <a:xfrm>
            <a:off x="395280" y="4654440"/>
            <a:ext cx="1297080" cy="1223640"/>
            <a:chOff x="395280" y="4654440"/>
            <a:chExt cx="1297080" cy="1223640"/>
          </a:xfrm>
        </p:grpSpPr>
        <p:sp>
          <p:nvSpPr>
            <p:cNvPr id="1334" name="AutoShape 20"/>
            <p:cNvSpPr/>
            <p:nvPr/>
          </p:nvSpPr>
          <p:spPr>
            <a:xfrm>
              <a:off x="395280" y="4654440"/>
              <a:ext cx="1297080" cy="1223640"/>
            </a:xfrm>
            <a:prstGeom prst="wedgeRoundRectCallout">
              <a:avLst>
                <a:gd name="adj1" fmla="val 19643"/>
                <a:gd name="adj2" fmla="val 49787"/>
                <a:gd name="adj3" fmla="val 16667"/>
              </a:avLst>
            </a:prstGeom>
            <a:solidFill>
              <a:srgbClr val="ccffcc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ahoma"/>
                </a:rPr>
                <a:t>Предметная область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5" name="Documents"/>
            <p:cNvSpPr/>
            <p:nvPr/>
          </p:nvSpPr>
          <p:spPr>
            <a:xfrm>
              <a:off x="1433520" y="5218200"/>
              <a:ext cx="190800" cy="30888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36" name="Group 22"/>
            <p:cNvGrpSpPr/>
            <p:nvPr/>
          </p:nvGrpSpPr>
          <p:grpSpPr>
            <a:xfrm>
              <a:off x="1028880" y="5286960"/>
              <a:ext cx="458640" cy="495360"/>
              <a:chOff x="1028880" y="5286960"/>
              <a:chExt cx="458640" cy="495360"/>
            </a:xfrm>
          </p:grpSpPr>
          <p:sp>
            <p:nvSpPr>
              <p:cNvPr id="1337" name="Freeform 23"/>
              <p:cNvSpPr/>
              <p:nvPr/>
            </p:nvSpPr>
            <p:spPr>
              <a:xfrm>
                <a:off x="1028880" y="5286960"/>
                <a:ext cx="219240" cy="231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8" name="Freeform 24"/>
              <p:cNvSpPr/>
              <p:nvPr/>
            </p:nvSpPr>
            <p:spPr>
              <a:xfrm>
                <a:off x="1269720" y="5534640"/>
                <a:ext cx="217800" cy="2476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9" name="Freeform 25"/>
              <p:cNvSpPr/>
              <p:nvPr/>
            </p:nvSpPr>
            <p:spPr>
              <a:xfrm>
                <a:off x="1072440" y="5334480"/>
                <a:ext cx="219240" cy="231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0" name="Freeform 26"/>
              <p:cNvSpPr/>
              <p:nvPr/>
            </p:nvSpPr>
            <p:spPr>
              <a:xfrm>
                <a:off x="1124640" y="5387400"/>
                <a:ext cx="219240" cy="231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1" name="Freeform 27"/>
              <p:cNvSpPr/>
              <p:nvPr/>
            </p:nvSpPr>
            <p:spPr>
              <a:xfrm>
                <a:off x="1172520" y="5437440"/>
                <a:ext cx="219240" cy="231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2" name="Freeform 28"/>
              <p:cNvSpPr/>
              <p:nvPr/>
            </p:nvSpPr>
            <p:spPr>
              <a:xfrm>
                <a:off x="1220760" y="5487840"/>
                <a:ext cx="219240" cy="231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343" name="Group 29"/>
              <p:cNvGrpSpPr/>
              <p:nvPr/>
            </p:nvGrpSpPr>
            <p:grpSpPr>
              <a:xfrm>
                <a:off x="1305360" y="5574960"/>
                <a:ext cx="147600" cy="174240"/>
                <a:chOff x="1305360" y="5574960"/>
                <a:chExt cx="147600" cy="174240"/>
              </a:xfrm>
            </p:grpSpPr>
            <p:sp>
              <p:nvSpPr>
                <p:cNvPr id="1344" name="Freeform 30"/>
                <p:cNvSpPr/>
                <p:nvPr/>
              </p:nvSpPr>
              <p:spPr>
                <a:xfrm>
                  <a:off x="1345680" y="5574960"/>
                  <a:ext cx="107280" cy="23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Freeform 31"/>
                <p:cNvSpPr/>
                <p:nvPr/>
              </p:nvSpPr>
              <p:spPr>
                <a:xfrm>
                  <a:off x="1330200" y="5625000"/>
                  <a:ext cx="107280" cy="23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6" name="Freeform 32"/>
                <p:cNvSpPr/>
                <p:nvPr/>
              </p:nvSpPr>
              <p:spPr>
                <a:xfrm>
                  <a:off x="1341720" y="5596200"/>
                  <a:ext cx="107280" cy="23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7" name="Freeform 33"/>
                <p:cNvSpPr/>
                <p:nvPr/>
              </p:nvSpPr>
              <p:spPr>
                <a:xfrm>
                  <a:off x="1323360" y="5650920"/>
                  <a:ext cx="107280" cy="23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Freeform 34"/>
                <p:cNvSpPr/>
                <p:nvPr/>
              </p:nvSpPr>
              <p:spPr>
                <a:xfrm>
                  <a:off x="1317600" y="5675040"/>
                  <a:ext cx="107280" cy="23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9" name="Freeform 35"/>
                <p:cNvSpPr/>
                <p:nvPr/>
              </p:nvSpPr>
              <p:spPr>
                <a:xfrm>
                  <a:off x="1305360" y="5725440"/>
                  <a:ext cx="107280" cy="23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0" name="Freeform 36"/>
                <p:cNvSpPr/>
                <p:nvPr/>
              </p:nvSpPr>
              <p:spPr>
                <a:xfrm>
                  <a:off x="1308240" y="5699160"/>
                  <a:ext cx="107280" cy="23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351" name="Picture 37" descr="j0234687"/>
            <p:cNvPicPr/>
            <p:nvPr/>
          </p:nvPicPr>
          <p:blipFill>
            <a:blip r:embed="rId3"/>
            <a:stretch/>
          </p:blipFill>
          <p:spPr>
            <a:xfrm>
              <a:off x="532080" y="5311800"/>
              <a:ext cx="47844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2" name="Group 38"/>
          <p:cNvGrpSpPr/>
          <p:nvPr/>
        </p:nvGrpSpPr>
        <p:grpSpPr>
          <a:xfrm>
            <a:off x="2843280" y="2249640"/>
            <a:ext cx="2592360" cy="1197720"/>
            <a:chOff x="2843280" y="2249640"/>
            <a:chExt cx="2592360" cy="1197720"/>
          </a:xfrm>
        </p:grpSpPr>
        <p:grpSp>
          <p:nvGrpSpPr>
            <p:cNvPr id="1353" name="Group 39"/>
            <p:cNvGrpSpPr/>
            <p:nvPr/>
          </p:nvGrpSpPr>
          <p:grpSpPr>
            <a:xfrm>
              <a:off x="3452400" y="2249640"/>
              <a:ext cx="330480" cy="875880"/>
              <a:chOff x="3452400" y="2249640"/>
              <a:chExt cx="330480" cy="875880"/>
            </a:xfrm>
          </p:grpSpPr>
          <p:sp>
            <p:nvSpPr>
              <p:cNvPr id="1354" name="Oval 40"/>
              <p:cNvSpPr/>
              <p:nvPr/>
            </p:nvSpPr>
            <p:spPr>
              <a:xfrm>
                <a:off x="3503520" y="2249640"/>
                <a:ext cx="228600" cy="2484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5" name="Oval 41"/>
              <p:cNvSpPr/>
              <p:nvPr/>
            </p:nvSpPr>
            <p:spPr>
              <a:xfrm>
                <a:off x="3503520" y="2492280"/>
                <a:ext cx="228600" cy="3974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6" name="Line 42"/>
              <p:cNvSpPr/>
              <p:nvPr/>
            </p:nvSpPr>
            <p:spPr>
              <a:xfrm>
                <a:off x="3570120" y="2860560"/>
                <a:ext cx="0" cy="264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43"/>
              <p:cNvSpPr/>
              <p:nvPr/>
            </p:nvSpPr>
            <p:spPr>
              <a:xfrm>
                <a:off x="3670200" y="2860560"/>
                <a:ext cx="0" cy="264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44"/>
              <p:cNvSpPr/>
              <p:nvPr/>
            </p:nvSpPr>
            <p:spPr>
              <a:xfrm>
                <a:off x="3698640" y="2539440"/>
                <a:ext cx="84240" cy="2368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45"/>
              <p:cNvSpPr/>
              <p:nvPr/>
            </p:nvSpPr>
            <p:spPr>
              <a:xfrm flipH="1">
                <a:off x="3452400" y="2541960"/>
                <a:ext cx="83880" cy="241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0" name="Text Box 46"/>
            <p:cNvSpPr/>
            <p:nvPr/>
          </p:nvSpPr>
          <p:spPr>
            <a:xfrm>
              <a:off x="2843280" y="3110040"/>
              <a:ext cx="25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Аналитик, программист</a:t>
              </a:r>
              <a:endParaRPr b="1" i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1" name="Rectangle 47"/>
          <p:cNvSpPr/>
          <p:nvPr/>
        </p:nvSpPr>
        <p:spPr>
          <a:xfrm>
            <a:off x="971640" y="2421000"/>
            <a:ext cx="16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льзователь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2" name="Group 48"/>
          <p:cNvGrpSpPr/>
          <p:nvPr/>
        </p:nvGrpSpPr>
        <p:grpSpPr>
          <a:xfrm>
            <a:off x="1547280" y="1557360"/>
            <a:ext cx="330480" cy="875880"/>
            <a:chOff x="1547280" y="1557360"/>
            <a:chExt cx="330480" cy="875880"/>
          </a:xfrm>
        </p:grpSpPr>
        <p:sp>
          <p:nvSpPr>
            <p:cNvPr id="1363" name="Oval 49"/>
            <p:cNvSpPr/>
            <p:nvPr/>
          </p:nvSpPr>
          <p:spPr>
            <a:xfrm>
              <a:off x="1598400" y="1557360"/>
              <a:ext cx="228600" cy="2484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4" name="Oval 50"/>
            <p:cNvSpPr/>
            <p:nvPr/>
          </p:nvSpPr>
          <p:spPr>
            <a:xfrm>
              <a:off x="1598400" y="1800000"/>
              <a:ext cx="228600" cy="39744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5" name="Line 51"/>
            <p:cNvSpPr/>
            <p:nvPr/>
          </p:nvSpPr>
          <p:spPr>
            <a:xfrm>
              <a:off x="1665000" y="2168280"/>
              <a:ext cx="0" cy="264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6" name="Line 52"/>
            <p:cNvSpPr/>
            <p:nvPr/>
          </p:nvSpPr>
          <p:spPr>
            <a:xfrm>
              <a:off x="1765080" y="2168280"/>
              <a:ext cx="0" cy="264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53"/>
            <p:cNvSpPr/>
            <p:nvPr/>
          </p:nvSpPr>
          <p:spPr>
            <a:xfrm>
              <a:off x="1793520" y="1847160"/>
              <a:ext cx="84240" cy="236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54"/>
            <p:cNvSpPr/>
            <p:nvPr/>
          </p:nvSpPr>
          <p:spPr>
            <a:xfrm flipH="1">
              <a:off x="1547280" y="1849680"/>
              <a:ext cx="83880" cy="241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9" name="Group 55"/>
          <p:cNvGrpSpPr/>
          <p:nvPr/>
        </p:nvGrpSpPr>
        <p:grpSpPr>
          <a:xfrm>
            <a:off x="3954240" y="2265480"/>
            <a:ext cx="330480" cy="875880"/>
            <a:chOff x="3954240" y="2265480"/>
            <a:chExt cx="330480" cy="875880"/>
          </a:xfrm>
        </p:grpSpPr>
        <p:sp>
          <p:nvSpPr>
            <p:cNvPr id="1370" name="Oval 56"/>
            <p:cNvSpPr/>
            <p:nvPr/>
          </p:nvSpPr>
          <p:spPr>
            <a:xfrm>
              <a:off x="4005360" y="2265480"/>
              <a:ext cx="228600" cy="248400"/>
            </a:xfrm>
            <a:prstGeom prst="ellipse">
              <a:avLst/>
            </a:prstGeom>
            <a:solidFill>
              <a:srgbClr val="66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Oval 57"/>
            <p:cNvSpPr/>
            <p:nvPr/>
          </p:nvSpPr>
          <p:spPr>
            <a:xfrm>
              <a:off x="4005360" y="2508120"/>
              <a:ext cx="228600" cy="397440"/>
            </a:xfrm>
            <a:prstGeom prst="ellipse">
              <a:avLst/>
            </a:prstGeom>
            <a:solidFill>
              <a:srgbClr val="66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Line 58"/>
            <p:cNvSpPr/>
            <p:nvPr/>
          </p:nvSpPr>
          <p:spPr>
            <a:xfrm>
              <a:off x="4071960" y="2876400"/>
              <a:ext cx="0" cy="264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Line 59"/>
            <p:cNvSpPr/>
            <p:nvPr/>
          </p:nvSpPr>
          <p:spPr>
            <a:xfrm>
              <a:off x="4172040" y="2876400"/>
              <a:ext cx="0" cy="264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Line 60"/>
            <p:cNvSpPr/>
            <p:nvPr/>
          </p:nvSpPr>
          <p:spPr>
            <a:xfrm>
              <a:off x="4200480" y="2555280"/>
              <a:ext cx="84240" cy="236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5" name="Line 61"/>
            <p:cNvSpPr/>
            <p:nvPr/>
          </p:nvSpPr>
          <p:spPr>
            <a:xfrm flipH="1">
              <a:off x="3954240" y="2557800"/>
              <a:ext cx="83880" cy="241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6" name="Group 62"/>
          <p:cNvGrpSpPr/>
          <p:nvPr/>
        </p:nvGrpSpPr>
        <p:grpSpPr>
          <a:xfrm>
            <a:off x="4312800" y="2278080"/>
            <a:ext cx="330480" cy="875880"/>
            <a:chOff x="4312800" y="2278080"/>
            <a:chExt cx="330480" cy="875880"/>
          </a:xfrm>
        </p:grpSpPr>
        <p:sp>
          <p:nvSpPr>
            <p:cNvPr id="1377" name="Oval 63"/>
            <p:cNvSpPr/>
            <p:nvPr/>
          </p:nvSpPr>
          <p:spPr>
            <a:xfrm>
              <a:off x="4363920" y="2278080"/>
              <a:ext cx="228600" cy="248400"/>
            </a:xfrm>
            <a:prstGeom prst="ellipse">
              <a:avLst/>
            </a:prstGeom>
            <a:solidFill>
              <a:srgbClr val="66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8" name="Oval 64"/>
            <p:cNvSpPr/>
            <p:nvPr/>
          </p:nvSpPr>
          <p:spPr>
            <a:xfrm>
              <a:off x="4363920" y="2520720"/>
              <a:ext cx="228600" cy="397440"/>
            </a:xfrm>
            <a:prstGeom prst="ellipse">
              <a:avLst/>
            </a:prstGeom>
            <a:solidFill>
              <a:srgbClr val="66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9" name="Line 65"/>
            <p:cNvSpPr/>
            <p:nvPr/>
          </p:nvSpPr>
          <p:spPr>
            <a:xfrm>
              <a:off x="4430520" y="2889000"/>
              <a:ext cx="0" cy="264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0" name="Line 66"/>
            <p:cNvSpPr/>
            <p:nvPr/>
          </p:nvSpPr>
          <p:spPr>
            <a:xfrm>
              <a:off x="4530600" y="2889000"/>
              <a:ext cx="0" cy="264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1" name="Line 67"/>
            <p:cNvSpPr/>
            <p:nvPr/>
          </p:nvSpPr>
          <p:spPr>
            <a:xfrm>
              <a:off x="4559040" y="2567880"/>
              <a:ext cx="84240" cy="236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Line 68"/>
            <p:cNvSpPr/>
            <p:nvPr/>
          </p:nvSpPr>
          <p:spPr>
            <a:xfrm flipH="1">
              <a:off x="4312800" y="2570400"/>
              <a:ext cx="83880" cy="241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3" name="Group 69"/>
          <p:cNvGrpSpPr/>
          <p:nvPr/>
        </p:nvGrpSpPr>
        <p:grpSpPr>
          <a:xfrm>
            <a:off x="4673160" y="2278080"/>
            <a:ext cx="330480" cy="875880"/>
            <a:chOff x="4673160" y="2278080"/>
            <a:chExt cx="330480" cy="875880"/>
          </a:xfrm>
        </p:grpSpPr>
        <p:sp>
          <p:nvSpPr>
            <p:cNvPr id="1384" name="Oval 70"/>
            <p:cNvSpPr/>
            <p:nvPr/>
          </p:nvSpPr>
          <p:spPr>
            <a:xfrm>
              <a:off x="4724280" y="2278080"/>
              <a:ext cx="228600" cy="248400"/>
            </a:xfrm>
            <a:prstGeom prst="ellipse">
              <a:avLst/>
            </a:prstGeom>
            <a:solidFill>
              <a:srgbClr val="66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5" name="Oval 71"/>
            <p:cNvSpPr/>
            <p:nvPr/>
          </p:nvSpPr>
          <p:spPr>
            <a:xfrm>
              <a:off x="4724280" y="2520720"/>
              <a:ext cx="228600" cy="397440"/>
            </a:xfrm>
            <a:prstGeom prst="ellipse">
              <a:avLst/>
            </a:prstGeom>
            <a:solidFill>
              <a:srgbClr val="66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6" name="Line 72"/>
            <p:cNvSpPr/>
            <p:nvPr/>
          </p:nvSpPr>
          <p:spPr>
            <a:xfrm>
              <a:off x="4790880" y="2889000"/>
              <a:ext cx="0" cy="264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Line 73"/>
            <p:cNvSpPr/>
            <p:nvPr/>
          </p:nvSpPr>
          <p:spPr>
            <a:xfrm>
              <a:off x="4890960" y="2889000"/>
              <a:ext cx="0" cy="264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8" name="Line 74"/>
            <p:cNvSpPr/>
            <p:nvPr/>
          </p:nvSpPr>
          <p:spPr>
            <a:xfrm>
              <a:off x="4919400" y="2567880"/>
              <a:ext cx="84240" cy="236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9" name="Line 75"/>
            <p:cNvSpPr/>
            <p:nvPr/>
          </p:nvSpPr>
          <p:spPr>
            <a:xfrm flipH="1">
              <a:off x="4673160" y="2570400"/>
              <a:ext cx="83880" cy="241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90" name="Freeform 76"/>
          <p:cNvSpPr/>
          <p:nvPr/>
        </p:nvSpPr>
        <p:spPr>
          <a:xfrm>
            <a:off x="2916360" y="3811680"/>
            <a:ext cx="601560" cy="173988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77"/>
          <p:cNvSpPr/>
          <p:nvPr/>
        </p:nvSpPr>
        <p:spPr>
          <a:xfrm>
            <a:off x="1752480" y="4726080"/>
            <a:ext cx="73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АЦП-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ЦАП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Freeform 78"/>
          <p:cNvSpPr/>
          <p:nvPr/>
        </p:nvSpPr>
        <p:spPr>
          <a:xfrm>
            <a:off x="6273720" y="4915080"/>
            <a:ext cx="1381320" cy="529920"/>
          </a:xfrm>
          <a:prstGeom prst="pie">
            <a:avLst/>
          </a:prstGeom>
          <a:solidFill>
            <a:srgbClr val="5bfb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Freeform 79"/>
          <p:cNvSpPr/>
          <p:nvPr/>
        </p:nvSpPr>
        <p:spPr>
          <a:xfrm>
            <a:off x="4838760" y="3819600"/>
            <a:ext cx="743040" cy="169848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Freeform 80"/>
          <p:cNvSpPr/>
          <p:nvPr/>
        </p:nvSpPr>
        <p:spPr>
          <a:xfrm>
            <a:off x="4711680" y="4111560"/>
            <a:ext cx="425520" cy="14796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Freeform 81"/>
          <p:cNvSpPr/>
          <p:nvPr/>
        </p:nvSpPr>
        <p:spPr>
          <a:xfrm>
            <a:off x="2954160" y="2625840"/>
            <a:ext cx="601920" cy="128268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Freeform 82"/>
          <p:cNvSpPr/>
          <p:nvPr/>
        </p:nvSpPr>
        <p:spPr>
          <a:xfrm>
            <a:off x="3997440" y="2484360"/>
            <a:ext cx="1482480" cy="1160640"/>
          </a:xfrm>
          <a:prstGeom prst="pie">
            <a:avLst/>
          </a:pr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Freeform 83"/>
          <p:cNvSpPr/>
          <p:nvPr/>
        </p:nvSpPr>
        <p:spPr>
          <a:xfrm>
            <a:off x="1930320" y="1776240"/>
            <a:ext cx="3973680" cy="211932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Freeform 84"/>
          <p:cNvSpPr/>
          <p:nvPr/>
        </p:nvSpPr>
        <p:spPr>
          <a:xfrm>
            <a:off x="817560" y="1708200"/>
            <a:ext cx="546120" cy="29574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Freeform 85"/>
          <p:cNvSpPr/>
          <p:nvPr/>
        </p:nvSpPr>
        <p:spPr>
          <a:xfrm>
            <a:off x="3295800" y="4149720"/>
            <a:ext cx="480960" cy="151596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Freeform 86"/>
          <p:cNvSpPr/>
          <p:nvPr/>
        </p:nvSpPr>
        <p:spPr>
          <a:xfrm>
            <a:off x="3995640" y="4149720"/>
            <a:ext cx="373320" cy="150336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Freeform 87"/>
          <p:cNvSpPr/>
          <p:nvPr/>
        </p:nvSpPr>
        <p:spPr>
          <a:xfrm>
            <a:off x="4278240" y="4149720"/>
            <a:ext cx="453960" cy="142236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88"/>
          <p:cNvSpPr/>
          <p:nvPr/>
        </p:nvSpPr>
        <p:spPr>
          <a:xfrm>
            <a:off x="3708360" y="2494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Freeform 89"/>
          <p:cNvSpPr/>
          <p:nvPr/>
        </p:nvSpPr>
        <p:spPr>
          <a:xfrm>
            <a:off x="1903320" y="1844640"/>
            <a:ext cx="1563840" cy="46692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AutoShape 90"/>
          <p:cNvSpPr/>
          <p:nvPr/>
        </p:nvSpPr>
        <p:spPr>
          <a:xfrm>
            <a:off x="7093080" y="2062080"/>
            <a:ext cx="1439640" cy="792360"/>
          </a:xfrm>
          <a:prstGeom prst="wedgeRoundRectCallout">
            <a:avLst>
              <a:gd name="adj1" fmla="val -51212"/>
              <a:gd name="adj2" fmla="val -19337"/>
              <a:gd name="adj3" fmla="val 16667"/>
            </a:avLst>
          </a:prstGeom>
          <a:solidFill>
            <a:srgbClr val="58fec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ahoma"/>
              </a:rPr>
              <a:t>Алгоритм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if&lt;&gt; then&lt;&gt; if&lt;&gt; then&lt;&gt;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if&lt;&gt; then&lt;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Freeform 91"/>
          <p:cNvSpPr/>
          <p:nvPr/>
        </p:nvSpPr>
        <p:spPr>
          <a:xfrm>
            <a:off x="1955880" y="1711440"/>
            <a:ext cx="5092560" cy="50796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Text Box 92"/>
          <p:cNvSpPr/>
          <p:nvPr/>
        </p:nvSpPr>
        <p:spPr>
          <a:xfrm>
            <a:off x="7418520" y="2446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Freeform 93"/>
          <p:cNvSpPr/>
          <p:nvPr/>
        </p:nvSpPr>
        <p:spPr>
          <a:xfrm>
            <a:off x="7431120" y="2473200"/>
            <a:ext cx="195120" cy="93204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Freeform 94"/>
          <p:cNvSpPr/>
          <p:nvPr/>
        </p:nvSpPr>
        <p:spPr>
          <a:xfrm>
            <a:off x="7238880" y="2460600"/>
            <a:ext cx="1016280" cy="12319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Freeform 95"/>
          <p:cNvSpPr/>
          <p:nvPr/>
        </p:nvSpPr>
        <p:spPr>
          <a:xfrm>
            <a:off x="7315200" y="2803680"/>
            <a:ext cx="209520" cy="91440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Freeform 96"/>
          <p:cNvSpPr/>
          <p:nvPr/>
        </p:nvSpPr>
        <p:spPr>
          <a:xfrm>
            <a:off x="7962840" y="2828880"/>
            <a:ext cx="306360" cy="152388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Freeform 97"/>
          <p:cNvSpPr/>
          <p:nvPr/>
        </p:nvSpPr>
        <p:spPr>
          <a:xfrm>
            <a:off x="3132000" y="4156200"/>
            <a:ext cx="860400" cy="93636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Freeform 98"/>
          <p:cNvSpPr/>
          <p:nvPr/>
        </p:nvSpPr>
        <p:spPr>
          <a:xfrm>
            <a:off x="7524720" y="2571840"/>
            <a:ext cx="736560" cy="144756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99"/>
          <p:cNvSpPr/>
          <p:nvPr/>
        </p:nvSpPr>
        <p:spPr>
          <a:xfrm>
            <a:off x="2401920" y="2317680"/>
            <a:ext cx="3665520" cy="315756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100"/>
          <p:cNvSpPr/>
          <p:nvPr/>
        </p:nvSpPr>
        <p:spPr>
          <a:xfrm>
            <a:off x="3492360" y="3933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Text Box 101"/>
          <p:cNvSpPr/>
          <p:nvPr/>
        </p:nvSpPr>
        <p:spPr>
          <a:xfrm>
            <a:off x="6804000" y="1477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База знаний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5DD291-89F4-4E23-8E4B-F9C3385C8D3C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"/>
          <p:cNvSpPr/>
          <p:nvPr/>
        </p:nvSpPr>
        <p:spPr>
          <a:xfrm>
            <a:off x="755640" y="403200"/>
            <a:ext cx="81374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Информационно-управляющая система на базе НСС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"/>
          <p:cNvSpPr/>
          <p:nvPr/>
        </p:nvSpPr>
        <p:spPr>
          <a:xfrm>
            <a:off x="1116000" y="2133720"/>
            <a:ext cx="820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ИУС отображается только </a:t>
            </a:r>
            <a:r>
              <a:rPr b="1" lang="en-GB" sz="2000" spc="-1" strike="noStrike">
                <a:solidFill>
                  <a:srgbClr val="ff6600"/>
                </a:solidFill>
                <a:latin typeface="Times New Roman"/>
                <a:ea typeface="Lucida Sans Unicode"/>
              </a:rPr>
              <a:t>объективная</a:t>
            </a:r>
            <a:r>
              <a:rPr b="0" lang="en-GB" sz="2000" spc="-1" strike="noStrike">
                <a:solidFill>
                  <a:srgbClr val="ff6600"/>
                </a:solidFill>
                <a:latin typeface="Times New Roman"/>
                <a:ea typeface="Lucida Sans Unicode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информация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 этом, на каждое 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конкретное раздражение (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Х</a:t>
            </a:r>
            <a:r>
              <a:rPr b="1" lang="en-GB" sz="2000" spc="-1" strike="noStrike" baseline="-25000">
                <a:solidFill>
                  <a:srgbClr val="3333cc"/>
                </a:solidFill>
                <a:latin typeface="Times New Roman"/>
                <a:ea typeface="Lucida Sans Unicode"/>
              </a:rPr>
              <a:t>i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– 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конкретная реакция (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Y</a:t>
            </a:r>
            <a:r>
              <a:rPr b="1" lang="en-GB" sz="2000" spc="-1" strike="noStrike" baseline="-25000">
                <a:solidFill>
                  <a:srgbClr val="3333cc"/>
                </a:solidFill>
                <a:latin typeface="Times New Roman"/>
                <a:ea typeface="Lucida Sans Unicode"/>
              </a:rPr>
              <a:t>j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),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Times New Roman"/>
                <a:ea typeface="Lucida Sans Unicode"/>
              </a:rPr>
              <a:t>с "эмоциональной" оценкой ее полезности (E</a:t>
            </a:r>
            <a:r>
              <a:rPr b="1" lang="en-GB" sz="2000" spc="-1" strike="noStrike" baseline="-25000">
                <a:solidFill>
                  <a:srgbClr val="ff6600"/>
                </a:solidFill>
                <a:latin typeface="Times New Roman"/>
                <a:ea typeface="Lucida Sans Unicode"/>
              </a:rPr>
              <a:t>+</a:t>
            </a:r>
            <a:r>
              <a:rPr b="1" lang="en-GB" sz="2000" spc="-1" strike="noStrike">
                <a:solidFill>
                  <a:srgbClr val="ff6600"/>
                </a:solidFill>
                <a:latin typeface="Times New Roman"/>
                <a:ea typeface="Lucida Sans Unicode"/>
              </a:rPr>
              <a:t>) для ИУС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0" name=""/>
          <p:cNvGraphicFramePr/>
          <p:nvPr/>
        </p:nvGraphicFramePr>
        <p:xfrm>
          <a:off x="468360" y="3500280"/>
          <a:ext cx="7983360" cy="32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500280"/>
                    <a:ext cx="798336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118AF7-0D16-4DAD-989B-DB5AE3199496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"/>
          <p:cNvSpPr/>
          <p:nvPr/>
        </p:nvSpPr>
        <p:spPr>
          <a:xfrm>
            <a:off x="135108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</a:t>
            </a:r>
            <a:endParaRPr b="1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"/>
          <p:cNvSpPr/>
          <p:nvPr/>
        </p:nvSpPr>
        <p:spPr>
          <a:xfrm>
            <a:off x="1371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   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"/>
          <p:cNvSpPr/>
          <p:nvPr/>
        </p:nvSpPr>
        <p:spPr>
          <a:xfrm>
            <a:off x="34920" y="1851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"/>
          <p:cNvSpPr/>
          <p:nvPr/>
        </p:nvSpPr>
        <p:spPr>
          <a:xfrm>
            <a:off x="214200" y="1201680"/>
            <a:ext cx="8804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ЭП</a:t>
            </a:r>
            <a:r>
              <a:rPr b="1" lang="en-GB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компонентная, энергоинформационная  характеристика.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Материальная  компонента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, это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вещество и энергия – М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(в Дж.) и </a:t>
            </a:r>
            <a:r>
              <a:rPr b="0" lang="en-GB" sz="22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нематериальная, т.е. информационная  компонента, </a:t>
            </a:r>
            <a:r>
              <a:rPr b="0" lang="en-GB" sz="22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GB" sz="22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 И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(в битах).</a:t>
            </a:r>
            <a:endParaRPr b="1" i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"/>
          <p:cNvSpPr/>
          <p:nvPr/>
        </p:nvSpPr>
        <p:spPr>
          <a:xfrm>
            <a:off x="826920" y="333360"/>
            <a:ext cx="7848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33"/>
                </a:solidFill>
                <a:latin typeface="Tahoma"/>
                <a:ea typeface="Lucida Sans Unicode"/>
              </a:rPr>
              <a:t>Эволюционный потенциал  </a:t>
            </a: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Lucida Sans Unicode"/>
              </a:rPr>
              <a:t>ИУС</a:t>
            </a:r>
            <a:endParaRPr b="1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1403280" y="2637000"/>
          <a:ext cx="6121440" cy="37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37000"/>
                    <a:ext cx="6121440" cy="37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971640" y="3357720"/>
            <a:ext cx="2305080" cy="2519280"/>
          </a:xfrm>
          <a:prstGeom prst="pie">
            <a:avLst/>
          </a:prstGeom>
          <a:solidFill>
            <a:srgbClr val="dffff7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"/>
          <p:cNvSpPr/>
          <p:nvPr/>
        </p:nvSpPr>
        <p:spPr>
          <a:xfrm>
            <a:off x="708120" y="2911320"/>
            <a:ext cx="1930320" cy="2737080"/>
          </a:xfrm>
          <a:custGeom>
            <a:avLst/>
            <a:gdLst/>
            <a:ahLst/>
            <a:rect l="l" t="t" r="r" b="b"/>
            <a:pathLst>
              <a:path w="1216" h="1724">
                <a:moveTo>
                  <a:pt x="181" y="1724"/>
                </a:moveTo>
                <a:cubicBezTo>
                  <a:pt x="172" y="1544"/>
                  <a:pt x="146" y="884"/>
                  <a:pt x="121" y="644"/>
                </a:cubicBezTo>
                <a:cubicBezTo>
                  <a:pt x="96" y="404"/>
                  <a:pt x="45" y="372"/>
                  <a:pt x="30" y="281"/>
                </a:cubicBezTo>
                <a:cubicBezTo>
                  <a:pt x="15" y="190"/>
                  <a:pt x="0" y="144"/>
                  <a:pt x="30" y="99"/>
                </a:cubicBezTo>
                <a:cubicBezTo>
                  <a:pt x="60" y="54"/>
                  <a:pt x="120" y="16"/>
                  <a:pt x="211" y="8"/>
                </a:cubicBezTo>
                <a:cubicBezTo>
                  <a:pt x="302" y="0"/>
                  <a:pt x="462" y="10"/>
                  <a:pt x="574" y="54"/>
                </a:cubicBezTo>
                <a:cubicBezTo>
                  <a:pt x="686" y="98"/>
                  <a:pt x="823" y="196"/>
                  <a:pt x="881" y="273"/>
                </a:cubicBezTo>
                <a:cubicBezTo>
                  <a:pt x="939" y="350"/>
                  <a:pt x="869" y="514"/>
                  <a:pt x="925" y="514"/>
                </a:cubicBezTo>
                <a:cubicBezTo>
                  <a:pt x="981" y="514"/>
                  <a:pt x="1156" y="323"/>
                  <a:pt x="1216" y="273"/>
                </a:cubicBezTo>
              </a:path>
            </a:pathLst>
          </a:custGeom>
          <a:solidFill>
            <a:srgbClr val="95ff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F34A68-8EEC-4DBC-9FCB-6E7F08CDFDD0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"/>
          <p:cNvSpPr/>
          <p:nvPr/>
        </p:nvSpPr>
        <p:spPr>
          <a:xfrm>
            <a:off x="0" y="2276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</a:t>
            </a:r>
            <a:endParaRPr b="1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"/>
          <p:cNvSpPr/>
          <p:nvPr/>
        </p:nvSpPr>
        <p:spPr>
          <a:xfrm>
            <a:off x="4284720" y="3645000"/>
            <a:ext cx="4464000" cy="1632960"/>
          </a:xfrm>
          <a:prstGeom prst="rect">
            <a:avLst/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90000" tIns="334800" bIns="46800" anchor="t">
            <a:spAutoFit/>
          </a:bodyPr>
          <a:p>
            <a:pPr marL="341280" indent="-34128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ЭП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Lucida Sans Unicode"/>
              </a:rPr>
              <a:t>м </a:t>
            </a:r>
            <a:r>
              <a:rPr b="1" lang="en-GB" sz="2400" spc="-1" strike="noStrike">
                <a:solidFill>
                  <a:srgbClr val="009900"/>
                </a:solidFill>
                <a:latin typeface="Tahoma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0070c0"/>
                </a:solidFill>
                <a:latin typeface="Tahoma"/>
                <a:ea typeface="Lucida Sans Unicode"/>
              </a:rPr>
              <a:t>и</a:t>
            </a:r>
            <a:r>
              <a:rPr b="1" lang="en-GB" sz="1800" spc="-1" strike="noStrike">
                <a:solidFill>
                  <a:srgbClr val="0070c0"/>
                </a:solidFill>
                <a:latin typeface="Tahoma"/>
                <a:ea typeface="Lucida Sans Unicode"/>
              </a:rPr>
              <a:t>   - как траектория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ЭП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Lucida Sans Unicode"/>
              </a:rPr>
              <a:t>м </a:t>
            </a:r>
            <a:r>
              <a:rPr b="1" lang="en-GB" sz="2400" spc="-1" strike="noStrike">
                <a:solidFill>
                  <a:srgbClr val="009900"/>
                </a:solidFill>
                <a:latin typeface="Tahoma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0070c0"/>
                </a:solidFill>
                <a:latin typeface="Tahoma"/>
                <a:ea typeface="Lucida Sans Unicode"/>
              </a:rPr>
              <a:t>и</a:t>
            </a:r>
            <a:r>
              <a:rPr b="1" lang="en-GB" sz="2400" spc="-1" strike="noStrike" baseline="30000">
                <a:solidFill>
                  <a:srgbClr val="0070c0"/>
                </a:solidFill>
                <a:latin typeface="Tahoma"/>
                <a:ea typeface="Lucida Sans Unicode"/>
              </a:rPr>
              <a:t>2</a:t>
            </a:r>
            <a:r>
              <a:rPr b="1" lang="en-GB" sz="1800" spc="-1" strike="noStrike">
                <a:solidFill>
                  <a:srgbClr val="0070c0"/>
                </a:solidFill>
                <a:latin typeface="Tahoma"/>
                <a:ea typeface="Lucida Sans Unicode"/>
              </a:rPr>
              <a:t>  - как площадь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ЭП 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Lucida Sans Unicode"/>
              </a:rPr>
              <a:t>м </a:t>
            </a:r>
            <a:r>
              <a:rPr b="1" lang="en-GB" sz="2400" spc="-1" strike="noStrike">
                <a:solidFill>
                  <a:srgbClr val="009900"/>
                </a:solidFill>
                <a:latin typeface="Tahoma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0070c0"/>
                </a:solidFill>
                <a:latin typeface="Tahoma"/>
                <a:ea typeface="Lucida Sans Unicode"/>
              </a:rPr>
              <a:t>и</a:t>
            </a:r>
            <a:r>
              <a:rPr b="1" lang="en-GB" sz="2400" spc="-1" strike="noStrike" baseline="30000">
                <a:solidFill>
                  <a:srgbClr val="0070c0"/>
                </a:solidFill>
                <a:latin typeface="Tahoma"/>
                <a:ea typeface="Lucida Sans Unicode"/>
              </a:rPr>
              <a:t>3</a:t>
            </a:r>
            <a:r>
              <a:rPr b="1" lang="en-GB" sz="1800" spc="-1" strike="noStrike">
                <a:solidFill>
                  <a:srgbClr val="0070c0"/>
                </a:solidFill>
                <a:latin typeface="Tahoma"/>
                <a:ea typeface="Lucida Sans Unicode"/>
              </a:rPr>
              <a:t>  - как объем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1758960" y="3427200"/>
            <a:ext cx="4680" cy="1361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"/>
          <p:cNvSpPr/>
          <p:nvPr/>
        </p:nvSpPr>
        <p:spPr>
          <a:xfrm>
            <a:off x="1758960" y="4788000"/>
            <a:ext cx="1517760" cy="9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"/>
          <p:cNvSpPr/>
          <p:nvPr/>
        </p:nvSpPr>
        <p:spPr>
          <a:xfrm>
            <a:off x="1758960" y="4788000"/>
            <a:ext cx="1440" cy="17604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"/>
          <p:cNvSpPr/>
          <p:nvPr/>
        </p:nvSpPr>
        <p:spPr>
          <a:xfrm>
            <a:off x="1571760" y="4786200"/>
            <a:ext cx="6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t2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2467080" y="3789360"/>
            <a:ext cx="663480" cy="285840"/>
            <a:chOff x="2467080" y="3789360"/>
            <a:chExt cx="663480" cy="285840"/>
          </a:xfrm>
        </p:grpSpPr>
        <p:sp>
          <p:nvSpPr>
            <p:cNvPr id="1441" name=""/>
            <p:cNvSpPr/>
            <p:nvPr/>
          </p:nvSpPr>
          <p:spPr>
            <a:xfrm flipV="1">
              <a:off x="2467080" y="3789360"/>
              <a:ext cx="1080" cy="28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467080" y="4073400"/>
              <a:ext cx="663480" cy="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2286000" y="407196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t3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2447640" y="4097160"/>
            <a:ext cx="20520" cy="30168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1060560" y="3614400"/>
            <a:ext cx="1832040" cy="1935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"/>
          <p:cNvSpPr/>
          <p:nvPr/>
        </p:nvSpPr>
        <p:spPr>
          <a:xfrm>
            <a:off x="1028880" y="5600880"/>
            <a:ext cx="1440" cy="35064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"/>
          <p:cNvSpPr/>
          <p:nvPr/>
        </p:nvSpPr>
        <p:spPr>
          <a:xfrm>
            <a:off x="684360" y="489744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Э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1030320" y="4809600"/>
            <a:ext cx="1440" cy="79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052640" y="5587920"/>
            <a:ext cx="2173320" cy="12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"/>
          <p:cNvSpPr/>
          <p:nvPr/>
        </p:nvSpPr>
        <p:spPr>
          <a:xfrm>
            <a:off x="2711520" y="5545080"/>
            <a:ext cx="5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И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"/>
          <p:cNvSpPr/>
          <p:nvPr/>
        </p:nvSpPr>
        <p:spPr>
          <a:xfrm>
            <a:off x="971640" y="51688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t1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"/>
          <p:cNvSpPr/>
          <p:nvPr/>
        </p:nvSpPr>
        <p:spPr>
          <a:xfrm>
            <a:off x="539640" y="5667480"/>
            <a:ext cx="576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cc"/>
                </a:solidFill>
                <a:latin typeface="Times New Roman"/>
                <a:ea typeface="Lucida Sans Unicode"/>
              </a:rPr>
              <a:t>ПО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763640" y="5162400"/>
            <a:ext cx="0" cy="699840"/>
            <a:chOff x="1763640" y="5162400"/>
            <a:chExt cx="0" cy="699840"/>
          </a:xfrm>
        </p:grpSpPr>
        <p:sp>
          <p:nvSpPr>
            <p:cNvPr id="1454" name=""/>
            <p:cNvSpPr/>
            <p:nvPr/>
          </p:nvSpPr>
          <p:spPr>
            <a:xfrm>
              <a:off x="1763640" y="5600160"/>
              <a:ext cx="0" cy="2620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1763640" y="5162400"/>
              <a:ext cx="0" cy="439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2556000" y="5308560"/>
            <a:ext cx="0" cy="523440"/>
            <a:chOff x="2556000" y="5308560"/>
            <a:chExt cx="0" cy="523440"/>
          </a:xfrm>
        </p:grpSpPr>
        <p:sp>
          <p:nvSpPr>
            <p:cNvPr id="1457" name=""/>
            <p:cNvSpPr/>
            <p:nvPr/>
          </p:nvSpPr>
          <p:spPr>
            <a:xfrm>
              <a:off x="2556000" y="5657040"/>
              <a:ext cx="0" cy="17496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2556000" y="5308560"/>
              <a:ext cx="0" cy="349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2987640" y="4986360"/>
            <a:ext cx="0" cy="875880"/>
            <a:chOff x="2987640" y="4986360"/>
            <a:chExt cx="0" cy="875880"/>
          </a:xfrm>
        </p:grpSpPr>
        <p:sp>
          <p:nvSpPr>
            <p:cNvPr id="1460" name=""/>
            <p:cNvSpPr/>
            <p:nvPr/>
          </p:nvSpPr>
          <p:spPr>
            <a:xfrm>
              <a:off x="2987640" y="5599800"/>
              <a:ext cx="0" cy="2624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2987640" y="4986360"/>
              <a:ext cx="0" cy="614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1389240" y="5338800"/>
            <a:ext cx="12240" cy="526680"/>
            <a:chOff x="1389240" y="5338800"/>
            <a:chExt cx="12240" cy="526680"/>
          </a:xfrm>
        </p:grpSpPr>
        <p:sp>
          <p:nvSpPr>
            <p:cNvPr id="1463" name=""/>
            <p:cNvSpPr/>
            <p:nvPr/>
          </p:nvSpPr>
          <p:spPr>
            <a:xfrm flipV="1">
              <a:off x="1393200" y="5338800"/>
              <a:ext cx="8280" cy="26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89240" y="5603760"/>
              <a:ext cx="1080" cy="2617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2124000" y="5200560"/>
            <a:ext cx="0" cy="645840"/>
            <a:chOff x="2124000" y="5200560"/>
            <a:chExt cx="0" cy="645840"/>
          </a:xfrm>
        </p:grpSpPr>
        <p:sp>
          <p:nvSpPr>
            <p:cNvPr id="1466" name=""/>
            <p:cNvSpPr/>
            <p:nvPr/>
          </p:nvSpPr>
          <p:spPr>
            <a:xfrm>
              <a:off x="2124000" y="5630040"/>
              <a:ext cx="0" cy="21636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2124000" y="5200560"/>
              <a:ext cx="0" cy="43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985680" y="5545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t1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2117880" y="4792320"/>
            <a:ext cx="752400" cy="825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2476440" y="4125960"/>
            <a:ext cx="592200" cy="652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"/>
          <p:cNvSpPr/>
          <p:nvPr/>
        </p:nvSpPr>
        <p:spPr>
          <a:xfrm flipV="1" rot="16440000">
            <a:off x="-759600" y="1946520"/>
            <a:ext cx="3808440" cy="4470120"/>
          </a:xfrm>
          <a:prstGeom prst="pie">
            <a:avLst/>
          </a:prstGeom>
          <a:noFill/>
          <a:ln w="1908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"/>
          <p:cNvSpPr/>
          <p:nvPr/>
        </p:nvSpPr>
        <p:spPr>
          <a:xfrm rot="2580000">
            <a:off x="1670400" y="261576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Times New Roman"/>
                <a:ea typeface="Lucida Sans Unicode"/>
              </a:rPr>
              <a:t>Горизонт прогнозирования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"/>
          <p:cNvSpPr/>
          <p:nvPr/>
        </p:nvSpPr>
        <p:spPr>
          <a:xfrm rot="420000">
            <a:off x="900000" y="58748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Семантическое поле, поле ЭП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3059280" y="3558960"/>
            <a:ext cx="0" cy="876240"/>
            <a:chOff x="3059280" y="3558960"/>
            <a:chExt cx="0" cy="876240"/>
          </a:xfrm>
        </p:grpSpPr>
        <p:sp>
          <p:nvSpPr>
            <p:cNvPr id="1475" name=""/>
            <p:cNvSpPr/>
            <p:nvPr/>
          </p:nvSpPr>
          <p:spPr>
            <a:xfrm>
              <a:off x="3059280" y="4172760"/>
              <a:ext cx="0" cy="2624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3059280" y="3558960"/>
              <a:ext cx="0" cy="61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2484360" y="4508640"/>
            <a:ext cx="0" cy="523440"/>
            <a:chOff x="2484360" y="4508640"/>
            <a:chExt cx="0" cy="523440"/>
          </a:xfrm>
        </p:grpSpPr>
        <p:sp>
          <p:nvSpPr>
            <p:cNvPr id="1478" name=""/>
            <p:cNvSpPr/>
            <p:nvPr/>
          </p:nvSpPr>
          <p:spPr>
            <a:xfrm>
              <a:off x="2484360" y="4857480"/>
              <a:ext cx="0" cy="1746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2484360" y="4508640"/>
              <a:ext cx="0" cy="34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2152800" y="4498560"/>
            <a:ext cx="0" cy="498600"/>
            <a:chOff x="2152800" y="4498560"/>
            <a:chExt cx="0" cy="498600"/>
          </a:xfrm>
        </p:grpSpPr>
        <p:sp>
          <p:nvSpPr>
            <p:cNvPr id="1481" name=""/>
            <p:cNvSpPr/>
            <p:nvPr/>
          </p:nvSpPr>
          <p:spPr>
            <a:xfrm>
              <a:off x="2152800" y="4811760"/>
              <a:ext cx="0" cy="1854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2152800" y="4498560"/>
              <a:ext cx="0" cy="31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2771640" y="3835080"/>
            <a:ext cx="0" cy="498600"/>
            <a:chOff x="2771640" y="3835080"/>
            <a:chExt cx="0" cy="498600"/>
          </a:xfrm>
        </p:grpSpPr>
        <p:sp>
          <p:nvSpPr>
            <p:cNvPr id="1484" name=""/>
            <p:cNvSpPr/>
            <p:nvPr/>
          </p:nvSpPr>
          <p:spPr>
            <a:xfrm>
              <a:off x="2771640" y="4148280"/>
              <a:ext cx="0" cy="1854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2771640" y="3835080"/>
              <a:ext cx="0" cy="312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2873520" y="4654080"/>
            <a:ext cx="0" cy="285840"/>
            <a:chOff x="2873520" y="4654080"/>
            <a:chExt cx="0" cy="285840"/>
          </a:xfrm>
        </p:grpSpPr>
        <p:sp>
          <p:nvSpPr>
            <p:cNvPr id="1487" name=""/>
            <p:cNvSpPr/>
            <p:nvPr/>
          </p:nvSpPr>
          <p:spPr>
            <a:xfrm>
              <a:off x="2873520" y="4833360"/>
              <a:ext cx="0" cy="10656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2873520" y="4654080"/>
              <a:ext cx="0" cy="18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3276720" y="4512960"/>
            <a:ext cx="0" cy="498240"/>
            <a:chOff x="3276720" y="4512960"/>
            <a:chExt cx="0" cy="498240"/>
          </a:xfrm>
        </p:grpSpPr>
        <p:sp>
          <p:nvSpPr>
            <p:cNvPr id="1490" name=""/>
            <p:cNvSpPr/>
            <p:nvPr/>
          </p:nvSpPr>
          <p:spPr>
            <a:xfrm>
              <a:off x="3276720" y="4826160"/>
              <a:ext cx="0" cy="1850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3276720" y="4512960"/>
              <a:ext cx="0" cy="312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2" name=""/>
          <p:cNvSpPr/>
          <p:nvPr/>
        </p:nvSpPr>
        <p:spPr>
          <a:xfrm>
            <a:off x="1042920" y="4092480"/>
            <a:ext cx="2078280" cy="149724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"/>
          <p:cNvSpPr/>
          <p:nvPr/>
        </p:nvSpPr>
        <p:spPr>
          <a:xfrm>
            <a:off x="714240" y="214200"/>
            <a:ext cx="82296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ahoma"/>
                <a:ea typeface="Lucida Sans Unicode"/>
              </a:rPr>
              <a:t>Обоснование  функциональной  взаимосвязи  аргументов: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Lucida Sans Unicode"/>
              </a:rPr>
              <a:t>м</a:t>
            </a:r>
            <a:r>
              <a:rPr b="0" lang="en-GB" sz="3200" spc="-1" strike="noStrike">
                <a:solidFill>
                  <a:srgbClr val="008000"/>
                </a:solidFill>
                <a:latin typeface="Tahoma"/>
                <a:ea typeface="Lucida Sans Unicode"/>
              </a:rPr>
              <a:t>,</a:t>
            </a:r>
            <a:r>
              <a:rPr b="0" lang="en-GB" sz="3200" spc="-1" strike="noStrike">
                <a:solidFill>
                  <a:srgbClr val="0070c0"/>
                </a:solidFill>
                <a:latin typeface="Tahoma"/>
                <a:ea typeface="Lucida Sans Unicode"/>
              </a:rPr>
              <a:t>и</a:t>
            </a:r>
            <a:r>
              <a:rPr b="0" lang="en-GB" sz="3200" spc="-1" strike="noStrike">
                <a:solidFill>
                  <a:srgbClr val="008000"/>
                </a:solidFill>
                <a:latin typeface="Tahoma"/>
                <a:ea typeface="Lucida Sans Unicode"/>
              </a:rPr>
              <a:t>  в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ЭП = f(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  <a:ea typeface="Lucida Sans Unicode"/>
              </a:rPr>
              <a:t>м</a:t>
            </a:r>
            <a:r>
              <a:rPr b="0" lang="en-GB" sz="3200" spc="-1" strike="noStrike">
                <a:solidFill>
                  <a:srgbClr val="008000"/>
                </a:solidFill>
                <a:latin typeface="Tahoma"/>
                <a:ea typeface="Lucida Sans Unicode"/>
              </a:rPr>
              <a:t>,</a:t>
            </a:r>
            <a:r>
              <a:rPr b="0" lang="en-GB" sz="3200" spc="-1" strike="noStrike">
                <a:solidFill>
                  <a:srgbClr val="0070c0"/>
                </a:solidFill>
                <a:latin typeface="Tahoma"/>
                <a:ea typeface="Lucida Sans Unicode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‏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"/>
          <p:cNvSpPr/>
          <p:nvPr/>
        </p:nvSpPr>
        <p:spPr>
          <a:xfrm>
            <a:off x="4716360" y="2349360"/>
            <a:ext cx="318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ahoma"/>
                <a:ea typeface="Lucida Sans Unicode"/>
              </a:rPr>
              <a:t>ЭП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=</a:t>
            </a:r>
            <a:r>
              <a:rPr b="1" lang="en-GB" sz="2400" spc="-1" strike="noStrike">
                <a:solidFill>
                  <a:srgbClr val="008000"/>
                </a:solidFill>
                <a:latin typeface="Tahoma"/>
                <a:ea typeface="Lucida Sans Unicode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Lucida Sans Unicode"/>
              </a:rPr>
              <a:t>Э1</a:t>
            </a:r>
            <a:r>
              <a:rPr b="1" lang="en-GB" sz="2400" spc="-1" strike="noStrike">
                <a:solidFill>
                  <a:srgbClr val="008000"/>
                </a:solidFill>
                <a:latin typeface="Tahoma"/>
                <a:ea typeface="Lucida Sans Unicod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+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Lucida Sans Unicode"/>
              </a:rPr>
              <a:t>Эi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Lucida Sans Unicode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‏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вычисляется на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семантическое поле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1545840" y="3758760"/>
            <a:ext cx="74520" cy="72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"/>
          <p:cNvSpPr/>
          <p:nvPr/>
        </p:nvSpPr>
        <p:spPr>
          <a:xfrm flipH="1" flipV="1">
            <a:off x="791640" y="3427560"/>
            <a:ext cx="435240" cy="14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"/>
          <p:cNvSpPr/>
          <p:nvPr/>
        </p:nvSpPr>
        <p:spPr>
          <a:xfrm flipH="1" flipV="1">
            <a:off x="1185840" y="4003560"/>
            <a:ext cx="579600" cy="65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1763640" y="3427560"/>
            <a:ext cx="216000" cy="65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1257480" y="3139920"/>
            <a:ext cx="118800" cy="10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969840" y="3067200"/>
            <a:ext cx="363600" cy="72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1474560" y="2995200"/>
            <a:ext cx="290520" cy="795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1835280" y="3642840"/>
            <a:ext cx="288720" cy="219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1979640" y="4290840"/>
            <a:ext cx="144360" cy="36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9043-E980-4313-A252-4CB31010C5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Память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"сложных"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ИС строится как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иерархическая структура из НСС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 На фактографическую НСС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настраивается НСС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"ортогональная"), которая функционально воспринимает НСС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также как НСС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воспринимает ПО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8" name="Object 5"/>
          <p:cNvGraphicFramePr/>
          <p:nvPr/>
        </p:nvGraphicFramePr>
        <p:xfrm>
          <a:off x="2050920" y="1916280"/>
          <a:ext cx="6048360" cy="36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6048360" cy="36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0" name="Rectangle 6"/>
          <p:cNvSpPr/>
          <p:nvPr/>
        </p:nvSpPr>
        <p:spPr>
          <a:xfrm>
            <a:off x="395280" y="5588640"/>
            <a:ext cx="839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нашим оценкам, структуры из 4-5-ти иерархических НСС вполне достаточно, чтобы моделировать основные психические функции человек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Rectangle 2"/>
          <p:cNvSpPr/>
          <p:nvPr/>
        </p:nvSpPr>
        <p:spPr>
          <a:xfrm>
            <a:off x="0" y="187200"/>
            <a:ext cx="88930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тверждение 3.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 конструктивной  когнитивности И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Tahoma"/>
              </a:rPr>
              <a:t>Потенциально существует, т.е. всегда можно найти минимально-достаточную проекцию НСС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ru-RU" sz="1900" spc="-1" strike="noStrike">
                <a:solidFill>
                  <a:srgbClr val="000000"/>
                </a:solidFill>
                <a:latin typeface="Tahoma"/>
              </a:rPr>
              <a:t>, в которой бы детерминировано отражались значимые для ИС причинно-следственные связи процессов ПО.</a:t>
            </a:r>
            <a:endParaRPr b="1" i="1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лностью все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оцессы ПО можно отобразить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Ф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</a:rPr>
              <a:t>У1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2" name="Group 3"/>
          <p:cNvGrpSpPr/>
          <p:nvPr/>
        </p:nvGrpSpPr>
        <p:grpSpPr>
          <a:xfrm>
            <a:off x="6877080" y="1773360"/>
            <a:ext cx="2104560" cy="1528920"/>
            <a:chOff x="6877080" y="1773360"/>
            <a:chExt cx="2104560" cy="1528920"/>
          </a:xfrm>
        </p:grpSpPr>
        <p:grpSp>
          <p:nvGrpSpPr>
            <p:cNvPr id="1513" name="Group 4"/>
            <p:cNvGrpSpPr/>
            <p:nvPr/>
          </p:nvGrpSpPr>
          <p:grpSpPr>
            <a:xfrm>
              <a:off x="6877080" y="1773360"/>
              <a:ext cx="2104560" cy="1528920"/>
              <a:chOff x="6877080" y="1773360"/>
              <a:chExt cx="2104560" cy="1528920"/>
            </a:xfrm>
          </p:grpSpPr>
          <p:grpSp>
            <p:nvGrpSpPr>
              <p:cNvPr id="1514" name="Group 5"/>
              <p:cNvGrpSpPr/>
              <p:nvPr/>
            </p:nvGrpSpPr>
            <p:grpSpPr>
              <a:xfrm>
                <a:off x="7108200" y="1828440"/>
                <a:ext cx="1873440" cy="1473840"/>
                <a:chOff x="7108200" y="1828440"/>
                <a:chExt cx="1873440" cy="1473840"/>
              </a:xfrm>
            </p:grpSpPr>
            <p:grpSp>
              <p:nvGrpSpPr>
                <p:cNvPr id="1515" name="Group 6"/>
                <p:cNvGrpSpPr/>
                <p:nvPr/>
              </p:nvGrpSpPr>
              <p:grpSpPr>
                <a:xfrm>
                  <a:off x="7108200" y="1828440"/>
                  <a:ext cx="1873440" cy="1473840"/>
                  <a:chOff x="7108200" y="1828440"/>
                  <a:chExt cx="1873440" cy="1473840"/>
                </a:xfrm>
              </p:grpSpPr>
              <p:sp>
                <p:nvSpPr>
                  <p:cNvPr id="1516" name="Line 7"/>
                  <p:cNvSpPr/>
                  <p:nvPr/>
                </p:nvSpPr>
                <p:spPr>
                  <a:xfrm flipV="1">
                    <a:off x="7252920" y="1828440"/>
                    <a:ext cx="0" cy="107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7" name="Line 8"/>
                  <p:cNvSpPr/>
                  <p:nvPr/>
                </p:nvSpPr>
                <p:spPr>
                  <a:xfrm>
                    <a:off x="7252920" y="2908440"/>
                    <a:ext cx="1584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8" name="Line 9"/>
                  <p:cNvSpPr/>
                  <p:nvPr/>
                </p:nvSpPr>
                <p:spPr>
                  <a:xfrm flipH="1" flipV="1">
                    <a:off x="7108200" y="2765160"/>
                    <a:ext cx="144360" cy="1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9" name="Text Box 10"/>
                  <p:cNvSpPr/>
                  <p:nvPr/>
                </p:nvSpPr>
                <p:spPr>
                  <a:xfrm>
                    <a:off x="7181640" y="2978280"/>
                    <a:ext cx="1800000" cy="324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r>
                      <a:rPr b="0" lang="en-US" sz="16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o                 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r>
                      <a:rPr b="0" lang="en-US" sz="16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1    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r>
                      <a:rPr b="0" lang="en-US" sz="16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2</a:t>
                    </a:r>
                    <a:endParaRPr b="1" i="1" lang="en-US" sz="16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20" name="Freeform 11"/>
                <p:cNvSpPr/>
                <p:nvPr/>
              </p:nvSpPr>
              <p:spPr>
                <a:xfrm>
                  <a:off x="7271640" y="1914840"/>
                  <a:ext cx="942840" cy="981000"/>
                </a:xfrm>
                <a:prstGeom prst="pie">
                  <a:avLst/>
                </a:prstGeom>
                <a:solidFill>
                  <a:srgbClr val="c5f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21" name="Group 12"/>
              <p:cNvGrpSpPr/>
              <p:nvPr/>
            </p:nvGrpSpPr>
            <p:grpSpPr>
              <a:xfrm>
                <a:off x="6877080" y="1773360"/>
                <a:ext cx="2016000" cy="1224000"/>
                <a:chOff x="6877080" y="1773360"/>
                <a:chExt cx="2016000" cy="1224000"/>
              </a:xfrm>
            </p:grpSpPr>
            <p:sp>
              <p:nvSpPr>
                <p:cNvPr id="1522" name="Text Box 13"/>
                <p:cNvSpPr/>
                <p:nvPr/>
              </p:nvSpPr>
              <p:spPr>
                <a:xfrm>
                  <a:off x="8604360" y="2565360"/>
                  <a:ext cx="288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1" i="1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3" name="Text Box 14"/>
                <p:cNvSpPr/>
                <p:nvPr/>
              </p:nvSpPr>
              <p:spPr>
                <a:xfrm>
                  <a:off x="6950160" y="1773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w</a:t>
                  </a:r>
                  <a:endParaRPr b="1" i="1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4" name="Text Box 15"/>
                <p:cNvSpPr/>
                <p:nvPr/>
              </p:nvSpPr>
              <p:spPr>
                <a:xfrm>
                  <a:off x="6877080" y="2637000"/>
                  <a:ext cx="289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z</a:t>
                  </a:r>
                  <a:endParaRPr b="1" i="1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5" name="Text Box 16"/>
                <p:cNvSpPr/>
                <p:nvPr/>
              </p:nvSpPr>
              <p:spPr>
                <a:xfrm>
                  <a:off x="7166160" y="1844640"/>
                  <a:ext cx="1152360" cy="106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ahoma"/>
                    </a:rPr>
                    <a:t>00000000000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00000sf</a:t>
                  </a:r>
                  <a:r>
                    <a:rPr b="0" lang="ru-RU" sz="800" spc="-1" strike="noStrike">
                      <a:solidFill>
                        <a:srgbClr val="000000"/>
                      </a:solidFill>
                      <a:latin typeface="Tahoma"/>
                    </a:rPr>
                    <a:t>00000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0000vsvsrevsv</a:t>
                  </a:r>
                  <a:r>
                    <a:rPr b="0" lang="ru-RU" sz="800" spc="-1" strike="noStrike">
                      <a:solidFill>
                        <a:srgbClr val="000000"/>
                      </a:solidFill>
                      <a:latin typeface="Tahoma"/>
                    </a:rPr>
                    <a:t>00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sfffsgggghffjjjffdsssss2342364758563534535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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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asaadff</a:t>
                  </a:r>
                  <a:r>
                    <a:rPr b="0" lang="ru-RU" sz="800" spc="-1" strike="noStrike">
                      <a:solidFill>
                        <a:srgbClr val="000000"/>
                      </a:solidFill>
                      <a:latin typeface="Arial"/>
                    </a:rPr>
                    <a:t>фваыавпвппв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Wingdings 2"/>
                      <a:ea typeface="Wingdings 2"/>
                    </a:rPr>
                    <a:t></a:t>
                  </a:r>
                  <a:r>
                    <a:rPr b="0" lang="ru-RU" sz="800" spc="-1" strike="noStrike">
                      <a:solidFill>
                        <a:srgbClr val="000000"/>
                      </a:solidFill>
                      <a:latin typeface="Wingdings 2"/>
                      <a:ea typeface="Wingdings 2"/>
                    </a:rPr>
                    <a:t>ййв</a:t>
                  </a:r>
                  <a:endParaRPr b="1" i="1" lang="en-US" sz="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6" name="Line 17"/>
                <p:cNvSpPr/>
                <p:nvPr/>
              </p:nvSpPr>
              <p:spPr>
                <a:xfrm flipV="1">
                  <a:off x="7237440" y="1951200"/>
                  <a:ext cx="93672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7" name="Text Box 18"/>
                <p:cNvSpPr/>
                <p:nvPr/>
              </p:nvSpPr>
              <p:spPr>
                <a:xfrm>
                  <a:off x="8199360" y="2132280"/>
                  <a:ext cx="360360" cy="243720"/>
                </a:xfrm>
                <a:prstGeom prst="rect">
                  <a:avLst/>
                </a:prstGeom>
                <a:solidFill>
                  <a:srgbClr val="ccff99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sgghffjff23423</a:t>
                  </a:r>
                  <a:endParaRPr b="1" i="1" lang="en-US" sz="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8" name="Line 19"/>
                <p:cNvSpPr/>
                <p:nvPr/>
              </p:nvSpPr>
              <p:spPr>
                <a:xfrm>
                  <a:off x="8174160" y="2421000"/>
                  <a:ext cx="0" cy="57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9" name="Line 20"/>
                <p:cNvSpPr/>
                <p:nvPr/>
              </p:nvSpPr>
              <p:spPr>
                <a:xfrm>
                  <a:off x="8555040" y="2408400"/>
                  <a:ext cx="0" cy="57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0" name="Line 21"/>
                <p:cNvSpPr/>
                <p:nvPr/>
              </p:nvSpPr>
              <p:spPr>
                <a:xfrm>
                  <a:off x="8605800" y="2132280"/>
                  <a:ext cx="14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1" name="Line 22"/>
                <p:cNvSpPr/>
                <p:nvPr/>
              </p:nvSpPr>
              <p:spPr>
                <a:xfrm>
                  <a:off x="8605800" y="2386080"/>
                  <a:ext cx="14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2" name="Text Box 23"/>
                <p:cNvSpPr/>
                <p:nvPr/>
              </p:nvSpPr>
              <p:spPr>
                <a:xfrm>
                  <a:off x="8613720" y="2162160"/>
                  <a:ext cx="212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w</a:t>
                  </a: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533" name="Line 24"/>
            <p:cNvSpPr/>
            <p:nvPr/>
          </p:nvSpPr>
          <p:spPr>
            <a:xfrm flipV="1">
              <a:off x="7237440" y="1947600"/>
              <a:ext cx="971640" cy="282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Text Box 25"/>
          <p:cNvSpPr/>
          <p:nvPr/>
        </p:nvSpPr>
        <p:spPr>
          <a:xfrm>
            <a:off x="0" y="2565360"/>
            <a:ext cx="7201080" cy="19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Исходя из 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</a:rPr>
              <a:t>У2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все процессы ПО отображаются в образах НСС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Поэтому, все задачи связанные с выявлением </a:t>
            </a:r>
            <a:r>
              <a:rPr b="1" lang="ru-RU" sz="1800" spc="-1" strike="noStrike">
                <a:solidFill>
                  <a:srgbClr val="009900"/>
                </a:solidFill>
                <a:latin typeface="Tahoma"/>
              </a:rPr>
              <a:t>условно-рефлек-торных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ичинно-следственных связей моделируютс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тройкой:                           </a:t>
            </a:r>
            <a:endParaRPr b="1" i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&lt;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&gt;&lt;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&gt;&lt;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&gt;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: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009900"/>
                </a:solidFill>
                <a:latin typeface="Tahoma"/>
              </a:rPr>
              <a:t>лампочк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&gt;&lt;</a:t>
            </a:r>
            <a:r>
              <a:rPr b="0" lang="ru-RU" sz="1800" spc="-1" strike="noStrike">
                <a:solidFill>
                  <a:srgbClr val="009900"/>
                </a:solidFill>
                <a:latin typeface="Tahoma"/>
              </a:rPr>
              <a:t>рычаг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&gt;&lt;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банан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&gt;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 . 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. . .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 . .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Rectangle 26"/>
          <p:cNvSpPr/>
          <p:nvPr/>
        </p:nvSpPr>
        <p:spPr>
          <a:xfrm>
            <a:off x="179280" y="4365720"/>
            <a:ext cx="86407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Для отображения </a:t>
            </a:r>
            <a:r>
              <a:rPr b="1" lang="ru-RU" sz="2100" spc="-1" strike="noStrike">
                <a:solidFill>
                  <a:srgbClr val="ff33cc"/>
                </a:solidFill>
                <a:latin typeface="Times New Roman"/>
              </a:rPr>
              <a:t>абстрактных понятий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, напр.: "</a:t>
            </a:r>
            <a:r>
              <a:rPr b="0" lang="ru-RU" sz="1900" spc="-1" strike="noStrike">
                <a:solidFill>
                  <a:srgbClr val="008000"/>
                </a:solidFill>
                <a:latin typeface="Tahoma"/>
              </a:rPr>
              <a:t>леве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ru-RU" sz="1900" spc="-1" strike="noStrike">
                <a:solidFill>
                  <a:srgbClr val="008000"/>
                </a:solidFill>
                <a:latin typeface="Tahoma"/>
              </a:rPr>
              <a:t>раньше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и др.,  необходимо настроить НСС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на свойства (образы)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лемента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ло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или НСС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i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Line 27"/>
          <p:cNvSpPr/>
          <p:nvPr/>
        </p:nvSpPr>
        <p:spPr>
          <a:xfrm>
            <a:off x="395280" y="4340160"/>
            <a:ext cx="6553080" cy="0"/>
          </a:xfrm>
          <a:prstGeom prst="line">
            <a:avLst/>
          </a:prstGeom>
          <a:ln w="2844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Rectangle 87"/>
          <p:cNvSpPr/>
          <p:nvPr/>
        </p:nvSpPr>
        <p:spPr>
          <a:xfrm>
            <a:off x="38160" y="65160"/>
            <a:ext cx="9055080" cy="681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8" name="Object 88"/>
          <p:cNvGraphicFramePr/>
          <p:nvPr/>
        </p:nvGraphicFramePr>
        <p:xfrm>
          <a:off x="6659640" y="3527280"/>
          <a:ext cx="227628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9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3527280"/>
                    <a:ext cx="22762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0" name="Group 160"/>
          <p:cNvGrpSpPr/>
          <p:nvPr/>
        </p:nvGrpSpPr>
        <p:grpSpPr>
          <a:xfrm>
            <a:off x="4211640" y="5084640"/>
            <a:ext cx="4750560" cy="1848960"/>
            <a:chOff x="4211640" y="5084640"/>
            <a:chExt cx="4750560" cy="1848960"/>
          </a:xfrm>
        </p:grpSpPr>
        <p:sp>
          <p:nvSpPr>
            <p:cNvPr id="1541" name="Text Box 161"/>
            <p:cNvSpPr/>
            <p:nvPr/>
          </p:nvSpPr>
          <p:spPr>
            <a:xfrm>
              <a:off x="8322840" y="5889240"/>
              <a:ext cx="639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Y</a:t>
              </a:r>
              <a:endParaRPr b="1" i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42" name="Group 162"/>
            <p:cNvGrpSpPr/>
            <p:nvPr/>
          </p:nvGrpSpPr>
          <p:grpSpPr>
            <a:xfrm>
              <a:off x="4211640" y="5084640"/>
              <a:ext cx="4617000" cy="1848960"/>
              <a:chOff x="4211640" y="5084640"/>
              <a:chExt cx="4617000" cy="1848960"/>
            </a:xfrm>
          </p:grpSpPr>
          <p:grpSp>
            <p:nvGrpSpPr>
              <p:cNvPr id="1543" name="Group 163"/>
              <p:cNvGrpSpPr/>
              <p:nvPr/>
            </p:nvGrpSpPr>
            <p:grpSpPr>
              <a:xfrm>
                <a:off x="4408920" y="5084640"/>
                <a:ext cx="4005720" cy="1284480"/>
                <a:chOff x="4408920" y="5084640"/>
                <a:chExt cx="4005720" cy="1284480"/>
              </a:xfrm>
            </p:grpSpPr>
            <p:sp>
              <p:nvSpPr>
                <p:cNvPr id="1544" name="AutoShape 164"/>
                <p:cNvSpPr/>
                <p:nvPr/>
              </p:nvSpPr>
              <p:spPr>
                <a:xfrm>
                  <a:off x="4408920" y="5888520"/>
                  <a:ext cx="673200" cy="480600"/>
                </a:xfrm>
                <a:prstGeom prst="wedgeRoundRectCallout">
                  <a:avLst>
                    <a:gd name="adj1" fmla="val 20995"/>
                    <a:gd name="adj2" fmla="val 50453"/>
                    <a:gd name="adj3" fmla="val 16667"/>
                  </a:avLst>
                </a:prstGeom>
                <a:solidFill>
                  <a:srgbClr val="00ff00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cc"/>
                      </a:solidFill>
                      <a:latin typeface="Tahoma"/>
                    </a:rPr>
                    <a:t>ПО</a:t>
                  </a: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45" name="Group 165"/>
                <p:cNvGrpSpPr/>
                <p:nvPr/>
              </p:nvGrpSpPr>
              <p:grpSpPr>
                <a:xfrm>
                  <a:off x="5377680" y="5888160"/>
                  <a:ext cx="970200" cy="446760"/>
                  <a:chOff x="5377680" y="5888160"/>
                  <a:chExt cx="970200" cy="446760"/>
                </a:xfrm>
              </p:grpSpPr>
              <p:sp>
                <p:nvSpPr>
                  <p:cNvPr id="1546" name="Freeform 166"/>
                  <p:cNvSpPr/>
                  <p:nvPr/>
                </p:nvSpPr>
                <p:spPr>
                  <a:xfrm flipV="1">
                    <a:off x="5420160" y="5887800"/>
                    <a:ext cx="927720" cy="446760"/>
                  </a:xfrm>
                  <a:prstGeom prst="pie">
                    <a:avLst/>
                  </a:pr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7" name="Text Box 167"/>
                  <p:cNvSpPr/>
                  <p:nvPr/>
                </p:nvSpPr>
                <p:spPr>
                  <a:xfrm>
                    <a:off x="5377680" y="5978880"/>
                    <a:ext cx="717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ahoma"/>
                      </a:rPr>
                      <a:t>НСС</a:t>
                    </a: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48" name="Group 168"/>
                <p:cNvGrpSpPr/>
                <p:nvPr/>
              </p:nvGrpSpPr>
              <p:grpSpPr>
                <a:xfrm>
                  <a:off x="6433920" y="5888160"/>
                  <a:ext cx="970200" cy="446760"/>
                  <a:chOff x="6433920" y="5888160"/>
                  <a:chExt cx="970200" cy="446760"/>
                </a:xfrm>
              </p:grpSpPr>
              <p:sp>
                <p:nvSpPr>
                  <p:cNvPr id="1549" name="Freeform 169"/>
                  <p:cNvSpPr/>
                  <p:nvPr/>
                </p:nvSpPr>
                <p:spPr>
                  <a:xfrm flipV="1">
                    <a:off x="6476400" y="5887800"/>
                    <a:ext cx="927720" cy="446760"/>
                  </a:xfrm>
                  <a:prstGeom prst="pie">
                    <a:avLst/>
                  </a:prstGeom>
                  <a:solidFill>
                    <a:srgbClr val="00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0" name="Text Box 170"/>
                  <p:cNvSpPr/>
                  <p:nvPr/>
                </p:nvSpPr>
                <p:spPr>
                  <a:xfrm>
                    <a:off x="6433920" y="5978880"/>
                    <a:ext cx="71748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8000"/>
                        </a:solidFill>
                        <a:latin typeface="Tahoma"/>
                      </a:rPr>
                      <a:t>НСС</a:t>
                    </a:r>
                    <a:r>
                      <a:rPr b="1" lang="en-US" sz="1200" spc="-1" strike="noStrike" baseline="-25000">
                        <a:solidFill>
                          <a:srgbClr val="008000"/>
                        </a:solidFill>
                        <a:latin typeface="Tahoma"/>
                      </a:rPr>
                      <a:t>1</a:t>
                    </a: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51" name="Group 171"/>
                <p:cNvGrpSpPr/>
                <p:nvPr/>
              </p:nvGrpSpPr>
              <p:grpSpPr>
                <a:xfrm>
                  <a:off x="7445160" y="5888160"/>
                  <a:ext cx="969480" cy="446760"/>
                  <a:chOff x="7445160" y="5888160"/>
                  <a:chExt cx="969480" cy="446760"/>
                </a:xfrm>
              </p:grpSpPr>
              <p:sp>
                <p:nvSpPr>
                  <p:cNvPr id="1552" name="Freeform 172"/>
                  <p:cNvSpPr/>
                  <p:nvPr/>
                </p:nvSpPr>
                <p:spPr>
                  <a:xfrm flipV="1">
                    <a:off x="7487640" y="5887800"/>
                    <a:ext cx="927000" cy="446760"/>
                  </a:xfrm>
                  <a:prstGeom prst="pie">
                    <a:avLst/>
                  </a:prstGeom>
                  <a:solidFill>
                    <a:srgbClr val="00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3" name="Text Box 173"/>
                  <p:cNvSpPr/>
                  <p:nvPr/>
                </p:nvSpPr>
                <p:spPr>
                  <a:xfrm>
                    <a:off x="7445160" y="5978880"/>
                    <a:ext cx="7167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8000"/>
                        </a:solidFill>
                        <a:latin typeface="Tahoma"/>
                      </a:rPr>
                      <a:t>НСС</a:t>
                    </a:r>
                    <a:r>
                      <a:rPr b="1" lang="en-US" sz="1200" spc="-1" strike="noStrike" baseline="-25000">
                        <a:solidFill>
                          <a:srgbClr val="008000"/>
                        </a:solidFill>
                        <a:latin typeface="Tahoma"/>
                      </a:rPr>
                      <a:t>2</a:t>
                    </a: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54" name="Line 174"/>
                <p:cNvSpPr/>
                <p:nvPr/>
              </p:nvSpPr>
              <p:spPr>
                <a:xfrm>
                  <a:off x="5167800" y="6156360"/>
                  <a:ext cx="1688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5" name="Freeform 175"/>
                <p:cNvSpPr/>
                <p:nvPr/>
              </p:nvSpPr>
              <p:spPr>
                <a:xfrm>
                  <a:off x="5167800" y="5811480"/>
                  <a:ext cx="1266120" cy="256320"/>
                </a:xfrm>
                <a:prstGeom prst="pie">
                  <a:avLst/>
                </a:prstGeom>
                <a:noFill/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6" name="Line 176"/>
                <p:cNvSpPr/>
                <p:nvPr/>
              </p:nvSpPr>
              <p:spPr>
                <a:xfrm>
                  <a:off x="6180840" y="6156360"/>
                  <a:ext cx="252720" cy="1548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7" name="Freeform 177"/>
                <p:cNvSpPr/>
                <p:nvPr/>
              </p:nvSpPr>
              <p:spPr>
                <a:xfrm>
                  <a:off x="5167800" y="5687280"/>
                  <a:ext cx="2277360" cy="291600"/>
                </a:xfrm>
                <a:prstGeom prst="pie">
                  <a:avLst/>
                </a:prstGeom>
                <a:noFill/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8" name="Freeform 178"/>
                <p:cNvSpPr/>
                <p:nvPr/>
              </p:nvSpPr>
              <p:spPr>
                <a:xfrm>
                  <a:off x="5920560" y="5811480"/>
                  <a:ext cx="1526040" cy="301320"/>
                </a:xfrm>
                <a:prstGeom prst="pie">
                  <a:avLst/>
                </a:prstGeom>
                <a:noFill/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9" name="Line 179"/>
                <p:cNvSpPr/>
                <p:nvPr/>
              </p:nvSpPr>
              <p:spPr>
                <a:xfrm>
                  <a:off x="7192440" y="6156360"/>
                  <a:ext cx="25272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60" name="Group 180"/>
                <p:cNvGrpSpPr/>
                <p:nvPr/>
              </p:nvGrpSpPr>
              <p:grpSpPr>
                <a:xfrm>
                  <a:off x="6939360" y="5261760"/>
                  <a:ext cx="674640" cy="460800"/>
                  <a:chOff x="6939360" y="5261760"/>
                  <a:chExt cx="674640" cy="460800"/>
                </a:xfrm>
              </p:grpSpPr>
              <p:sp>
                <p:nvSpPr>
                  <p:cNvPr id="1561" name="Freeform 181"/>
                  <p:cNvSpPr/>
                  <p:nvPr/>
                </p:nvSpPr>
                <p:spPr>
                  <a:xfrm>
                    <a:off x="6972480" y="5261760"/>
                    <a:ext cx="387000" cy="460800"/>
                  </a:xfrm>
                  <a:prstGeom prst="pie">
                    <a:avLst/>
                  </a:prstGeom>
                  <a:solidFill>
                    <a:srgbClr val="00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2" name="Text Box 182"/>
                  <p:cNvSpPr/>
                  <p:nvPr/>
                </p:nvSpPr>
                <p:spPr>
                  <a:xfrm>
                    <a:off x="6939360" y="5263200"/>
                    <a:ext cx="67464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00"/>
                        </a:solidFill>
                        <a:latin typeface="Tahoma"/>
                      </a:rPr>
                      <a:t>E</a:t>
                    </a:r>
                    <a:r>
                      <a:rPr b="1" lang="ru-RU" sz="1800" spc="-1" strike="noStrike" baseline="-25000">
                        <a:solidFill>
                          <a:srgbClr val="ff0000"/>
                        </a:solidFill>
                        <a:latin typeface="Tahoma"/>
                      </a:rPr>
                      <a:t>+</a:t>
                    </a: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63" name="Line 183"/>
                <p:cNvSpPr/>
                <p:nvPr/>
              </p:nvSpPr>
              <p:spPr>
                <a:xfrm>
                  <a:off x="7192440" y="5084640"/>
                  <a:ext cx="0" cy="1789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4" name="Line 184"/>
                <p:cNvSpPr/>
                <p:nvPr/>
              </p:nvSpPr>
              <p:spPr>
                <a:xfrm>
                  <a:off x="7361280" y="5443200"/>
                  <a:ext cx="252720" cy="444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5" name="Line 185"/>
                <p:cNvSpPr/>
                <p:nvPr/>
              </p:nvSpPr>
              <p:spPr>
                <a:xfrm flipH="1">
                  <a:off x="5842080" y="5443200"/>
                  <a:ext cx="1096920" cy="535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6" name="Line 186"/>
                <p:cNvSpPr/>
                <p:nvPr/>
              </p:nvSpPr>
              <p:spPr>
                <a:xfrm flipH="1">
                  <a:off x="6954120" y="5663880"/>
                  <a:ext cx="167040" cy="3564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7" name="Text Box 187"/>
                <p:cNvSpPr/>
                <p:nvPr/>
              </p:nvSpPr>
              <p:spPr>
                <a:xfrm>
                  <a:off x="8034480" y="5799960"/>
                  <a:ext cx="338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3333cc"/>
                      </a:solidFill>
                      <a:latin typeface="Tahoma"/>
                    </a:rPr>
                    <a:t>…</a:t>
                  </a: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68" name="Freeform 188"/>
              <p:cNvSpPr/>
              <p:nvPr/>
            </p:nvSpPr>
            <p:spPr>
              <a:xfrm>
                <a:off x="4211640" y="6156720"/>
                <a:ext cx="4617000" cy="346680"/>
              </a:xfrm>
              <a:prstGeom prst="pie">
                <a:avLst/>
              </a:prstGeom>
              <a:noFill/>
              <a:ln w="28440">
                <a:solidFill>
                  <a:srgbClr val="00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9" name="Text Box 189"/>
              <p:cNvSpPr/>
              <p:nvPr/>
            </p:nvSpPr>
            <p:spPr>
              <a:xfrm>
                <a:off x="6348240" y="6377760"/>
                <a:ext cx="110628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Unicode MS"/>
                  </a:rPr>
                  <a:t>Х</a:t>
                </a:r>
                <a:endParaRPr b="1" i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0" name="Line 190"/>
              <p:cNvSpPr/>
              <p:nvPr/>
            </p:nvSpPr>
            <p:spPr>
              <a:xfrm>
                <a:off x="7370640" y="5411520"/>
                <a:ext cx="1180800" cy="536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71" name="Rectangle 191"/>
          <p:cNvSpPr/>
          <p:nvPr/>
        </p:nvSpPr>
        <p:spPr>
          <a:xfrm>
            <a:off x="179280" y="5013360"/>
            <a:ext cx="3888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пример, при формировании абстрактного понятия: "</a:t>
            </a:r>
            <a:r>
              <a:rPr b="0" lang="ru-RU" sz="1900" spc="-1" strike="noStrike">
                <a:solidFill>
                  <a:srgbClr val="008000"/>
                </a:solidFill>
                <a:latin typeface="Times New Roman"/>
              </a:rPr>
              <a:t>леве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", используется "</a:t>
            </a:r>
            <a:r>
              <a:rPr b="0" lang="ru-RU" sz="1900" spc="-1" strike="noStrike">
                <a:solidFill>
                  <a:srgbClr val="009900"/>
                </a:solidFill>
                <a:latin typeface="Times New Roman"/>
              </a:rPr>
              <a:t>образ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8000"/>
                </a:solidFill>
                <a:latin typeface="Times New Roman"/>
              </a:rPr>
              <a:t>активности   </a:t>
            </a:r>
            <a:r>
              <a:rPr b="0" lang="en-US" sz="19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ru-RU" sz="1900" spc="-1" strike="noStrike">
                <a:solidFill>
                  <a:srgbClr val="008000"/>
                </a:solidFill>
                <a:latin typeface="Times New Roman"/>
              </a:rPr>
              <a:t>-элемента управления поворотом рецепторов ИС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",</a:t>
            </a:r>
            <a:r>
              <a:rPr b="0" lang="ru-RU" sz="1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или "</a:t>
            </a:r>
            <a:r>
              <a:rPr b="0" lang="ru-RU" sz="1900" spc="-1" strike="noStrike">
                <a:solidFill>
                  <a:srgbClr val="008000"/>
                </a:solidFill>
                <a:latin typeface="Times New Roman"/>
              </a:rPr>
              <a:t>образ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900" spc="-1" strike="noStrike">
                <a:solidFill>
                  <a:srgbClr val="008000"/>
                </a:solidFill>
                <a:latin typeface="Times New Roman"/>
              </a:rPr>
              <a:t>положения на зрительном</a:t>
            </a:r>
            <a:r>
              <a:rPr b="0" lang="en-US" sz="19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8000"/>
                </a:solidFill>
                <a:latin typeface="Times New Roman"/>
              </a:rPr>
              <a:t>пол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".</a:t>
            </a:r>
            <a:endParaRPr b="1" i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26"/>
          <p:cNvSpPr/>
          <p:nvPr/>
        </p:nvSpPr>
        <p:spPr>
          <a:xfrm>
            <a:off x="179280" y="4448160"/>
            <a:ext cx="8496360" cy="14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ким образом, разнообразие формируемых образов ИС (НСС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элемента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слоя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хода и др.) определяет когнитивные возможности ИС: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&lt;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X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ahoma"/>
              </a:rPr>
              <a:t>ПО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X</a:t>
            </a:r>
            <a:r>
              <a:rPr b="1" lang="ru-RU" sz="1800" spc="-1" strike="noStrike" baseline="-25000">
                <a:solidFill>
                  <a:srgbClr val="3333cc"/>
                </a:solidFill>
                <a:latin typeface="Tahoma"/>
              </a:rPr>
              <a:t>ИС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,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НСС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…)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&gt;&lt;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Y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ahoma"/>
              </a:rPr>
              <a:t>ПО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, Y</a:t>
            </a:r>
            <a:r>
              <a:rPr b="1" lang="ru-RU" sz="1800" spc="-1" strike="noStrike" baseline="-25000">
                <a:solidFill>
                  <a:srgbClr val="3333cc"/>
                </a:solidFill>
                <a:latin typeface="Tahoma"/>
              </a:rPr>
              <a:t>ИС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,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НСС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…)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&gt;&lt;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Tahoma"/>
              </a:rPr>
              <a:t>+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&gt;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3" name="Rectangle 28"/>
          <p:cNvSpPr/>
          <p:nvPr/>
        </p:nvSpPr>
        <p:spPr>
          <a:xfrm>
            <a:off x="179280" y="56674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вестные классы задач: из зоопсихологии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из когнитивной психологии человека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0-300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остью укладываются в схему 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,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.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4" name="Rectangle 56"/>
          <p:cNvSpPr/>
          <p:nvPr/>
        </p:nvSpPr>
        <p:spPr>
          <a:xfrm>
            <a:off x="179280" y="260280"/>
            <a:ext cx="878544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Для формирования </a:t>
            </a:r>
            <a:r>
              <a:rPr b="1" lang="ru-RU" sz="2100" spc="-1" strike="noStrike">
                <a:solidFill>
                  <a:srgbClr val="ff33cc"/>
                </a:solidFill>
                <a:latin typeface="Times New Roman"/>
              </a:rPr>
              <a:t>абстрактного понятия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"</a:t>
            </a:r>
            <a:r>
              <a:rPr b="0" lang="ru-RU" sz="1900" spc="-1" strike="noStrike">
                <a:solidFill>
                  <a:srgbClr val="008000"/>
                </a:solidFill>
                <a:latin typeface="Tahoma"/>
              </a:rPr>
              <a:t>раньше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ли "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д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",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обходимо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оперировать образами номеров вход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емент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а, ритмом активности</a:t>
            </a:r>
            <a:r>
              <a:rPr b="0" lang="ru-RU" sz="19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и др.</a:t>
            </a:r>
            <a:endParaRPr b="1" i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5" name="Group 72"/>
          <p:cNvGrpSpPr/>
          <p:nvPr/>
        </p:nvGrpSpPr>
        <p:grpSpPr>
          <a:xfrm>
            <a:off x="684360" y="1052640"/>
            <a:ext cx="3742920" cy="1477080"/>
            <a:chOff x="684360" y="1052640"/>
            <a:chExt cx="3742920" cy="1477080"/>
          </a:xfrm>
        </p:grpSpPr>
        <p:sp>
          <p:nvSpPr>
            <p:cNvPr id="1576" name="Text Box 58"/>
            <p:cNvSpPr/>
            <p:nvPr/>
          </p:nvSpPr>
          <p:spPr>
            <a:xfrm>
              <a:off x="684360" y="1195560"/>
              <a:ext cx="37429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)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TT </a:t>
              </a:r>
              <a:r>
                <a:rPr b="1" i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AB</a:t>
              </a:r>
              <a:r>
                <a:rPr b="1" i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ru-RU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Ч</a:t>
              </a:r>
              <a:r>
                <a:rPr b="1" i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A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Tahoma"/>
                </a:rPr>
                <a:t>E+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)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TT</a:t>
              </a:r>
              <a:r>
                <a:rPr b="1" i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 AB</a:t>
              </a:r>
              <a:r>
                <a:rPr b="1" i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ru-RU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Ч</a:t>
              </a:r>
              <a:r>
                <a:rPr b="1" i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B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Tahoma"/>
                </a:rPr>
                <a:t>E-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)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TT </a:t>
              </a:r>
              <a:r>
                <a:rPr b="1" i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BA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Ч</a:t>
              </a:r>
              <a:r>
                <a:rPr b="1" i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B</a:t>
              </a:r>
              <a:r>
                <a:rPr b="1" i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Tahoma"/>
                </a:rPr>
                <a:t>E+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)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TT</a:t>
              </a:r>
              <a:r>
                <a:rPr b="1" i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 BA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Ч</a:t>
              </a:r>
              <a:r>
                <a:rPr b="1" i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A</a:t>
              </a:r>
              <a:r>
                <a:rPr b="1" i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Tahoma"/>
                </a:rPr>
                <a:t>E-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)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TT </a:t>
              </a:r>
              <a:r>
                <a:rPr b="1" i="1" lang="ru-RU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С</a:t>
              </a:r>
              <a:r>
                <a:rPr b="1" i="1" lang="en-US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D</a:t>
              </a:r>
              <a:r>
                <a:rPr b="1" i="1" lang="ru-RU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i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Tahoma"/>
                </a:rPr>
                <a:t>Ч</a:t>
              </a:r>
              <a:r>
                <a:rPr b="1" i="1" lang="ru-RU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С</a:t>
              </a:r>
              <a:r>
                <a:rPr b="1" i="1" lang="ru-RU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Tahoma"/>
                </a:rPr>
                <a:t>E+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Text Box 59"/>
            <p:cNvSpPr/>
            <p:nvPr/>
          </p:nvSpPr>
          <p:spPr>
            <a:xfrm>
              <a:off x="910080" y="1052640"/>
              <a:ext cx="329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  </a:t>
              </a:r>
              <a:r>
                <a:rPr b="1" lang="ru-RU" sz="14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Y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              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  </a:t>
              </a:r>
              <a:r>
                <a:rPr b="1" lang="ru-RU" sz="14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i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Text Box 60"/>
            <p:cNvSpPr/>
            <p:nvPr/>
          </p:nvSpPr>
          <p:spPr>
            <a:xfrm>
              <a:off x="1058760" y="1971720"/>
              <a:ext cx="172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  </a:t>
              </a:r>
              <a:r>
                <a:rPr b="1" lang="ru-RU" sz="14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Y</a:t>
              </a:r>
              <a:endParaRPr b="1" i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Rectangle 61"/>
          <p:cNvSpPr/>
          <p:nvPr/>
        </p:nvSpPr>
        <p:spPr>
          <a:xfrm>
            <a:off x="106200" y="-27000"/>
            <a:ext cx="8929800" cy="6597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0" name="Text Box 68"/>
          <p:cNvSpPr/>
          <p:nvPr/>
        </p:nvSpPr>
        <p:spPr>
          <a:xfrm>
            <a:off x="4716360" y="1117440"/>
            <a:ext cx="3816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9900"/>
                </a:solidFill>
                <a:uFillTx/>
                <a:latin typeface="Tahoma"/>
              </a:rPr>
              <a:t>TT </a:t>
            </a:r>
            <a:r>
              <a:rPr b="1" lang="ru-RU" sz="1800" spc="-1" strike="noStrike" u="sng">
                <a:solidFill>
                  <a:srgbClr val="009900"/>
                </a:solidFill>
                <a:uFillTx/>
                <a:latin typeface="Tahoma"/>
              </a:rPr>
              <a:t>… Ч…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E+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,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9900"/>
                </a:solidFill>
                <a:uFillTx/>
                <a:latin typeface="Tahoma"/>
              </a:rPr>
              <a:t>TT </a:t>
            </a:r>
            <a:r>
              <a:rPr b="1" lang="ru-RU" sz="1800" spc="-1" strike="noStrike" u="sng">
                <a:solidFill>
                  <a:srgbClr val="009900"/>
                </a:solidFill>
                <a:uFillTx/>
                <a:latin typeface="Tahoma"/>
              </a:rPr>
              <a:t>… Ч…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-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СС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2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9900"/>
                </a:solidFill>
                <a:uFillTx/>
                <a:latin typeface="Tahoma"/>
              </a:rPr>
              <a:t>TT </a:t>
            </a:r>
            <a:r>
              <a:rPr b="1" lang="ru-RU" sz="1800" spc="-1" strike="noStrike" u="sng">
                <a:solidFill>
                  <a:srgbClr val="009900"/>
                </a:solidFill>
                <a:uFillTx/>
                <a:latin typeface="Tahoma"/>
              </a:rPr>
              <a:t>… Ч…</a:t>
            </a:r>
            <a:r>
              <a:rPr b="1" i="1" lang="en-US" sz="1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1" name="Text Box 69"/>
          <p:cNvSpPr/>
          <p:nvPr/>
        </p:nvSpPr>
        <p:spPr>
          <a:xfrm>
            <a:off x="4716360" y="2125800"/>
            <a:ext cx="38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9900"/>
                </a:solidFill>
                <a:uFillTx/>
                <a:latin typeface="Tahoma"/>
              </a:rPr>
              <a:t>TT </a:t>
            </a:r>
            <a:r>
              <a:rPr b="1" lang="ru-RU" sz="1800" spc="-1" strike="noStrike" u="sng">
                <a:solidFill>
                  <a:srgbClr val="009900"/>
                </a:solidFill>
                <a:uFillTx/>
                <a:latin typeface="Tahoma"/>
              </a:rPr>
              <a:t>… Ч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1" i="1" lang="en-US" sz="1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E+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СС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Line 70"/>
          <p:cNvSpPr/>
          <p:nvPr/>
        </p:nvSpPr>
        <p:spPr>
          <a:xfrm>
            <a:off x="4789440" y="2125800"/>
            <a:ext cx="3022560" cy="79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3" name="Group 80"/>
          <p:cNvGrpSpPr/>
          <p:nvPr/>
        </p:nvGrpSpPr>
        <p:grpSpPr>
          <a:xfrm>
            <a:off x="684360" y="2637000"/>
            <a:ext cx="3240000" cy="1661400"/>
            <a:chOff x="684360" y="2637000"/>
            <a:chExt cx="3240000" cy="1661400"/>
          </a:xfrm>
        </p:grpSpPr>
        <p:grpSp>
          <p:nvGrpSpPr>
            <p:cNvPr id="1584" name="Group 78"/>
            <p:cNvGrpSpPr/>
            <p:nvPr/>
          </p:nvGrpSpPr>
          <p:grpSpPr>
            <a:xfrm>
              <a:off x="684360" y="2637000"/>
              <a:ext cx="3240000" cy="1202760"/>
              <a:chOff x="684360" y="2637000"/>
              <a:chExt cx="3240000" cy="1202760"/>
            </a:xfrm>
          </p:grpSpPr>
          <p:sp>
            <p:nvSpPr>
              <p:cNvPr id="1585" name="Text Box 74"/>
              <p:cNvSpPr/>
              <p:nvPr/>
            </p:nvSpPr>
            <p:spPr>
              <a:xfrm>
                <a:off x="684360" y="2779920"/>
                <a:ext cx="324000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)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ru-RU" sz="1800" spc="-1" strike="noStrike" u="sng">
                    <a:solidFill>
                      <a:srgbClr val="009900"/>
                    </a:solidFill>
                    <a:uFillTx/>
                    <a:latin typeface="Tahoma"/>
                  </a:rPr>
                  <a:t>УЛКС</a:t>
                </a:r>
                <a:r>
                  <a:rPr b="1" i="1" lang="ru-RU" sz="1800" spc="-1" strike="noStrike" u="sng">
                    <a:solidFill>
                      <a:srgbClr val="009900"/>
                    </a:solidFill>
                    <a:uFillTx/>
                    <a:latin typeface="Tahoma"/>
                  </a:rPr>
                  <a:t> дом</a:t>
                </a:r>
                <a:r>
                  <a:rPr b="1" i="1" lang="ru-RU" sz="1800" spc="-1" strike="noStrike">
                    <a:solidFill>
                      <a:srgbClr val="009900"/>
                    </a:solidFill>
                    <a:latin typeface="Tahoma"/>
                  </a:rPr>
                  <a:t> - </a:t>
                </a:r>
                <a:r>
                  <a:rPr b="1" i="1" lang="ru-RU" sz="1800" spc="-1" strike="noStrike" u="sng">
                    <a:solidFill>
                      <a:srgbClr val="009900"/>
                    </a:solidFill>
                    <a:uFillTx/>
                    <a:latin typeface="Tahoma"/>
                  </a:rPr>
                  <a:t>домик</a:t>
                </a:r>
                <a:r>
                  <a:rPr b="1" i="1" lang="en-US" sz="18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Tahoma"/>
                  </a:rPr>
                  <a:t>E+</a:t>
                </a: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)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ru-RU" sz="1800" spc="-1" strike="noStrike" u="sng">
                    <a:solidFill>
                      <a:srgbClr val="009900"/>
                    </a:solidFill>
                    <a:uFillTx/>
                    <a:latin typeface="Tahoma"/>
                  </a:rPr>
                  <a:t>УЛКС</a:t>
                </a:r>
                <a:r>
                  <a:rPr b="1" i="1" lang="ru-RU" sz="1800" spc="-1" strike="noStrike" u="sng">
                    <a:solidFill>
                      <a:srgbClr val="009900"/>
                    </a:solidFill>
                    <a:uFillTx/>
                    <a:latin typeface="Tahoma"/>
                  </a:rPr>
                  <a:t> слон</a:t>
                </a:r>
                <a:r>
                  <a:rPr b="1" i="1" lang="ru-RU" sz="1800" spc="-1" strike="noStrike">
                    <a:solidFill>
                      <a:srgbClr val="009900"/>
                    </a:solidFill>
                    <a:latin typeface="Tahoma"/>
                  </a:rPr>
                  <a:t> - </a:t>
                </a:r>
                <a:r>
                  <a:rPr b="1" i="1" lang="ru-RU" sz="1800" spc="-1" strike="noStrike" u="sng">
                    <a:solidFill>
                      <a:srgbClr val="009900"/>
                    </a:solidFill>
                    <a:uFillTx/>
                    <a:latin typeface="Tahoma"/>
                  </a:rPr>
                  <a:t>слоник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Tahoma"/>
                  </a:rPr>
                  <a:t>E+</a:t>
                </a: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)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ru-RU" sz="1800" spc="-1" strike="noStrike" u="sng">
                    <a:solidFill>
                      <a:srgbClr val="009900"/>
                    </a:solidFill>
                    <a:uFillTx/>
                    <a:latin typeface="Tahoma"/>
                  </a:rPr>
                  <a:t>УЛКС</a:t>
                </a:r>
                <a:r>
                  <a:rPr b="1" i="1" lang="ru-RU" sz="1800" spc="-1" strike="noStrike" u="sng">
                    <a:solidFill>
                      <a:srgbClr val="009900"/>
                    </a:solidFill>
                    <a:uFillTx/>
                    <a:latin typeface="Tahoma"/>
                  </a:rPr>
                  <a:t> ёж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Tahoma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ahoma"/>
                  </a:rPr>
                  <a:t>  </a:t>
                </a:r>
                <a:r>
                  <a:rPr b="1" i="1" lang="ru-RU" sz="1800" spc="-1" strike="noStrike" u="sng">
                    <a:solidFill>
                      <a:srgbClr val="009900"/>
                    </a:solidFill>
                    <a:uFillTx/>
                    <a:latin typeface="Tahoma"/>
                  </a:rPr>
                  <a:t>ёж ик</a:t>
                </a:r>
                <a:r>
                  <a:rPr b="1" i="1" lang="ru-RU" sz="18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Tahoma"/>
                  </a:rPr>
                  <a:t>E+</a:t>
                </a: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Text Box 75"/>
              <p:cNvSpPr/>
              <p:nvPr/>
            </p:nvSpPr>
            <p:spPr>
              <a:xfrm>
                <a:off x="901800" y="2637000"/>
                <a:ext cx="223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ahoma"/>
                  </a:rPr>
                  <a:t>      </a:t>
                </a:r>
                <a:r>
                  <a:rPr b="1" i="1" lang="ru-RU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X 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Tahoma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Tahoma"/>
                  </a:rPr>
                  <a:t>         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1" i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7" name="Text Box 76"/>
              <p:cNvSpPr/>
              <p:nvPr/>
            </p:nvSpPr>
            <p:spPr>
              <a:xfrm>
                <a:off x="2124000" y="33876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Tahoma"/>
                  </a:rPr>
                  <a:t>?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1" i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88" name="Text Box 79"/>
            <p:cNvSpPr/>
            <p:nvPr/>
          </p:nvSpPr>
          <p:spPr>
            <a:xfrm>
              <a:off x="971640" y="3892680"/>
              <a:ext cx="2952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УЛКС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t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i="1" lang="ru-RU" sz="1800" spc="-1" strike="noStrike" u="sng">
                  <a:solidFill>
                    <a:srgbClr val="009900"/>
                  </a:solidFill>
                  <a:uFillTx/>
                  <a:latin typeface="Tahoma"/>
                </a:rPr>
                <a:t>ик</a:t>
              </a:r>
              <a:r>
                <a:rPr b="1" i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Tahoma"/>
                </a:rPr>
                <a:t>E+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Tahoma"/>
                </a:rPr>
                <a:t>    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ahoma"/>
                </a:rPr>
                <a:t>НСС</a:t>
              </a:r>
              <a:r>
                <a:rPr b="1" i="1" lang="ru-RU" sz="1800" spc="-1" strike="noStrike" baseline="-25000">
                  <a:solidFill>
                    <a:srgbClr val="000000"/>
                  </a:solidFill>
                  <a:latin typeface="Tahoma"/>
                </a:rPr>
                <a:t>1 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9" name="Line 81"/>
          <p:cNvSpPr/>
          <p:nvPr/>
        </p:nvSpPr>
        <p:spPr>
          <a:xfrm>
            <a:off x="324000" y="2565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Text Box 82"/>
          <p:cNvSpPr/>
          <p:nvPr/>
        </p:nvSpPr>
        <p:spPr>
          <a:xfrm>
            <a:off x="4284720" y="2863800"/>
            <a:ext cx="4249800" cy="14065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Принцип  обучения  ИС(НСС</a:t>
            </a:r>
            <a:r>
              <a:rPr b="1" i="1" lang="en-US" sz="2000" spc="-1" strike="noStrike" baseline="-25000">
                <a:solidFill>
                  <a:srgbClr val="ff33cc"/>
                </a:solidFill>
                <a:latin typeface="Tahoma"/>
              </a:rPr>
              <a:t>n</a:t>
            </a: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)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ересечение множества примеров должно сформировать однозначную НСС-подструктуру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Line 83"/>
          <p:cNvSpPr/>
          <p:nvPr/>
        </p:nvSpPr>
        <p:spPr>
          <a:xfrm>
            <a:off x="1042920" y="3886200"/>
            <a:ext cx="2739960" cy="205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719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924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35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0"/>
          <a:ext cx="9144000" cy="6842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B85D-6A0B-4E86-950E-38B60CC6BB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Oval 42"/>
          <p:cNvSpPr/>
          <p:nvPr/>
        </p:nvSpPr>
        <p:spPr>
          <a:xfrm>
            <a:off x="8151840" y="3284640"/>
            <a:ext cx="596880" cy="108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Oval 43"/>
          <p:cNvSpPr/>
          <p:nvPr/>
        </p:nvSpPr>
        <p:spPr>
          <a:xfrm>
            <a:off x="8597880" y="2133720"/>
            <a:ext cx="417600" cy="503280"/>
          </a:xfrm>
          <a:prstGeom prst="ellipse">
            <a:avLst/>
          </a:prstGeom>
          <a:solidFill>
            <a:srgbClr val="00f4b4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150560" y="260280"/>
            <a:ext cx="8101080" cy="12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Пример категории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нание -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 "логические высказывания".</a:t>
            </a:r>
            <a:r>
              <a:rPr b="0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Times New Roman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екстовой форме они обязательно содержат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ритмически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 о в </a:t>
            </a:r>
            <a:r>
              <a:rPr b="1" i="1" lang="ru-RU" sz="2800" spc="-1" strike="noStrike">
                <a:solidFill>
                  <a:srgbClr val="339933"/>
                </a:solidFill>
                <a:latin typeface="Times New Roman"/>
              </a:rPr>
              <a:t>т о р е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н и я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!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395280" y="1797120"/>
            <a:ext cx="8424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ВСЕ| |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ВОЛК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И|        |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СЕР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Ы||</a:t>
            </a:r>
            <a:r>
              <a:rPr b="1" i="1" lang="ru-RU" sz="1600" spc="-1" strike="noStrike">
                <a:solidFill>
                  <a:srgbClr val="339933"/>
                </a:solidFill>
                <a:latin typeface="Times New Roman"/>
              </a:rPr>
              <a:t>А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|ЕСТЬ|  |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ВОЛК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,||ЗНАЧИТ|,|</a:t>
            </a:r>
            <a:r>
              <a:rPr b="1" i="1" lang="ru-RU" sz="1600" spc="-1" strike="noStrike">
                <a:solidFill>
                  <a:srgbClr val="339933"/>
                </a:solidFill>
                <a:latin typeface="Times New Roman"/>
              </a:rPr>
              <a:t>А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|ЕСТЬ|        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СЕР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ЫЙ|&lt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+&gt;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ВСЕ||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ЕТУХ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И||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КРАСИ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Ы||</a:t>
            </a:r>
            <a:r>
              <a:rPr b="1" i="1" lang="ru-RU" sz="1600" spc="-1" strike="noStrike">
                <a:solidFill>
                  <a:srgbClr val="339933"/>
                </a:solidFill>
                <a:latin typeface="Times New Roman"/>
              </a:rPr>
              <a:t>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|ЕСТЬ||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ЕТУХ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,||ЗНАЧИТ|,|</a:t>
            </a:r>
            <a:r>
              <a:rPr b="1" i="1" lang="ru-RU" sz="1600" spc="-1" strike="noStrike">
                <a:solidFill>
                  <a:srgbClr val="339933"/>
                </a:solidFill>
                <a:latin typeface="Times New Roman"/>
              </a:rPr>
              <a:t>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|ЕСТЬ|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КРАСИ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ЫЙ|&lt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+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НСС</a:t>
            </a:r>
            <a:r>
              <a:rPr b="1" lang="ru-RU" sz="20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втоматически строится структур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ВСЕ| |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|И| | 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|Ы|, |</a:t>
            </a:r>
            <a:r>
              <a:rPr b="1" i="1" lang="en-US" sz="1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ru-RU" sz="16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  |ЕСТЬ| |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|,  | |ЗНАЧИТ|, |</a:t>
            </a:r>
            <a:r>
              <a:rPr b="1" i="1" lang="en-US" sz="1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ru-RU" sz="16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| |ЕСТЬ| 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|Ы|Й|&lt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+&g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7" name="Group 4"/>
          <p:cNvGrpSpPr/>
          <p:nvPr/>
        </p:nvGrpSpPr>
        <p:grpSpPr>
          <a:xfrm>
            <a:off x="1565280" y="3735360"/>
            <a:ext cx="5383080" cy="414360"/>
            <a:chOff x="1565280" y="3735360"/>
            <a:chExt cx="5383080" cy="414360"/>
          </a:xfrm>
        </p:grpSpPr>
        <p:sp>
          <p:nvSpPr>
            <p:cNvPr id="1598" name="Freeform 5"/>
            <p:cNvSpPr/>
            <p:nvPr/>
          </p:nvSpPr>
          <p:spPr>
            <a:xfrm>
              <a:off x="1565280" y="3735360"/>
              <a:ext cx="2950560" cy="37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9" name="Freeform 6"/>
            <p:cNvSpPr/>
            <p:nvPr/>
          </p:nvSpPr>
          <p:spPr>
            <a:xfrm>
              <a:off x="3123720" y="3767760"/>
              <a:ext cx="2809800" cy="277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0" name="Freeform 7"/>
            <p:cNvSpPr/>
            <p:nvPr/>
          </p:nvSpPr>
          <p:spPr>
            <a:xfrm>
              <a:off x="2328480" y="3767760"/>
              <a:ext cx="4619880" cy="38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01" name="Rectangle 8"/>
          <p:cNvSpPr/>
          <p:nvPr/>
        </p:nvSpPr>
        <p:spPr>
          <a:xfrm>
            <a:off x="4248000" y="406980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ru-RU" sz="1800" spc="-1" strike="noStrike">
                <a:solidFill>
                  <a:srgbClr val="339933"/>
                </a:solidFill>
                <a:latin typeface="Symbol"/>
                <a:ea typeface="Symbol"/>
              </a:rPr>
              <a:t></a:t>
            </a:r>
            <a:r>
              <a:rPr b="1" lang="ru-RU" sz="18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9933"/>
                </a:solidFill>
                <a:latin typeface="Tahoma"/>
              </a:rPr>
              <a:t>t</a:t>
            </a:r>
            <a:r>
              <a:rPr b="1" lang="ru-RU" sz="1800" spc="-1" strike="noStrike">
                <a:solidFill>
                  <a:srgbClr val="339933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Rectangle 9"/>
          <p:cNvSpPr/>
          <p:nvPr/>
        </p:nvSpPr>
        <p:spPr>
          <a:xfrm>
            <a:off x="18360" y="4507920"/>
            <a:ext cx="87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ЛЮ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КАН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Ы, </a:t>
            </a:r>
            <a:r>
              <a:rPr b="1" i="1" lang="ru-RU" sz="1800" spc="-1" strike="noStrike">
                <a:solidFill>
                  <a:srgbClr val="339933"/>
                </a:solidFill>
                <a:latin typeface="Times New Roman"/>
              </a:rPr>
              <a:t>С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ЕСТ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ЛЮ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ЗНАЧИТ, </a:t>
            </a:r>
            <a:r>
              <a:rPr b="1" i="1" lang="ru-RU" sz="1800" spc="-1" strike="noStrike">
                <a:solidFill>
                  <a:srgbClr val="339933"/>
                </a:solidFill>
                <a:latin typeface="Times New Roman"/>
              </a:rPr>
              <a:t>С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ЕСТЬ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i="1" lang="ru-RU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ru-RU" sz="1800" spc="-1" strike="noStrike">
                <a:solidFill>
                  <a:srgbClr val="3333cc"/>
                </a:solidFill>
                <a:latin typeface="Times New Roman"/>
              </a:rPr>
              <a:t>2+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Ы|Й</a:t>
            </a:r>
            <a:r>
              <a:rPr b="0" i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КАНЫЙ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Rectangle 10"/>
          <p:cNvSpPr/>
          <p:nvPr/>
        </p:nvSpPr>
        <p:spPr>
          <a:xfrm>
            <a:off x="0" y="4998240"/>
            <a:ext cx="889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ЛЮД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СМЕРТН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Ы, </a:t>
            </a:r>
            <a:r>
              <a:rPr b="1" i="1" lang="ru-RU" sz="1800" spc="-1" strike="noStrike">
                <a:solidFill>
                  <a:srgbClr val="339933"/>
                </a:solidFill>
                <a:latin typeface="Times New Roman"/>
              </a:rPr>
              <a:t>СОКРАТ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ЕСТ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ЛЮД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ЗНАЧИТ, </a:t>
            </a:r>
            <a:r>
              <a:rPr b="1" i="1" lang="ru-RU" sz="1800" spc="-1" strike="noStrike">
                <a:solidFill>
                  <a:srgbClr val="339933"/>
                </a:solidFill>
                <a:latin typeface="Times New Roman"/>
              </a:rPr>
              <a:t>СОКРАТ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ЕСТЬ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gt;, 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 в своей 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грамматик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дас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СМЕР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gt;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Rectangle 11"/>
          <p:cNvSpPr/>
          <p:nvPr/>
        </p:nvSpPr>
        <p:spPr>
          <a:xfrm>
            <a:off x="755640" y="5707440"/>
            <a:ext cx="8115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Таким образом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все типы логических высказываний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произвольной  ПО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покрываются механизмом НСС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Line 12"/>
          <p:cNvSpPr/>
          <p:nvPr/>
        </p:nvSpPr>
        <p:spPr>
          <a:xfrm flipH="1">
            <a:off x="4642920" y="3071880"/>
            <a:ext cx="1731960" cy="1004760"/>
          </a:xfrm>
          <a:prstGeom prst="line">
            <a:avLst/>
          </a:prstGeom>
          <a:ln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13"/>
          <p:cNvSpPr/>
          <p:nvPr/>
        </p:nvSpPr>
        <p:spPr>
          <a:xfrm>
            <a:off x="6443640" y="3068640"/>
            <a:ext cx="433440" cy="1081080"/>
          </a:xfrm>
          <a:prstGeom prst="line">
            <a:avLst/>
          </a:prstGeom>
          <a:ln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Line 14"/>
          <p:cNvSpPr/>
          <p:nvPr/>
        </p:nvSpPr>
        <p:spPr>
          <a:xfrm flipH="1">
            <a:off x="6011640" y="3068640"/>
            <a:ext cx="647640" cy="1081080"/>
          </a:xfrm>
          <a:prstGeom prst="line">
            <a:avLst/>
          </a:prstGeom>
          <a:ln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08" name="Group 15"/>
          <p:cNvGrpSpPr/>
          <p:nvPr/>
        </p:nvGrpSpPr>
        <p:grpSpPr>
          <a:xfrm>
            <a:off x="1116000" y="2909880"/>
            <a:ext cx="6297480" cy="663480"/>
            <a:chOff x="1116000" y="2909880"/>
            <a:chExt cx="6297480" cy="663480"/>
          </a:xfrm>
        </p:grpSpPr>
        <p:sp>
          <p:nvSpPr>
            <p:cNvPr id="1609" name="AutoShape 16"/>
            <p:cNvSpPr/>
            <p:nvPr/>
          </p:nvSpPr>
          <p:spPr>
            <a:xfrm>
              <a:off x="6045120" y="2909880"/>
              <a:ext cx="1206360" cy="301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0" name="Line 17"/>
            <p:cNvSpPr/>
            <p:nvPr/>
          </p:nvSpPr>
          <p:spPr>
            <a:xfrm flipH="1">
              <a:off x="1116000" y="3209760"/>
              <a:ext cx="5100480" cy="32724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1" name="Line 18"/>
            <p:cNvSpPr/>
            <p:nvPr/>
          </p:nvSpPr>
          <p:spPr>
            <a:xfrm flipH="1">
              <a:off x="1933560" y="3197160"/>
              <a:ext cx="4403520" cy="37620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2" name="Line 19"/>
            <p:cNvSpPr/>
            <p:nvPr/>
          </p:nvSpPr>
          <p:spPr>
            <a:xfrm flipH="1">
              <a:off x="2732040" y="3197160"/>
              <a:ext cx="3889440" cy="36036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3" name="Line 20"/>
            <p:cNvSpPr/>
            <p:nvPr/>
          </p:nvSpPr>
          <p:spPr>
            <a:xfrm>
              <a:off x="7057800" y="3209760"/>
              <a:ext cx="355680" cy="27648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4" name="Line 21"/>
            <p:cNvSpPr/>
            <p:nvPr/>
          </p:nvSpPr>
          <p:spPr>
            <a:xfrm>
              <a:off x="6908760" y="3197160"/>
              <a:ext cx="360360" cy="36036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5" name="AutoShape 24"/>
          <p:cNvSpPr/>
          <p:nvPr/>
        </p:nvSpPr>
        <p:spPr>
          <a:xfrm>
            <a:off x="8342280" y="2165400"/>
            <a:ext cx="216000" cy="431640"/>
          </a:xfrm>
          <a:custGeom>
            <a:avLst/>
            <a:gdLst>
              <a:gd name="textAreaLeft" fmla="*/ 0 w 216000"/>
              <a:gd name="textAreaRight" fmla="*/ 78120 w 21600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AutoShape 25"/>
          <p:cNvSpPr/>
          <p:nvPr/>
        </p:nvSpPr>
        <p:spPr>
          <a:xfrm>
            <a:off x="7380360" y="1413000"/>
            <a:ext cx="1206360" cy="3016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Line 26"/>
          <p:cNvSpPr/>
          <p:nvPr/>
        </p:nvSpPr>
        <p:spPr>
          <a:xfrm flipH="1">
            <a:off x="755640" y="1712880"/>
            <a:ext cx="6796080" cy="4208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8" name="Line 27"/>
          <p:cNvSpPr/>
          <p:nvPr/>
        </p:nvSpPr>
        <p:spPr>
          <a:xfrm flipH="1">
            <a:off x="1547280" y="1700280"/>
            <a:ext cx="6124680" cy="4334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Line 28"/>
          <p:cNvSpPr/>
          <p:nvPr/>
        </p:nvSpPr>
        <p:spPr>
          <a:xfrm flipH="1">
            <a:off x="2268000" y="1700280"/>
            <a:ext cx="5688360" cy="4334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Line 29"/>
          <p:cNvSpPr/>
          <p:nvPr/>
        </p:nvSpPr>
        <p:spPr>
          <a:xfrm flipH="1">
            <a:off x="7524720" y="1712880"/>
            <a:ext cx="868320" cy="4208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1" name="Line 30"/>
          <p:cNvSpPr/>
          <p:nvPr/>
        </p:nvSpPr>
        <p:spPr>
          <a:xfrm flipH="1">
            <a:off x="7020000" y="1700280"/>
            <a:ext cx="1224000" cy="4334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2" name="Group 31"/>
          <p:cNvGrpSpPr/>
          <p:nvPr/>
        </p:nvGrpSpPr>
        <p:grpSpPr>
          <a:xfrm>
            <a:off x="468360" y="2708280"/>
            <a:ext cx="7415280" cy="0"/>
            <a:chOff x="468360" y="2708280"/>
            <a:chExt cx="7415280" cy="0"/>
          </a:xfrm>
        </p:grpSpPr>
        <p:sp>
          <p:nvSpPr>
            <p:cNvPr id="1623" name="Line 32"/>
            <p:cNvSpPr/>
            <p:nvPr/>
          </p:nvSpPr>
          <p:spPr>
            <a:xfrm>
              <a:off x="468360" y="2708280"/>
              <a:ext cx="611964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4" name="Line 33"/>
            <p:cNvSpPr/>
            <p:nvPr/>
          </p:nvSpPr>
          <p:spPr>
            <a:xfrm>
              <a:off x="6659640" y="2708280"/>
              <a:ext cx="1224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25" name="Line 34"/>
          <p:cNvSpPr/>
          <p:nvPr/>
        </p:nvSpPr>
        <p:spPr>
          <a:xfrm>
            <a:off x="7956720" y="2708280"/>
            <a:ext cx="50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Line 35"/>
          <p:cNvSpPr/>
          <p:nvPr/>
        </p:nvSpPr>
        <p:spPr>
          <a:xfrm>
            <a:off x="252360" y="4869000"/>
            <a:ext cx="6335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7" name="Line 36"/>
          <p:cNvSpPr/>
          <p:nvPr/>
        </p:nvSpPr>
        <p:spPr>
          <a:xfrm>
            <a:off x="6732720" y="4869000"/>
            <a:ext cx="22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8" name="Line 37"/>
          <p:cNvSpPr/>
          <p:nvPr/>
        </p:nvSpPr>
        <p:spPr>
          <a:xfrm>
            <a:off x="7165800" y="5661000"/>
            <a:ext cx="1366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9" name="Rectangle 23"/>
          <p:cNvSpPr/>
          <p:nvPr/>
        </p:nvSpPr>
        <p:spPr>
          <a:xfrm>
            <a:off x="7628040" y="1352520"/>
            <a:ext cx="725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СС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0" name="Rectangle 39"/>
          <p:cNvSpPr/>
          <p:nvPr/>
        </p:nvSpPr>
        <p:spPr>
          <a:xfrm>
            <a:off x="6245280" y="2859120"/>
            <a:ext cx="725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НСС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ahoma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Rectangle 40"/>
          <p:cNvSpPr/>
          <p:nvPr/>
        </p:nvSpPr>
        <p:spPr>
          <a:xfrm>
            <a:off x="8528040" y="2158920"/>
            <a:ext cx="58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ПО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ahoma"/>
              </a:rPr>
              <a:t> 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Rectangle 41"/>
          <p:cNvSpPr/>
          <p:nvPr/>
        </p:nvSpPr>
        <p:spPr>
          <a:xfrm>
            <a:off x="8172360" y="3324240"/>
            <a:ext cx="720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ПО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ahoma"/>
              </a:rPr>
              <a:t>ИС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Line 44"/>
          <p:cNvSpPr/>
          <p:nvPr/>
        </p:nvSpPr>
        <p:spPr>
          <a:xfrm flipV="1">
            <a:off x="6227640" y="1700280"/>
            <a:ext cx="1944720" cy="433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Line 45"/>
          <p:cNvSpPr/>
          <p:nvPr/>
        </p:nvSpPr>
        <p:spPr>
          <a:xfrm flipV="1">
            <a:off x="5783400" y="1700280"/>
            <a:ext cx="2388960" cy="433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Line 46"/>
          <p:cNvSpPr/>
          <p:nvPr/>
        </p:nvSpPr>
        <p:spPr>
          <a:xfrm flipV="1">
            <a:off x="5219640" y="1701720"/>
            <a:ext cx="2747880" cy="432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Line 47"/>
          <p:cNvSpPr/>
          <p:nvPr/>
        </p:nvSpPr>
        <p:spPr>
          <a:xfrm flipV="1">
            <a:off x="4356000" y="1719000"/>
            <a:ext cx="3529080" cy="4172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Line 48"/>
          <p:cNvSpPr/>
          <p:nvPr/>
        </p:nvSpPr>
        <p:spPr>
          <a:xfrm flipV="1">
            <a:off x="3551400" y="1719360"/>
            <a:ext cx="4322520" cy="4032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Text Box 18"/>
          <p:cNvSpPr/>
          <p:nvPr/>
        </p:nvSpPr>
        <p:spPr>
          <a:xfrm>
            <a:off x="1258920" y="6308640"/>
            <a:ext cx="360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826560" y="1557360"/>
            <a:ext cx="81169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тоти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ьютерног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нтерфейс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-И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2" name="Object 5"/>
          <p:cNvGraphicFramePr/>
          <p:nvPr/>
        </p:nvGraphicFramePr>
        <p:xfrm>
          <a:off x="395280" y="2106720"/>
          <a:ext cx="842652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06720"/>
                    <a:ext cx="842652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Rectangle 6"/>
          <p:cNvSpPr/>
          <p:nvPr/>
        </p:nvSpPr>
        <p:spPr>
          <a:xfrm>
            <a:off x="2484360" y="62064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Xi</a:t>
            </a:r>
            <a:r>
              <a:rPr b="1" lang="ru-RU" sz="24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Yj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k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Y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Xj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X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, Y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b+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Y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X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Rectangle 7"/>
          <p:cNvSpPr/>
          <p:nvPr/>
        </p:nvSpPr>
        <p:spPr>
          <a:xfrm>
            <a:off x="108000" y="189000"/>
            <a:ext cx="8820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 диалога: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</a:t>
            </a:r>
            <a:r>
              <a:rPr b="1" lang="ru-RU" sz="2400" spc="-1" strike="noStrike">
                <a:solidFill>
                  <a:srgbClr val="339933"/>
                </a:solidFill>
                <a:latin typeface="Tahoma"/>
              </a:rPr>
              <a:t>ситуация ПО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еакция ИС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ценка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8"/>
          <p:cNvSpPr/>
          <p:nvPr/>
        </p:nvSpPr>
        <p:spPr>
          <a:xfrm>
            <a:off x="6915240" y="9810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Text Box 9"/>
          <p:cNvSpPr/>
          <p:nvPr/>
        </p:nvSpPr>
        <p:spPr>
          <a:xfrm>
            <a:off x="1547640" y="59500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ользователь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Line 17"/>
          <p:cNvSpPr/>
          <p:nvPr/>
        </p:nvSpPr>
        <p:spPr>
          <a:xfrm flipH="1">
            <a:off x="684000" y="6093000"/>
            <a:ext cx="5029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9" name="Group 10"/>
          <p:cNvGrpSpPr/>
          <p:nvPr/>
        </p:nvGrpSpPr>
        <p:grpSpPr>
          <a:xfrm>
            <a:off x="1258560" y="5589720"/>
            <a:ext cx="330480" cy="1008000"/>
            <a:chOff x="1258560" y="5589720"/>
            <a:chExt cx="330480" cy="1008000"/>
          </a:xfrm>
        </p:grpSpPr>
        <p:sp>
          <p:nvSpPr>
            <p:cNvPr id="1650" name="Oval 11"/>
            <p:cNvSpPr/>
            <p:nvPr/>
          </p:nvSpPr>
          <p:spPr>
            <a:xfrm>
              <a:off x="1309680" y="5589720"/>
              <a:ext cx="228600" cy="28584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1" name="Oval 12"/>
            <p:cNvSpPr/>
            <p:nvPr/>
          </p:nvSpPr>
          <p:spPr>
            <a:xfrm>
              <a:off x="1309680" y="5869080"/>
              <a:ext cx="228600" cy="45720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2" name="Line 13"/>
            <p:cNvSpPr/>
            <p:nvPr/>
          </p:nvSpPr>
          <p:spPr>
            <a:xfrm>
              <a:off x="1376280" y="629280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3" name="Line 14"/>
            <p:cNvSpPr/>
            <p:nvPr/>
          </p:nvSpPr>
          <p:spPr>
            <a:xfrm>
              <a:off x="1476360" y="629280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4" name="Line 15"/>
            <p:cNvSpPr/>
            <p:nvPr/>
          </p:nvSpPr>
          <p:spPr>
            <a:xfrm>
              <a:off x="1504800" y="5923080"/>
              <a:ext cx="84240" cy="272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5" name="Line 16"/>
            <p:cNvSpPr/>
            <p:nvPr/>
          </p:nvSpPr>
          <p:spPr>
            <a:xfrm flipH="1">
              <a:off x="1258560" y="5926320"/>
              <a:ext cx="83880" cy="277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6" name="Freeform 19"/>
          <p:cNvSpPr/>
          <p:nvPr/>
        </p:nvSpPr>
        <p:spPr>
          <a:xfrm>
            <a:off x="2000160" y="795240"/>
            <a:ext cx="4564080" cy="498600"/>
          </a:xfrm>
          <a:prstGeom prst="pie">
            <a:avLst/>
          </a:prstGeom>
          <a:noFill/>
          <a:ln w="19080">
            <a:solidFill>
              <a:srgbClr val="008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Line 21"/>
          <p:cNvSpPr/>
          <p:nvPr/>
        </p:nvSpPr>
        <p:spPr>
          <a:xfrm>
            <a:off x="1908000" y="836640"/>
            <a:ext cx="5763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Line 22"/>
          <p:cNvSpPr/>
          <p:nvPr/>
        </p:nvSpPr>
        <p:spPr>
          <a:xfrm>
            <a:off x="6227640" y="1268280"/>
            <a:ext cx="64944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Rectangle 23"/>
          <p:cNvSpPr/>
          <p:nvPr/>
        </p:nvSpPr>
        <p:spPr>
          <a:xfrm>
            <a:off x="6542280" y="9079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Три  принципа  построения  И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71280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Tahoma"/>
              </a:rPr>
              <a:t>1. Минимизация отображения на НСС </a:t>
            </a:r>
            <a:r>
              <a:rPr b="0" lang="en-GB" sz="2000" spc="-1" strike="noStrike">
                <a:solidFill>
                  <a:srgbClr val="336600"/>
                </a:solidFill>
                <a:latin typeface="Tahoma"/>
              </a:rPr>
              <a:t>(работа с информацией)</a:t>
            </a:r>
            <a:r>
              <a:rPr b="0" lang="en-GB" sz="2000" spc="-1" strike="noStrike">
                <a:solidFill>
                  <a:srgbClr val="3366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2. Максимизация эволюционного потенциала ИУ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(работа с энергией и информацией)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3. Минимизация ресурсов ИУС,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 как рекурсивной обработки  информации о П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(работа со знаниями)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"/>
          <p:cNvSpPr/>
          <p:nvPr/>
        </p:nvSpPr>
        <p:spPr>
          <a:xfrm>
            <a:off x="6568560" y="407664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  <a:ea typeface="Lucida Sans Unicode"/>
              </a:rPr>
              <a:t>Э’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+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  <a:ea typeface="Lucida Sans Unicode"/>
              </a:rPr>
              <a:t>Эi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И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max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"/>
          <p:cNvSpPr/>
          <p:nvPr/>
        </p:nvSpPr>
        <p:spPr>
          <a:xfrm>
            <a:off x="6469560" y="285264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R=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N-эл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+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св.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min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7736040" y="3558960"/>
            <a:ext cx="1440" cy="1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5" name=""/>
          <p:cNvSpPr/>
          <p:nvPr/>
        </p:nvSpPr>
        <p:spPr>
          <a:xfrm>
            <a:off x="7736040" y="3724200"/>
            <a:ext cx="1012680" cy="1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8129520" y="3365280"/>
            <a:ext cx="609840" cy="191880"/>
            <a:chOff x="8129520" y="3365280"/>
            <a:chExt cx="609840" cy="191880"/>
          </a:xfrm>
        </p:grpSpPr>
        <p:sp>
          <p:nvSpPr>
            <p:cNvPr id="1667" name=""/>
            <p:cNvSpPr/>
            <p:nvPr/>
          </p:nvSpPr>
          <p:spPr>
            <a:xfrm flipV="1">
              <a:off x="8129520" y="3365280"/>
              <a:ext cx="1440" cy="191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129520" y="3556080"/>
              <a:ext cx="609840" cy="1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"/>
          <p:cNvSpPr/>
          <p:nvPr/>
        </p:nvSpPr>
        <p:spPr>
          <a:xfrm flipV="1">
            <a:off x="7319880" y="3357720"/>
            <a:ext cx="1154160" cy="591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"/>
          <p:cNvSpPr/>
          <p:nvPr/>
        </p:nvSpPr>
        <p:spPr>
          <a:xfrm>
            <a:off x="7323120" y="3921120"/>
            <a:ext cx="1440" cy="8424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"/>
          <p:cNvSpPr/>
          <p:nvPr/>
        </p:nvSpPr>
        <p:spPr>
          <a:xfrm flipV="1">
            <a:off x="7304040" y="3610080"/>
            <a:ext cx="9720" cy="334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7337520" y="3917520"/>
            <a:ext cx="1166760" cy="25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7738920" y="3814920"/>
            <a:ext cx="0" cy="167760"/>
            <a:chOff x="7738920" y="3814920"/>
            <a:chExt cx="0" cy="167760"/>
          </a:xfrm>
        </p:grpSpPr>
        <p:sp>
          <p:nvSpPr>
            <p:cNvPr id="1674" name=""/>
            <p:cNvSpPr/>
            <p:nvPr/>
          </p:nvSpPr>
          <p:spPr>
            <a:xfrm>
              <a:off x="7738920" y="3920760"/>
              <a:ext cx="0" cy="619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7738920" y="3814920"/>
              <a:ext cx="0" cy="10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8186760" y="3849840"/>
            <a:ext cx="0" cy="125280"/>
            <a:chOff x="8186760" y="3849840"/>
            <a:chExt cx="0" cy="125280"/>
          </a:xfrm>
        </p:grpSpPr>
        <p:sp>
          <p:nvSpPr>
            <p:cNvPr id="1677" name=""/>
            <p:cNvSpPr/>
            <p:nvPr/>
          </p:nvSpPr>
          <p:spPr>
            <a:xfrm>
              <a:off x="8186760" y="3933360"/>
              <a:ext cx="0" cy="4176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8186760" y="3849840"/>
              <a:ext cx="0" cy="8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8429760" y="3773520"/>
            <a:ext cx="0" cy="209160"/>
            <a:chOff x="8429760" y="3773520"/>
            <a:chExt cx="0" cy="209160"/>
          </a:xfrm>
        </p:grpSpPr>
        <p:sp>
          <p:nvSpPr>
            <p:cNvPr id="1680" name=""/>
            <p:cNvSpPr/>
            <p:nvPr/>
          </p:nvSpPr>
          <p:spPr>
            <a:xfrm>
              <a:off x="8429760" y="3920400"/>
              <a:ext cx="0" cy="622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429760" y="3773520"/>
              <a:ext cx="0" cy="148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7526160" y="3857760"/>
            <a:ext cx="6480" cy="124920"/>
            <a:chOff x="7526160" y="3857760"/>
            <a:chExt cx="6480" cy="124920"/>
          </a:xfrm>
        </p:grpSpPr>
        <p:sp>
          <p:nvSpPr>
            <p:cNvPr id="1683" name=""/>
            <p:cNvSpPr/>
            <p:nvPr/>
          </p:nvSpPr>
          <p:spPr>
            <a:xfrm flipV="1">
              <a:off x="7527960" y="3857760"/>
              <a:ext cx="4680" cy="64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526160" y="3921120"/>
              <a:ext cx="1800" cy="6156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5" name=""/>
          <p:cNvGrpSpPr/>
          <p:nvPr/>
        </p:nvGrpSpPr>
        <p:grpSpPr>
          <a:xfrm>
            <a:off x="8051760" y="3836520"/>
            <a:ext cx="0" cy="82800"/>
            <a:chOff x="8051760" y="3836520"/>
            <a:chExt cx="0" cy="82800"/>
          </a:xfrm>
        </p:grpSpPr>
        <p:sp>
          <p:nvSpPr>
            <p:cNvPr id="1686" name=""/>
            <p:cNvSpPr/>
            <p:nvPr/>
          </p:nvSpPr>
          <p:spPr>
            <a:xfrm>
              <a:off x="8051760" y="3891960"/>
              <a:ext cx="0" cy="2736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8051760" y="3836520"/>
              <a:ext cx="0" cy="56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8" name=""/>
          <p:cNvSpPr/>
          <p:nvPr/>
        </p:nvSpPr>
        <p:spPr>
          <a:xfrm flipV="1">
            <a:off x="7953480" y="3668400"/>
            <a:ext cx="438120" cy="27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8462880" y="3357360"/>
            <a:ext cx="58320" cy="280800"/>
            <a:chOff x="8462880" y="3357360"/>
            <a:chExt cx="58320" cy="280800"/>
          </a:xfrm>
        </p:grpSpPr>
        <p:sp>
          <p:nvSpPr>
            <p:cNvPr id="1690" name=""/>
            <p:cNvSpPr/>
            <p:nvPr/>
          </p:nvSpPr>
          <p:spPr>
            <a:xfrm>
              <a:off x="8462880" y="3554640"/>
              <a:ext cx="58320" cy="8352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8462880" y="3357360"/>
              <a:ext cx="58320" cy="19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8145360" y="3657240"/>
            <a:ext cx="0" cy="125640"/>
            <a:chOff x="8145360" y="3657240"/>
            <a:chExt cx="0" cy="125640"/>
          </a:xfrm>
        </p:grpSpPr>
        <p:sp>
          <p:nvSpPr>
            <p:cNvPr id="1693" name=""/>
            <p:cNvSpPr/>
            <p:nvPr/>
          </p:nvSpPr>
          <p:spPr>
            <a:xfrm>
              <a:off x="8145360" y="3741120"/>
              <a:ext cx="0" cy="417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8145360" y="3657240"/>
              <a:ext cx="0" cy="8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7958160" y="3573360"/>
            <a:ext cx="56160" cy="199440"/>
            <a:chOff x="7958160" y="3573360"/>
            <a:chExt cx="56160" cy="199440"/>
          </a:xfrm>
        </p:grpSpPr>
        <p:sp>
          <p:nvSpPr>
            <p:cNvPr id="1696" name=""/>
            <p:cNvSpPr/>
            <p:nvPr/>
          </p:nvSpPr>
          <p:spPr>
            <a:xfrm>
              <a:off x="7958160" y="3699720"/>
              <a:ext cx="56160" cy="730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V="1">
              <a:off x="7958160" y="3573360"/>
              <a:ext cx="56160" cy="128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8300880" y="3495600"/>
            <a:ext cx="0" cy="118800"/>
            <a:chOff x="8300880" y="3495600"/>
            <a:chExt cx="0" cy="118800"/>
          </a:xfrm>
        </p:grpSpPr>
        <p:sp>
          <p:nvSpPr>
            <p:cNvPr id="1699" name=""/>
            <p:cNvSpPr/>
            <p:nvPr/>
          </p:nvSpPr>
          <p:spPr>
            <a:xfrm>
              <a:off x="8300880" y="3569760"/>
              <a:ext cx="0" cy="446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8300880" y="3495600"/>
              <a:ext cx="0" cy="7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8366040" y="3692160"/>
            <a:ext cx="0" cy="68400"/>
            <a:chOff x="8366040" y="3692160"/>
            <a:chExt cx="0" cy="68400"/>
          </a:xfrm>
        </p:grpSpPr>
        <p:sp>
          <p:nvSpPr>
            <p:cNvPr id="1702" name=""/>
            <p:cNvSpPr/>
            <p:nvPr/>
          </p:nvSpPr>
          <p:spPr>
            <a:xfrm>
              <a:off x="8366040" y="3735000"/>
              <a:ext cx="0" cy="2556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8366040" y="3692160"/>
              <a:ext cx="0" cy="4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8593200" y="3658680"/>
            <a:ext cx="0" cy="119160"/>
            <a:chOff x="8593200" y="3658680"/>
            <a:chExt cx="0" cy="119160"/>
          </a:xfrm>
        </p:grpSpPr>
        <p:sp>
          <p:nvSpPr>
            <p:cNvPr id="1705" name=""/>
            <p:cNvSpPr/>
            <p:nvPr/>
          </p:nvSpPr>
          <p:spPr>
            <a:xfrm>
              <a:off x="8593200" y="3733560"/>
              <a:ext cx="0" cy="442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8593200" y="3658680"/>
              <a:ext cx="0" cy="75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07" name=""/>
          <p:cNvSpPr/>
          <p:nvPr/>
        </p:nvSpPr>
        <p:spPr>
          <a:xfrm>
            <a:off x="7667640" y="5373720"/>
            <a:ext cx="14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8" name=""/>
          <p:cNvGraphicFramePr/>
          <p:nvPr/>
        </p:nvGraphicFramePr>
        <p:xfrm>
          <a:off x="7380360" y="4929120"/>
          <a:ext cx="10810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4929120"/>
                    <a:ext cx="10810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0" name=""/>
          <p:cNvSpPr/>
          <p:nvPr/>
        </p:nvSpPr>
        <p:spPr>
          <a:xfrm>
            <a:off x="6676200" y="580536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R=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НСС)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min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1" name=""/>
          <p:cNvGraphicFramePr/>
          <p:nvPr/>
        </p:nvGraphicFramePr>
        <p:xfrm>
          <a:off x="7380360" y="1484280"/>
          <a:ext cx="1438200" cy="13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1484280"/>
                    <a:ext cx="143820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"/>
          <p:cNvSpPr/>
          <p:nvPr/>
        </p:nvSpPr>
        <p:spPr>
          <a:xfrm>
            <a:off x="250920" y="264960"/>
            <a:ext cx="86929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Две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</a:t>
            </a:r>
            <a:r>
              <a:rPr b="1" lang="en-GB" sz="2000" spc="-1" strike="noStrike">
                <a:solidFill>
                  <a:srgbClr val="339933"/>
                </a:solidFill>
                <a:latin typeface="Tahoma"/>
                <a:ea typeface="Lucida Sans Unicode"/>
              </a:rPr>
              <a:t>оценки сложности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моделирования мозга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.</a:t>
            </a:r>
            <a:br>
              <a:rPr sz="1600"/>
            </a:br>
            <a:br>
              <a:rPr sz="1600"/>
            </a:br>
            <a:r>
              <a:rPr b="1" lang="en-GB" sz="1600" spc="-1" strike="noStrike">
                <a:solidFill>
                  <a:srgbClr val="339933"/>
                </a:solidFill>
                <a:latin typeface="Tahoma"/>
                <a:ea typeface="Lucida Sans Unicode"/>
              </a:rPr>
              <a:t>Первая</a:t>
            </a:r>
            <a:r>
              <a:rPr b="1" lang="en-GB" sz="1600" spc="-1" strike="noStrike">
                <a:solidFill>
                  <a:srgbClr val="333399"/>
                </a:solidFill>
                <a:latin typeface="Tahoma"/>
                <a:ea typeface="Lucida Sans Unicode"/>
              </a:rPr>
              <a:t>: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число нейронов* число синапсов* частоту перекл.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= 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  <a:ea typeface="Lucida Sans Unicode"/>
              </a:rPr>
              <a:t>10</a:t>
            </a:r>
            <a:r>
              <a:rPr b="1" lang="en-GB" sz="1800" spc="-1" strike="noStrike" baseline="30000">
                <a:solidFill>
                  <a:srgbClr val="ff0000"/>
                </a:solidFill>
                <a:latin typeface="Tahoma"/>
                <a:ea typeface="Lucida Sans Unicode"/>
              </a:rPr>
              <a:t>15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  <a:ea typeface="Lucida Sans Unicode"/>
              </a:rPr>
              <a:t> опер./сек.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      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Таких ЭВМ пока нет.</a:t>
            </a:r>
            <a:br>
              <a:rPr sz="1600"/>
            </a:br>
            <a:r>
              <a:rPr b="1" lang="en-GB" sz="1600" spc="-1" strike="noStrike">
                <a:solidFill>
                  <a:srgbClr val="339933"/>
                </a:solidFill>
                <a:latin typeface="Tahoma"/>
                <a:ea typeface="Lucida Sans Unicode"/>
              </a:rPr>
              <a:t>Вторая оценка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генетическая сложность "новорожденного мозга"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"/>
          <p:cNvSpPr/>
          <p:nvPr/>
        </p:nvSpPr>
        <p:spPr>
          <a:xfrm>
            <a:off x="468360" y="1989000"/>
            <a:ext cx="842472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Известно, что геном "человека разумного"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1" lang="en-GB" sz="2000" spc="-1" strike="noStrike">
                <a:solidFill>
                  <a:srgbClr val="339933"/>
                </a:solidFill>
                <a:latin typeface="Tahoma"/>
                <a:ea typeface="Lucida Sans Unicode"/>
              </a:rPr>
              <a:t>2,3  10</a:t>
            </a:r>
            <a:r>
              <a:rPr b="1" lang="en-GB" sz="2000" spc="-1" strike="noStrike" baseline="30000">
                <a:solidFill>
                  <a:srgbClr val="339933"/>
                </a:solidFill>
                <a:latin typeface="Tahoma"/>
                <a:ea typeface="Lucida Sans Unicode"/>
              </a:rPr>
              <a:t>10</a:t>
            </a:r>
            <a:r>
              <a:rPr b="1" lang="en-GB" sz="20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символов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четырехбуквенного  алфавита: </a:t>
            </a:r>
            <a:r>
              <a:rPr b="1" i="1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A,G,C,T.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Переводим в привычные байты (8 бит), т.е. делим на </a:t>
            </a:r>
            <a:r>
              <a:rPr b="1" lang="en-GB" sz="1600" spc="-1" strike="noStrike">
                <a:solidFill>
                  <a:srgbClr val="ff0000"/>
                </a:solidFill>
                <a:latin typeface="Tahoma"/>
                <a:ea typeface="Lucida Sans Unicode"/>
              </a:rPr>
              <a:t>64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, получаем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3 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ahoma"/>
                <a:ea typeface="Lucida Sans Unicode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байт,   т.е. 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300 Мб</a:t>
            </a:r>
            <a:r>
              <a:rPr b="1" lang="en-GB" sz="1600" spc="-1" strike="noStrike">
                <a:solidFill>
                  <a:srgbClr val="339933"/>
                </a:solidFill>
                <a:latin typeface="Tahoma"/>
                <a:ea typeface="Lucida Sans Unicode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или половинка CD.  Т.е. весь проект человека это меньше кодов средних пакетов ПО (напр., Microsoft Office и др.).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endParaRPr b="1" i="1" lang="en-US" sz="4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Но нам необходим текст моделирования только мозга и мышления.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7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Symbol" charset="2"/>
              <a:buChar char=""/>
              <a:tabLst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Далее, делим на </a:t>
            </a:r>
            <a:r>
              <a:rPr b="1" lang="en-GB" sz="1600" spc="-1" strike="noStrike">
                <a:solidFill>
                  <a:srgbClr val="ff0000"/>
                </a:solidFill>
                <a:latin typeface="Tahoma"/>
                <a:ea typeface="Lucida Sans Unicode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двойная комплементарная спираль,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7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Symbol" charset="2"/>
              <a:buChar char=""/>
              <a:tabLst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затем делим на </a:t>
            </a:r>
            <a:r>
              <a:rPr b="1" lang="en-GB" sz="1600" spc="-1" strike="noStrike">
                <a:solidFill>
                  <a:srgbClr val="ff0000"/>
                </a:solidFill>
                <a:latin typeface="Tahoma"/>
                <a:ea typeface="Lucida Sans Unicode"/>
              </a:rPr>
              <a:t>20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(95% молчащие участки ДНК),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7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Symbol" charset="2"/>
              <a:buChar char=""/>
              <a:tabLst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делим на </a:t>
            </a:r>
            <a:r>
              <a:rPr b="1" lang="en-GB" sz="1600" spc="-1" strike="noStrike">
                <a:solidFill>
                  <a:srgbClr val="ff0000"/>
                </a:solidFill>
                <a:latin typeface="Tahoma"/>
                <a:ea typeface="Lucida Sans Unicode"/>
              </a:rPr>
              <a:t>10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(далее допустим, что  описание мозга 1/10 от всего текста),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7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Symbol" charset="2"/>
              <a:buChar char=""/>
              <a:tabLst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делим еще на </a:t>
            </a:r>
            <a:r>
              <a:rPr b="1" lang="en-GB" sz="1600" spc="-1" strike="noStrike">
                <a:solidFill>
                  <a:srgbClr val="ff0000"/>
                </a:solidFill>
                <a:latin typeface="Tahoma"/>
                <a:ea typeface="Lucida Sans Unicode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(еще примем избыточность биологических систем  как 10).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Итого,  в результате получаем 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 </a:t>
            </a:r>
            <a:r>
              <a:rPr b="1" lang="en-GB" sz="2000" spc="-1" strike="noStrike">
                <a:solidFill>
                  <a:srgbClr val="339933"/>
                </a:solidFill>
                <a:latin typeface="Tahoma"/>
                <a:ea typeface="Lucida Sans Unicode"/>
              </a:rPr>
              <a:t>10</a:t>
            </a:r>
            <a:r>
              <a:rPr b="1" lang="en-GB" sz="2000" spc="-1" strike="noStrike" baseline="30000">
                <a:solidFill>
                  <a:srgbClr val="339933"/>
                </a:solidFill>
                <a:latin typeface="Tahoma"/>
                <a:ea typeface="Lucida Sans Unicode"/>
              </a:rPr>
              <a:t>5</a:t>
            </a:r>
            <a:r>
              <a:rPr b="1" lang="en-GB" sz="20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байт.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на "разум")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i="1" lang="en-US" sz="4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Такого  объема  программы  легко  пишут  студенты  технических  ВУЗов.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Tahoma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339933"/>
                </a:solidFill>
                <a:latin typeface="Tahoma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339933"/>
                </a:solidFill>
                <a:latin typeface="Tahoma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339933"/>
                </a:solidFill>
                <a:latin typeface="Tahoma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339933"/>
                </a:solidFill>
                <a:latin typeface="Tahoma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           </a:t>
            </a:r>
            <a:r>
              <a:rPr b="1" lang="en-GB" sz="1600" spc="-1" strike="noStrike">
                <a:solidFill>
                  <a:srgbClr val="339933"/>
                </a:solidFill>
                <a:latin typeface="Tahoma"/>
                <a:ea typeface="Lucida Sans Unicode"/>
              </a:rPr>
              <a:t>НАДО  ТОЛЬКО  ЗНАТЬ,  </a:t>
            </a:r>
            <a:r>
              <a:rPr b="1" lang="en-GB" sz="16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1" lang="en-GB" sz="16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 </a:t>
            </a:r>
            <a:r>
              <a:rPr b="1" lang="en-GB" sz="2000" spc="-1" strike="noStrike">
                <a:solidFill>
                  <a:srgbClr val="339933"/>
                </a:solidFill>
                <a:latin typeface="Tahoma"/>
                <a:ea typeface="Lucida Sans Unicode"/>
              </a:rPr>
              <a:t>КАК ?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i="1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Таким образом, "правильная" программа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Tahoma"/>
                <a:ea typeface="Lucida Sans Unicode"/>
              </a:rPr>
              <a:t>развивающегося  мозга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в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10</a:t>
            </a:r>
            <a:r>
              <a:rPr b="1" lang="en-GB" sz="1800" spc="-1" strike="noStrike" baseline="30000">
                <a:solidFill>
                  <a:srgbClr val="3333cc"/>
                </a:solidFill>
                <a:latin typeface="Tahoma"/>
                <a:ea typeface="Lucida Sans Unicode"/>
              </a:rPr>
              <a:t>5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 байт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+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  (реальная) </a:t>
            </a:r>
            <a:r>
              <a:rPr b="1" lang="en-GB" sz="1800" spc="-1" strike="noStrike">
                <a:solidFill>
                  <a:srgbClr val="ff6600"/>
                </a:solidFill>
                <a:latin typeface="Tahoma"/>
                <a:ea typeface="Lucida Sans Unicode"/>
              </a:rPr>
              <a:t>внешняя среда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+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3-5 лет </a:t>
            </a:r>
            <a:r>
              <a:rPr b="1" lang="en-GB" sz="1800" spc="-1" strike="noStrike">
                <a:solidFill>
                  <a:srgbClr val="ff6600"/>
                </a:solidFill>
                <a:latin typeface="Tahoma"/>
                <a:ea typeface="Lucida Sans Unicode"/>
              </a:rPr>
              <a:t>обучения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,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т.е.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     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	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+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  Среда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+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t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=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317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Tahoma"/>
                <a:ea typeface="Lucida Sans Unicode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будут эквивалентны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</a:t>
            </a:r>
            <a:r>
              <a:rPr b="1" lang="en-GB" sz="1800" spc="-1" strike="noStrike">
                <a:solidFill>
                  <a:srgbClr val="ff33cc"/>
                </a:solidFill>
                <a:latin typeface="Tahoma"/>
                <a:ea typeface="Lucida Sans Unicode"/>
              </a:rPr>
              <a:t>уже сформированному мозгу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10</a:t>
            </a:r>
            <a:r>
              <a:rPr b="1" lang="en-GB" sz="1800" spc="-1" strike="noStrike" baseline="30000">
                <a:solidFill>
                  <a:srgbClr val="3333cc"/>
                </a:solidFill>
                <a:latin typeface="Tahoma"/>
                <a:ea typeface="Lucida Sans Unicode"/>
              </a:rPr>
              <a:t>13-15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 байт.</a:t>
            </a:r>
            <a:r>
              <a:rPr b="1" lang="en-GB" sz="2000" spc="-1" strike="noStrike">
                <a:solidFill>
                  <a:srgbClr val="339933"/>
                </a:solidFill>
                <a:latin typeface="Tahoma"/>
                <a:ea typeface="Lucida Sans Unicode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"/>
          <p:cNvSpPr/>
          <p:nvPr/>
        </p:nvSpPr>
        <p:spPr>
          <a:xfrm>
            <a:off x="3780000" y="5229360"/>
            <a:ext cx="504000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6958080" y="2536200"/>
            <a:ext cx="1096560" cy="770040"/>
            <a:chOff x="6958080" y="2536200"/>
            <a:chExt cx="1096560" cy="770040"/>
          </a:xfrm>
        </p:grpSpPr>
        <p:grpSp>
          <p:nvGrpSpPr>
            <p:cNvPr id="1717" name=""/>
            <p:cNvGrpSpPr/>
            <p:nvPr/>
          </p:nvGrpSpPr>
          <p:grpSpPr>
            <a:xfrm>
              <a:off x="6958080" y="2536200"/>
              <a:ext cx="1091520" cy="756720"/>
              <a:chOff x="6958080" y="2536200"/>
              <a:chExt cx="1091520" cy="756720"/>
            </a:xfrm>
          </p:grpSpPr>
          <p:grpSp>
            <p:nvGrpSpPr>
              <p:cNvPr id="1718" name=""/>
              <p:cNvGrpSpPr/>
              <p:nvPr/>
            </p:nvGrpSpPr>
            <p:grpSpPr>
              <a:xfrm>
                <a:off x="7024680" y="2711160"/>
                <a:ext cx="1024920" cy="581760"/>
                <a:chOff x="7024680" y="2711160"/>
                <a:chExt cx="1024920" cy="58176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7024680" y="2711160"/>
                  <a:ext cx="1024920" cy="581760"/>
                </a:xfrm>
                <a:prstGeom prst="ellipse">
                  <a:avLst/>
                </a:prstGeom>
                <a:solidFill>
                  <a:srgbClr val="f8fd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515360" y="2957040"/>
                  <a:ext cx="72360" cy="95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21" name=""/>
              <p:cNvSpPr/>
              <p:nvPr/>
            </p:nvSpPr>
            <p:spPr>
              <a:xfrm rot="20040000">
                <a:off x="6977520" y="2698560"/>
                <a:ext cx="806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3333cc"/>
                    </a:solidFill>
                    <a:latin typeface="Tahoma"/>
                    <a:ea typeface="Lucida Sans Unicode"/>
                  </a:rPr>
                  <a:t>Д Н К</a:t>
                </a: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7221960" y="2762280"/>
                <a:ext cx="663120" cy="4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3" name=""/>
            <p:cNvSpPr/>
            <p:nvPr/>
          </p:nvSpPr>
          <p:spPr>
            <a:xfrm>
              <a:off x="7213320" y="2861640"/>
              <a:ext cx="841320" cy="4446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7883640" y="4221000"/>
            <a:ext cx="503280" cy="432000"/>
            <a:chOff x="7883640" y="4221000"/>
            <a:chExt cx="503280" cy="432000"/>
          </a:xfrm>
        </p:grpSpPr>
        <p:sp>
          <p:nvSpPr>
            <p:cNvPr id="1725" name=""/>
            <p:cNvSpPr/>
            <p:nvPr/>
          </p:nvSpPr>
          <p:spPr>
            <a:xfrm>
              <a:off x="7883640" y="4221000"/>
              <a:ext cx="503280" cy="432000"/>
            </a:xfrm>
            <a:prstGeom prst="pi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098560" y="443628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027280" y="4221000"/>
              <a:ext cx="215280" cy="14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8" name=""/>
          <p:cNvGrpSpPr/>
          <p:nvPr/>
        </p:nvGrpSpPr>
        <p:grpSpPr>
          <a:xfrm>
            <a:off x="4211640" y="5877000"/>
            <a:ext cx="503280" cy="431640"/>
            <a:chOff x="4211640" y="5877000"/>
            <a:chExt cx="503280" cy="431640"/>
          </a:xfrm>
        </p:grpSpPr>
        <p:sp>
          <p:nvSpPr>
            <p:cNvPr id="1729" name=""/>
            <p:cNvSpPr/>
            <p:nvPr/>
          </p:nvSpPr>
          <p:spPr>
            <a:xfrm>
              <a:off x="4211640" y="5877000"/>
              <a:ext cx="503280" cy="431640"/>
            </a:xfrm>
            <a:prstGeom prst="pi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426920" y="6091920"/>
              <a:ext cx="7272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355280" y="5877000"/>
              <a:ext cx="215280" cy="143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812000" y="2950560"/>
            <a:ext cx="1208160" cy="973440"/>
            <a:chOff x="7812000" y="2950560"/>
            <a:chExt cx="1208160" cy="973440"/>
          </a:xfrm>
        </p:grpSpPr>
        <p:grpSp>
          <p:nvGrpSpPr>
            <p:cNvPr id="1733" name=""/>
            <p:cNvGrpSpPr/>
            <p:nvPr/>
          </p:nvGrpSpPr>
          <p:grpSpPr>
            <a:xfrm>
              <a:off x="8013600" y="3141720"/>
              <a:ext cx="1006560" cy="430200"/>
              <a:chOff x="8013600" y="3141720"/>
              <a:chExt cx="1006560" cy="4302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13600" y="3141720"/>
                <a:ext cx="1006560" cy="430200"/>
              </a:xfrm>
              <a:prstGeom prst="ellipse">
                <a:avLst/>
              </a:prstGeom>
              <a:solidFill>
                <a:srgbClr val="f8fd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495640" y="3323520"/>
                <a:ext cx="70920" cy="70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7940520" y="3213000"/>
              <a:ext cx="1006560" cy="430200"/>
              <a:chOff x="7940520" y="3213000"/>
              <a:chExt cx="1006560" cy="430200"/>
            </a:xfrm>
          </p:grpSpPr>
          <p:sp>
            <p:nvSpPr>
              <p:cNvPr id="1737" name=""/>
              <p:cNvSpPr/>
              <p:nvPr/>
            </p:nvSpPr>
            <p:spPr>
              <a:xfrm>
                <a:off x="7940520" y="3213000"/>
                <a:ext cx="1006560" cy="430200"/>
              </a:xfrm>
              <a:prstGeom prst="ellipse">
                <a:avLst/>
              </a:prstGeom>
              <a:solidFill>
                <a:srgbClr val="f8fd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8422200" y="3394440"/>
                <a:ext cx="709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7869240" y="3284640"/>
              <a:ext cx="1006560" cy="430200"/>
              <a:chOff x="7869240" y="3284640"/>
              <a:chExt cx="1006560" cy="430200"/>
            </a:xfrm>
          </p:grpSpPr>
          <p:sp>
            <p:nvSpPr>
              <p:cNvPr id="1740" name=""/>
              <p:cNvSpPr/>
              <p:nvPr/>
            </p:nvSpPr>
            <p:spPr>
              <a:xfrm>
                <a:off x="7869240" y="3284640"/>
                <a:ext cx="1006560" cy="430200"/>
              </a:xfrm>
              <a:prstGeom prst="ellipse">
                <a:avLst/>
              </a:prstGeom>
              <a:solidFill>
                <a:srgbClr val="f8fd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351280" y="3466440"/>
                <a:ext cx="70920" cy="70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7812000" y="2950560"/>
              <a:ext cx="1102320" cy="973440"/>
              <a:chOff x="7812000" y="2950560"/>
              <a:chExt cx="1102320" cy="973440"/>
            </a:xfrm>
          </p:grpSpPr>
          <p:grpSp>
            <p:nvGrpSpPr>
              <p:cNvPr id="1743" name=""/>
              <p:cNvGrpSpPr/>
              <p:nvPr/>
            </p:nvGrpSpPr>
            <p:grpSpPr>
              <a:xfrm>
                <a:off x="7812000" y="3271320"/>
                <a:ext cx="1086840" cy="652680"/>
                <a:chOff x="7812000" y="3271320"/>
                <a:chExt cx="1086840" cy="652680"/>
              </a:xfrm>
            </p:grpSpPr>
            <p:sp>
              <p:nvSpPr>
                <p:cNvPr id="1744" name=""/>
                <p:cNvSpPr/>
                <p:nvPr/>
              </p:nvSpPr>
              <p:spPr>
                <a:xfrm>
                  <a:off x="7812000" y="3271320"/>
                  <a:ext cx="1086840" cy="652680"/>
                </a:xfrm>
                <a:prstGeom prst="ellipse">
                  <a:avLst/>
                </a:prstGeom>
                <a:solidFill>
                  <a:srgbClr val="f8fd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8332560" y="3547080"/>
                  <a:ext cx="76680" cy="107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46" name=""/>
              <p:cNvSpPr/>
              <p:nvPr/>
            </p:nvSpPr>
            <p:spPr>
              <a:xfrm rot="20040000">
                <a:off x="7980480" y="3110040"/>
                <a:ext cx="85536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3333cc"/>
                    </a:solidFill>
                    <a:latin typeface="Tahoma"/>
                    <a:ea typeface="Lucida Sans Unicode"/>
                  </a:rPr>
                  <a:t>MS </a:t>
                </a: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3333cc"/>
                    </a:solidFill>
                    <a:latin typeface="Tahoma"/>
                    <a:ea typeface="Lucida Sans Unicode"/>
                  </a:rPr>
                  <a:t>  </a:t>
                </a:r>
                <a:r>
                  <a:rPr b="1" lang="en-GB" sz="1200" spc="-1" strike="noStrike">
                    <a:solidFill>
                      <a:srgbClr val="3333cc"/>
                    </a:solidFill>
                    <a:latin typeface="Tahoma"/>
                    <a:ea typeface="Lucida Sans Unicode"/>
                  </a:rPr>
                  <a:t>Office</a:t>
                </a: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47" name=""/>
          <p:cNvSpPr/>
          <p:nvPr/>
        </p:nvSpPr>
        <p:spPr>
          <a:xfrm>
            <a:off x="7416720" y="5850000"/>
            <a:ext cx="971640" cy="492120"/>
          </a:xfrm>
          <a:prstGeom prst="pie">
            <a:avLst/>
          </a:prstGeom>
          <a:solidFill>
            <a:srgbClr val="ffcf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"/>
          <p:cNvSpPr/>
          <p:nvPr/>
        </p:nvSpPr>
        <p:spPr>
          <a:xfrm>
            <a:off x="0" y="566100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9" name=""/>
          <p:cNvGrpSpPr/>
          <p:nvPr/>
        </p:nvGrpSpPr>
        <p:grpSpPr>
          <a:xfrm>
            <a:off x="7351560" y="5829480"/>
            <a:ext cx="1078200" cy="506160"/>
            <a:chOff x="7351560" y="5829480"/>
            <a:chExt cx="1078200" cy="506160"/>
          </a:xfrm>
        </p:grpSpPr>
        <p:pic>
          <p:nvPicPr>
            <p:cNvPr id="1750" name="" descr=""/>
            <p:cNvPicPr/>
            <p:nvPr/>
          </p:nvPicPr>
          <p:blipFill>
            <a:blip r:embed="rId1"/>
            <a:stretch/>
          </p:blipFill>
          <p:spPr>
            <a:xfrm>
              <a:off x="7351560" y="5829480"/>
              <a:ext cx="107820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1" name=""/>
            <p:cNvSpPr/>
            <p:nvPr/>
          </p:nvSpPr>
          <p:spPr>
            <a:xfrm>
              <a:off x="7351560" y="5829480"/>
              <a:ext cx="107820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9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Определения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понятий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физического и информационного «процесс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3" name=""/>
          <p:cNvSpPr/>
          <p:nvPr/>
        </p:nvSpPr>
        <p:spPr>
          <a:xfrm>
            <a:off x="971640" y="2597040"/>
            <a:ext cx="6048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9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Процесс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в ПО) детерминированное изменение во времени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вектора  физических  параметров.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"/>
          <p:cNvSpPr/>
          <p:nvPr/>
        </p:nvSpPr>
        <p:spPr>
          <a:xfrm>
            <a:off x="971640" y="4363560"/>
            <a:ext cx="77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9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Процесс</a:t>
            </a: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 ИУС) независимое от времени           и пространства дискретизированное отображение     в информационно-управляющей системе изменяющегося во времени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деленного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ектора  рецепторов.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"/>
          <p:cNvSpPr/>
          <p:nvPr/>
        </p:nvSpPr>
        <p:spPr>
          <a:xfrm>
            <a:off x="1042920" y="1995480"/>
            <a:ext cx="712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84240" indent="-984240">
              <a:tabLst>
                <a:tab algn="l" pos="0"/>
                <a:tab algn="l" pos="209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Процес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от лат. processus - продвижение) - это последовательная смена явлений, состояний в развитии чего-либо.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DEBE-5142-4D93-913B-51A234C3DD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1582560" y="214200"/>
            <a:ext cx="69501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Определения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понятий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"образ"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"информация"</a:t>
            </a: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"знание"</a:t>
            </a: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на базе физического понятия «процесс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899640" y="4365360"/>
            <a:ext cx="7775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Образ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ПО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вычлененная ИУС  знаковая последовательность ТФ, тождественная целому числу причинно-связанных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процессо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емантическая единиц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9" name=""/>
          <p:cNvGrpSpPr/>
          <p:nvPr/>
        </p:nvGrpSpPr>
        <p:grpSpPr>
          <a:xfrm>
            <a:off x="1692360" y="3206880"/>
            <a:ext cx="4968720" cy="1279080"/>
            <a:chOff x="1692360" y="3206880"/>
            <a:chExt cx="4968720" cy="1279080"/>
          </a:xfrm>
        </p:grpSpPr>
        <p:sp>
          <p:nvSpPr>
            <p:cNvPr id="1760" name="Rectangle 4"/>
            <p:cNvSpPr/>
            <p:nvPr/>
          </p:nvSpPr>
          <p:spPr>
            <a:xfrm>
              <a:off x="1692360" y="3206880"/>
              <a:ext cx="496872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Tahoma"/>
                </a:rPr>
                <a:t>	</a:t>
              </a:r>
              <a:r>
                <a:rPr b="1" lang="en-US" sz="1800" spc="-1" strike="noStrike">
                  <a:solidFill>
                    <a:srgbClr val="339933"/>
                  </a:solidFill>
                  <a:latin typeface="Tahoma"/>
                </a:rPr>
                <a:t>         </a:t>
              </a:r>
              <a:r>
                <a:rPr b="1" lang="en-US" sz="1800" spc="-1" strike="noStrike">
                  <a:solidFill>
                    <a:srgbClr val="339933"/>
                  </a:solidFill>
                  <a:latin typeface="Tahoma"/>
                </a:rPr>
                <a:t>процесс А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    …</a:t>
              </a:r>
              <a:r>
                <a:rPr b="1" lang="en-US" sz="1800" spc="-1" strike="noStrike">
                  <a:solidFill>
                    <a:srgbClr val="cc6600"/>
                  </a:solidFill>
                  <a:latin typeface="Tahoma"/>
                </a:rPr>
                <a:t>КЛОН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ЭРМИТАЖ</a:t>
              </a:r>
              <a:r>
                <a:rPr b="1" lang="en-US" sz="1800" spc="-1" strike="noStrike">
                  <a:solidFill>
                    <a:srgbClr val="cc6600"/>
                  </a:solidFill>
                  <a:latin typeface="Tahoma"/>
                </a:rPr>
                <a:t>УКЛОН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ЭРМИ</a:t>
              </a:r>
              <a:r>
                <a:rPr b="1" lang="en-US" sz="1800" spc="-1" strike="noStrike">
                  <a:solidFill>
                    <a:srgbClr val="ff6600"/>
                  </a:solidFill>
                  <a:latin typeface="Tahoma"/>
                </a:rPr>
                <a:t>…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                   </a:t>
              </a:r>
              <a:r>
                <a:rPr b="1" lang="en-US" sz="1800" spc="-1" strike="noStrike">
                  <a:solidFill>
                    <a:srgbClr val="333399"/>
                  </a:solidFill>
                  <a:latin typeface="Tahoma"/>
                </a:rPr>
                <a:t>образ А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1" name="Line 11"/>
            <p:cNvSpPr/>
            <p:nvPr/>
          </p:nvSpPr>
          <p:spPr>
            <a:xfrm flipV="1">
              <a:off x="3276360" y="378324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2" name="Line 12"/>
            <p:cNvSpPr/>
            <p:nvPr/>
          </p:nvSpPr>
          <p:spPr>
            <a:xfrm flipV="1">
              <a:off x="4500360" y="37832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3" name="Rectangle 15"/>
            <p:cNvSpPr/>
            <p:nvPr/>
          </p:nvSpPr>
          <p:spPr>
            <a:xfrm>
              <a:off x="3042720" y="3999240"/>
              <a:ext cx="173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1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t2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900000" y="2205000"/>
            <a:ext cx="64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игна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произвольный отрезок Т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арактеристика свойств потока ТФ)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4"/>
          <p:cNvSpPr/>
          <p:nvPr/>
        </p:nvSpPr>
        <p:spPr>
          <a:xfrm>
            <a:off x="250920" y="622440"/>
            <a:ext cx="8642160" cy="58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Информация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ПО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чинно-связанная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lt;X, Y, E+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ледовательность образов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еятельностная единица ИУС)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Знание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ПО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(S),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ИУС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чинн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язанное 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+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ъединение в НС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образ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о П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образам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о состоянии ИУ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емантические закономерности)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Знание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ahoma"/>
              </a:rPr>
              <a:t>i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ПО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(S),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ИУС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(S)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,…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ИУС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(S)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ahoma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6" name="Object 5"/>
          <p:cNvGraphicFramePr/>
          <p:nvPr/>
        </p:nvGraphicFramePr>
        <p:xfrm>
          <a:off x="6443640" y="2997360"/>
          <a:ext cx="24480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2997360"/>
                    <a:ext cx="24480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8" name="Object 7"/>
          <p:cNvGraphicFramePr/>
          <p:nvPr/>
        </p:nvGraphicFramePr>
        <p:xfrm>
          <a:off x="6227640" y="1060560"/>
          <a:ext cx="2668680" cy="9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1060560"/>
                    <a:ext cx="26686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F107-D7AF-4EB9-97BC-64BD4F92CE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20072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Информационный ресурс:</a:t>
            </a:r>
            <a:br>
              <a:rPr sz="36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"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сигнал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информация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нание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6048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сигна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",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*t +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9933"/>
                </a:solidFill>
                <a:latin typeface="Tahoma"/>
              </a:rPr>
              <a:t>Сигнал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остая суперпозиция </a:t>
            </a:r>
            <a:r>
              <a:rPr b="1" lang="ru-RU" sz="1600" spc="-1" strike="noStrike">
                <a:solidFill>
                  <a:srgbClr val="339933"/>
                </a:solidFill>
                <a:latin typeface="Tahoma"/>
              </a:rPr>
              <a:t>ЭСЕ ПО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ическ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информаци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(t) +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Информация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– знаковая последовательность на языке системы, соответствующая </a:t>
            </a: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целому числу причинно-связанных процессов ПО, т.е. ЭС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Данные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орматированная под ПО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информац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 +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Знание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вокупность ЭСЕ, отражающих одновременно процессы ПО и процессы в самой  И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1042920" y="1890000"/>
            <a:ext cx="539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const (t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И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И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)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4" name="Group 5"/>
          <p:cNvGrpSpPr/>
          <p:nvPr/>
        </p:nvGrpSpPr>
        <p:grpSpPr>
          <a:xfrm>
            <a:off x="6323040" y="3719520"/>
            <a:ext cx="2280960" cy="1307160"/>
            <a:chOff x="6323040" y="3719520"/>
            <a:chExt cx="2280960" cy="1307160"/>
          </a:xfrm>
        </p:grpSpPr>
        <p:sp>
          <p:nvSpPr>
            <p:cNvPr id="1775" name="Arc 6"/>
            <p:cNvSpPr/>
            <p:nvPr/>
          </p:nvSpPr>
          <p:spPr>
            <a:xfrm flipH="1">
              <a:off x="6765840" y="4116240"/>
              <a:ext cx="1411200" cy="495360"/>
            </a:xfrm>
            <a:prstGeom prst="pie">
              <a:avLst/>
            </a:prstGeom>
            <a:noFill/>
            <a:ln w="381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76" name="Group 7"/>
            <p:cNvGrpSpPr/>
            <p:nvPr/>
          </p:nvGrpSpPr>
          <p:grpSpPr>
            <a:xfrm>
              <a:off x="6323040" y="3719520"/>
              <a:ext cx="2280960" cy="1307160"/>
              <a:chOff x="6323040" y="3719520"/>
              <a:chExt cx="2280960" cy="1307160"/>
            </a:xfrm>
          </p:grpSpPr>
          <p:grpSp>
            <p:nvGrpSpPr>
              <p:cNvPr id="1777" name="Group 8"/>
              <p:cNvGrpSpPr/>
              <p:nvPr/>
            </p:nvGrpSpPr>
            <p:grpSpPr>
              <a:xfrm>
                <a:off x="6323040" y="3719520"/>
                <a:ext cx="2280960" cy="1090440"/>
                <a:chOff x="6323040" y="3719520"/>
                <a:chExt cx="2280960" cy="1090440"/>
              </a:xfrm>
            </p:grpSpPr>
            <p:grpSp>
              <p:nvGrpSpPr>
                <p:cNvPr id="1778" name="Group 9"/>
                <p:cNvGrpSpPr/>
                <p:nvPr/>
              </p:nvGrpSpPr>
              <p:grpSpPr>
                <a:xfrm>
                  <a:off x="6775200" y="3719520"/>
                  <a:ext cx="1828800" cy="992160"/>
                  <a:chOff x="6775200" y="3719520"/>
                  <a:chExt cx="1828800" cy="992160"/>
                </a:xfrm>
              </p:grpSpPr>
              <p:sp>
                <p:nvSpPr>
                  <p:cNvPr id="1779" name="Line 10"/>
                  <p:cNvSpPr/>
                  <p:nvPr/>
                </p:nvSpPr>
                <p:spPr>
                  <a:xfrm flipV="1">
                    <a:off x="6775200" y="3719520"/>
                    <a:ext cx="0" cy="99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0" name="Line 11"/>
                  <p:cNvSpPr/>
                  <p:nvPr/>
                </p:nvSpPr>
                <p:spPr>
                  <a:xfrm>
                    <a:off x="6775200" y="4711680"/>
                    <a:ext cx="18288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781" name="Text Box 12"/>
                <p:cNvSpPr/>
                <p:nvPr/>
              </p:nvSpPr>
              <p:spPr>
                <a:xfrm>
                  <a:off x="8129520" y="4413240"/>
                  <a:ext cx="28260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2" name="Text Box 13"/>
                <p:cNvSpPr/>
                <p:nvPr/>
              </p:nvSpPr>
              <p:spPr>
                <a:xfrm>
                  <a:off x="6323040" y="3719520"/>
                  <a:ext cx="507960" cy="4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ИС</a:t>
                  </a: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83" name="Rectangle 14"/>
              <p:cNvSpPr/>
              <p:nvPr/>
            </p:nvSpPr>
            <p:spPr>
              <a:xfrm>
                <a:off x="7846560" y="4725360"/>
                <a:ext cx="533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ru-RU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ИС</a:t>
                </a: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784" name="Group 15"/>
          <p:cNvGrpSpPr/>
          <p:nvPr/>
        </p:nvGrpSpPr>
        <p:grpSpPr>
          <a:xfrm>
            <a:off x="6284880" y="5009760"/>
            <a:ext cx="2247840" cy="1312200"/>
            <a:chOff x="6284880" y="5009760"/>
            <a:chExt cx="2247840" cy="1312200"/>
          </a:xfrm>
        </p:grpSpPr>
        <p:sp>
          <p:nvSpPr>
            <p:cNvPr id="1785" name="Freeform 16"/>
            <p:cNvSpPr/>
            <p:nvPr/>
          </p:nvSpPr>
          <p:spPr>
            <a:xfrm>
              <a:off x="6746760" y="5402160"/>
              <a:ext cx="1563840" cy="405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6" name="Group 17"/>
            <p:cNvGrpSpPr/>
            <p:nvPr/>
          </p:nvGrpSpPr>
          <p:grpSpPr>
            <a:xfrm>
              <a:off x="6745320" y="5009760"/>
              <a:ext cx="1787400" cy="995760"/>
              <a:chOff x="6745320" y="5009760"/>
              <a:chExt cx="1787400" cy="995760"/>
            </a:xfrm>
          </p:grpSpPr>
          <p:sp>
            <p:nvSpPr>
              <p:cNvPr id="1787" name="Line 18"/>
              <p:cNvSpPr/>
              <p:nvPr/>
            </p:nvSpPr>
            <p:spPr>
              <a:xfrm flipV="1">
                <a:off x="6745320" y="5009760"/>
                <a:ext cx="0" cy="99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8" name="Line 19"/>
              <p:cNvSpPr/>
              <p:nvPr/>
            </p:nvSpPr>
            <p:spPr>
              <a:xfrm>
                <a:off x="6745320" y="6005520"/>
                <a:ext cx="178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89" name="Text Box 20"/>
            <p:cNvSpPr/>
            <p:nvPr/>
          </p:nvSpPr>
          <p:spPr>
            <a:xfrm>
              <a:off x="8128080" y="5707080"/>
              <a:ext cx="287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0" name="Text Box 21"/>
            <p:cNvSpPr/>
            <p:nvPr/>
          </p:nvSpPr>
          <p:spPr>
            <a:xfrm>
              <a:off x="6284880" y="5010120"/>
              <a:ext cx="51768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ИС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1" name="Rectangle 22"/>
            <p:cNvSpPr/>
            <p:nvPr/>
          </p:nvSpPr>
          <p:spPr>
            <a:xfrm>
              <a:off x="7805880" y="6020640"/>
              <a:ext cx="533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ИС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2" name="Group 23"/>
          <p:cNvGrpSpPr/>
          <p:nvPr/>
        </p:nvGrpSpPr>
        <p:grpSpPr>
          <a:xfrm>
            <a:off x="6238800" y="2244240"/>
            <a:ext cx="2725920" cy="1485360"/>
            <a:chOff x="6238800" y="2244240"/>
            <a:chExt cx="2725920" cy="1485360"/>
          </a:xfrm>
        </p:grpSpPr>
        <p:sp>
          <p:nvSpPr>
            <p:cNvPr id="1793" name="Text Box 24"/>
            <p:cNvSpPr/>
            <p:nvPr/>
          </p:nvSpPr>
          <p:spPr>
            <a:xfrm>
              <a:off x="8221680" y="3071520"/>
              <a:ext cx="3110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94" name="Group 25"/>
            <p:cNvGrpSpPr/>
            <p:nvPr/>
          </p:nvGrpSpPr>
          <p:grpSpPr>
            <a:xfrm>
              <a:off x="6238800" y="2244240"/>
              <a:ext cx="2725920" cy="1485360"/>
              <a:chOff x="6238800" y="2244240"/>
              <a:chExt cx="2725920" cy="1485360"/>
            </a:xfrm>
          </p:grpSpPr>
          <p:sp>
            <p:nvSpPr>
              <p:cNvPr id="1795" name="Line 26"/>
              <p:cNvSpPr/>
              <p:nvPr/>
            </p:nvSpPr>
            <p:spPr>
              <a:xfrm flipV="1">
                <a:off x="6754680" y="2565000"/>
                <a:ext cx="1524240" cy="37800"/>
              </a:xfrm>
              <a:prstGeom prst="line">
                <a:avLst/>
              </a:prstGeom>
              <a:ln w="38160">
                <a:solidFill>
                  <a:srgbClr val="ffcf0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96" name="Group 27"/>
              <p:cNvGrpSpPr/>
              <p:nvPr/>
            </p:nvGrpSpPr>
            <p:grpSpPr>
              <a:xfrm>
                <a:off x="6238800" y="2244240"/>
                <a:ext cx="2725920" cy="1485360"/>
                <a:chOff x="6238800" y="2244240"/>
                <a:chExt cx="2725920" cy="1485360"/>
              </a:xfrm>
            </p:grpSpPr>
            <p:sp>
              <p:nvSpPr>
                <p:cNvPr id="1797" name="Line 28"/>
                <p:cNvSpPr/>
                <p:nvPr/>
              </p:nvSpPr>
              <p:spPr>
                <a:xfrm flipV="1">
                  <a:off x="6737400" y="2244240"/>
                  <a:ext cx="1581120" cy="925560"/>
                </a:xfrm>
                <a:prstGeom prst="line">
                  <a:avLst/>
                </a:prstGeom>
                <a:ln w="381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798" name="Group 29"/>
                <p:cNvGrpSpPr/>
                <p:nvPr/>
              </p:nvGrpSpPr>
              <p:grpSpPr>
                <a:xfrm>
                  <a:off x="6737400" y="2383920"/>
                  <a:ext cx="1806480" cy="981360"/>
                  <a:chOff x="6737400" y="2383920"/>
                  <a:chExt cx="1806480" cy="981360"/>
                </a:xfrm>
              </p:grpSpPr>
              <p:sp>
                <p:nvSpPr>
                  <p:cNvPr id="1799" name="Line 30"/>
                  <p:cNvSpPr/>
                  <p:nvPr/>
                </p:nvSpPr>
                <p:spPr>
                  <a:xfrm flipV="1">
                    <a:off x="6737400" y="2383920"/>
                    <a:ext cx="0" cy="981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0" name="Line 31"/>
                  <p:cNvSpPr/>
                  <p:nvPr/>
                </p:nvSpPr>
                <p:spPr>
                  <a:xfrm>
                    <a:off x="6737400" y="3365280"/>
                    <a:ext cx="1806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801" name="Text Box 32"/>
                <p:cNvSpPr/>
                <p:nvPr/>
              </p:nvSpPr>
              <p:spPr>
                <a:xfrm>
                  <a:off x="6238800" y="2384280"/>
                  <a:ext cx="56052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И</a:t>
                  </a:r>
                  <a:r>
                    <a:rPr b="0" lang="ru-RU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С</a:t>
                  </a: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(бит)</a:t>
                  </a: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2" name="Rectangle 33"/>
                <p:cNvSpPr/>
                <p:nvPr/>
              </p:nvSpPr>
              <p:spPr>
                <a:xfrm>
                  <a:off x="7858080" y="3428280"/>
                  <a:ext cx="11066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ru-RU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ИС </a:t>
                  </a: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(бит)</a:t>
                  </a:r>
                  <a:endParaRPr b="1" i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3" name="Text Box 34"/>
                <p:cNvSpPr/>
                <p:nvPr/>
              </p:nvSpPr>
              <p:spPr>
                <a:xfrm>
                  <a:off x="6842160" y="2279520"/>
                  <a:ext cx="207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Память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    ИС</a:t>
                  </a: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6F66-A198-4DCE-AB5E-2FE18CEC43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Отображение </a:t>
            </a:r>
            <a:r>
              <a:rPr b="0" lang="en-US" sz="3600" spc="-1" strike="noStrike">
                <a:solidFill>
                  <a:srgbClr val="339933"/>
                </a:solidFill>
                <a:latin typeface="Tahoma"/>
              </a:rPr>
              <a:t>информационного ресурса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тремя  классами  ИУС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06" name="Group 3"/>
          <p:cNvGrpSpPr/>
          <p:nvPr/>
        </p:nvGrpSpPr>
        <p:grpSpPr>
          <a:xfrm>
            <a:off x="1692000" y="3645000"/>
            <a:ext cx="412920" cy="71280"/>
            <a:chOff x="1692000" y="3645000"/>
            <a:chExt cx="412920" cy="71280"/>
          </a:xfrm>
        </p:grpSpPr>
        <p:sp>
          <p:nvSpPr>
            <p:cNvPr id="1807" name="Line 4"/>
            <p:cNvSpPr/>
            <p:nvPr/>
          </p:nvSpPr>
          <p:spPr>
            <a:xfrm flipH="1">
              <a:off x="1746360" y="369432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Oval 5"/>
            <p:cNvSpPr/>
            <p:nvPr/>
          </p:nvSpPr>
          <p:spPr>
            <a:xfrm flipH="1">
              <a:off x="1691640" y="3645000"/>
              <a:ext cx="73080" cy="71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9" name="Group 6"/>
          <p:cNvGrpSpPr/>
          <p:nvPr/>
        </p:nvGrpSpPr>
        <p:grpSpPr>
          <a:xfrm>
            <a:off x="1657080" y="5407200"/>
            <a:ext cx="1551240" cy="71280"/>
            <a:chOff x="1657080" y="5407200"/>
            <a:chExt cx="1551240" cy="71280"/>
          </a:xfrm>
        </p:grpSpPr>
        <p:sp>
          <p:nvSpPr>
            <p:cNvPr id="1810" name="Line 7"/>
            <p:cNvSpPr/>
            <p:nvPr/>
          </p:nvSpPr>
          <p:spPr>
            <a:xfrm flipH="1" flipV="1">
              <a:off x="1711440" y="5459040"/>
              <a:ext cx="14968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Oval 8"/>
            <p:cNvSpPr/>
            <p:nvPr/>
          </p:nvSpPr>
          <p:spPr>
            <a:xfrm flipH="1">
              <a:off x="1656720" y="5407200"/>
              <a:ext cx="73080" cy="71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2" name="Group 9"/>
          <p:cNvGrpSpPr/>
          <p:nvPr/>
        </p:nvGrpSpPr>
        <p:grpSpPr>
          <a:xfrm>
            <a:off x="1692000" y="4543560"/>
            <a:ext cx="412920" cy="71280"/>
            <a:chOff x="1692000" y="4543560"/>
            <a:chExt cx="412920" cy="71280"/>
          </a:xfrm>
        </p:grpSpPr>
        <p:sp>
          <p:nvSpPr>
            <p:cNvPr id="1813" name="Line 10"/>
            <p:cNvSpPr/>
            <p:nvPr/>
          </p:nvSpPr>
          <p:spPr>
            <a:xfrm flipH="1">
              <a:off x="1746360" y="458136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Oval 11"/>
            <p:cNvSpPr/>
            <p:nvPr/>
          </p:nvSpPr>
          <p:spPr>
            <a:xfrm flipH="1">
              <a:off x="1691640" y="4543560"/>
              <a:ext cx="73080" cy="71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815" name=""/>
          <p:cNvGraphicFramePr/>
          <p:nvPr/>
        </p:nvGraphicFramePr>
        <p:xfrm>
          <a:off x="4427640" y="2924280"/>
          <a:ext cx="4105080" cy="316872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836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Сигнал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Сигнал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Сигнал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6"/>
                    </a:solidFill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Сигнал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Инфор- мация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Инфор- мация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ffff"/>
                    </a:solidFill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Сигнал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Инфор- мация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Знание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e6"/>
                    </a:solidFill>
                  </a:tcPr>
                </a:tc>
              </a:tr>
            </a:tbl>
          </a:graphicData>
        </a:graphic>
      </p:graphicFrame>
      <p:sp>
        <p:nvSpPr>
          <p:cNvPr id="1816" name="Text Box 30"/>
          <p:cNvSpPr/>
          <p:nvPr/>
        </p:nvSpPr>
        <p:spPr>
          <a:xfrm>
            <a:off x="4211640" y="2421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втомат    "животн."  "ИУС-человек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31"/>
          <p:cNvSpPr/>
          <p:nvPr/>
        </p:nvSpPr>
        <p:spPr>
          <a:xfrm>
            <a:off x="1763640" y="3370320"/>
            <a:ext cx="194328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Ш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С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"Телесериал"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еальный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2340000" y="3213000"/>
            <a:ext cx="863640" cy="460440"/>
          </a:xfrm>
          <a:prstGeom prst="pie">
            <a:avLst/>
          </a:prstGeom>
          <a:noFill/>
          <a:ln w="2844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2340000" y="4365720"/>
            <a:ext cx="974880" cy="250560"/>
          </a:xfrm>
          <a:prstGeom prst="pie">
            <a:avLst/>
          </a:prstGeom>
          <a:noFill/>
          <a:ln w="2844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Text Box 34"/>
          <p:cNvSpPr/>
          <p:nvPr/>
        </p:nvSpPr>
        <p:spPr>
          <a:xfrm>
            <a:off x="3276720" y="3357720"/>
            <a:ext cx="12952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Tahoma"/>
              </a:rPr>
              <a:t>bsejgr…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Tahoma"/>
              </a:rPr>
              <a:t>abcabc...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Tahoma"/>
              </a:rPr>
              <a:t>Mather…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1" name="Group 35"/>
          <p:cNvGrpSpPr/>
          <p:nvPr/>
        </p:nvGrpSpPr>
        <p:grpSpPr>
          <a:xfrm>
            <a:off x="-468360" y="3429000"/>
            <a:ext cx="2176200" cy="1440000"/>
            <a:chOff x="-468360" y="3429000"/>
            <a:chExt cx="2176200" cy="1440000"/>
          </a:xfrm>
        </p:grpSpPr>
        <p:sp>
          <p:nvSpPr>
            <p:cNvPr id="1822" name="Oval 36"/>
            <p:cNvSpPr/>
            <p:nvPr/>
          </p:nvSpPr>
          <p:spPr>
            <a:xfrm>
              <a:off x="1023840" y="4168800"/>
              <a:ext cx="73080" cy="71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23" name="Group 37"/>
            <p:cNvGrpSpPr/>
            <p:nvPr/>
          </p:nvGrpSpPr>
          <p:grpSpPr>
            <a:xfrm>
              <a:off x="-468360" y="3429000"/>
              <a:ext cx="2176200" cy="1440000"/>
              <a:chOff x="-468360" y="3429000"/>
              <a:chExt cx="2176200" cy="1440000"/>
            </a:xfrm>
          </p:grpSpPr>
          <p:sp>
            <p:nvSpPr>
              <p:cNvPr id="1824" name="Oval 38"/>
              <p:cNvSpPr/>
              <p:nvPr/>
            </p:nvSpPr>
            <p:spPr>
              <a:xfrm>
                <a:off x="-468360" y="3429000"/>
                <a:ext cx="1152720" cy="14400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5" name="Oval 39"/>
              <p:cNvSpPr/>
              <p:nvPr/>
            </p:nvSpPr>
            <p:spPr>
              <a:xfrm>
                <a:off x="539640" y="4005360"/>
                <a:ext cx="14472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6" name="Line 40"/>
              <p:cNvSpPr/>
              <p:nvPr/>
            </p:nvSpPr>
            <p:spPr>
              <a:xfrm>
                <a:off x="684360" y="422136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7" name="Text Box 41"/>
              <p:cNvSpPr/>
              <p:nvPr/>
            </p:nvSpPr>
            <p:spPr>
              <a:xfrm>
                <a:off x="0" y="40053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ПО</a:t>
                </a: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8" name="Line 42"/>
              <p:cNvSpPr/>
              <p:nvPr/>
            </p:nvSpPr>
            <p:spPr>
              <a:xfrm flipV="1">
                <a:off x="1062000" y="3811320"/>
                <a:ext cx="539280" cy="39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9" name="Oval 43"/>
              <p:cNvSpPr/>
              <p:nvPr/>
            </p:nvSpPr>
            <p:spPr>
              <a:xfrm rot="19416600">
                <a:off x="1541520" y="3692160"/>
                <a:ext cx="136440" cy="14472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704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i="1" lang="ru-RU" sz="2200" spc="-1" strike="noStrike">
                <a:solidFill>
                  <a:srgbClr val="3333ff"/>
                </a:solidFill>
                <a:latin typeface="Times New Roman"/>
              </a:rPr>
              <a:t>ИНФОРМАЦИЕЙ</a:t>
            </a:r>
            <a:r>
              <a:rPr b="0" lang="ru-RU" sz="22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i="1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339933"/>
                </a:solidFill>
                <a:latin typeface="Times New Roman"/>
              </a:rPr>
              <a:t>различные источники называю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любые сведения о каких-либо ранее неизвестных объектах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одержательное описание объекта или явления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результат выбора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одержание сигнала, сообщения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меру разнообразия, отраженное разнообразие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ущность, сохраняющуюся при вычислительном изоморфизме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меньшаемую неопределенность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меру сложности структур, меру организации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результат отражения реальности в сознании человека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емантику и прагматику языка представления данных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трибут материи </a:t>
            </a:r>
            <a:r>
              <a:rPr b="0" i="1" lang="ru-RU" sz="2200" spc="-1" strike="noStrike">
                <a:solidFill>
                  <a:srgbClr val="3333cc"/>
                </a:solidFill>
                <a:latin typeface="Times New Roman"/>
              </a:rPr>
              <a:t>и многое, и многое другое …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о сих пор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не существует строгого научного определе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333ff"/>
                </a:solidFill>
                <a:latin typeface="Times New Roman"/>
              </a:rPr>
              <a:t>"информации"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Не определена и область применения этого понятия. Часто информацию рассматривают как форму отражения, но является ли она свойством всех материальных объектов, или только живых и самоуправляющихся, или присуща только сознательным существам, единого мнения нет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В эпоху информационных технологий ответы на эти вопросы становятся ещё более актуальным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амом обобщенном понимании </a:t>
            </a:r>
            <a:r>
              <a:rPr b="0" lang="ru-RU" sz="22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</a:rPr>
              <a:t>информация</a:t>
            </a:r>
            <a:r>
              <a:rPr b="0" lang="ru-RU" sz="22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339933"/>
                </a:solidFill>
                <a:latin typeface="Times New Roman"/>
              </a:rPr>
              <a:t>это обмен сигналами между материальными образованиям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32000" y="1197000"/>
            <a:ext cx="6624720" cy="1224000"/>
          </a:xfrm>
          <a:prstGeom prst="ellipse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320760"/>
            <a:ext cx="6534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ahoma"/>
              </a:rPr>
              <a:t>Стратегия  разработки  ИР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157320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«Сильный ИИ»  (способный  к  саморазвитию), «Искусственный  разум» (ИР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734080"/>
            <a:ext cx="5832720" cy="208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3133800" y="5950080"/>
            <a:ext cx="2950920" cy="703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оизвольная предметная  область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4791240"/>
            <a:ext cx="31687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йросемантика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72000" y="5227200"/>
            <a:ext cx="1440" cy="72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28960" y="2347920"/>
            <a:ext cx="22320" cy="2378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435640" y="2347560"/>
            <a:ext cx="1440" cy="2405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2997360"/>
            <a:ext cx="2160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нтеллектуальные регуляторы,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оботы, 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управление,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…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2924280"/>
            <a:ext cx="302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лабоструктурированные текстовые потоки,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нтернет,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анализ данных,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…</a:t>
            </a:r>
            <a:endParaRPr b="1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 flipH="1" rot="21360000">
            <a:off x="686880" y="1858680"/>
            <a:ext cx="3454560" cy="4773600"/>
          </a:xfrm>
          <a:custGeom>
            <a:avLst/>
            <a:gdLst>
              <a:gd name="textAreaLeft" fmla="*/ 1727280 w 3454560"/>
              <a:gd name="textAreaRight" fmla="*/ 3454560 w 3454560"/>
              <a:gd name="textAreaTop" fmla="*/ 0 h 4773600"/>
              <a:gd name="textAreaBottom" fmla="*/ 4742280 h 47736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1028616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286166"/>
              </a:path>
            </a:pathLst>
          </a:custGeom>
          <a:noFill/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 rot="240000">
            <a:off x="5151240" y="1851120"/>
            <a:ext cx="3454200" cy="4773600"/>
          </a:xfrm>
          <a:custGeom>
            <a:avLst/>
            <a:gdLst>
              <a:gd name="textAreaLeft" fmla="*/ 1726920 w 3454200"/>
              <a:gd name="textAreaRight" fmla="*/ 3454200 w 3454200"/>
              <a:gd name="textAreaTop" fmla="*/ 0 h 4773600"/>
              <a:gd name="textAreaBottom" fmla="*/ 4742280 h 47736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1028616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286166"/>
              </a:path>
            </a:pathLst>
          </a:custGeom>
          <a:noFill/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"/>
          <p:cNvSpPr/>
          <p:nvPr/>
        </p:nvSpPr>
        <p:spPr>
          <a:xfrm>
            <a:off x="468360" y="333360"/>
            <a:ext cx="691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Направление ИУС на базе нейросемантической парадигмы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"/>
          <p:cNvSpPr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"/>
          <p:cNvSpPr/>
          <p:nvPr/>
        </p:nvSpPr>
        <p:spPr>
          <a:xfrm>
            <a:off x="7308720" y="692280"/>
            <a:ext cx="1193760" cy="1412640"/>
          </a:xfrm>
          <a:prstGeom prst="pie">
            <a:avLst/>
          </a:prstGeom>
          <a:solidFill>
            <a:srgbClr val="00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5" name=""/>
          <p:cNvSpPr/>
          <p:nvPr/>
        </p:nvSpPr>
        <p:spPr>
          <a:xfrm>
            <a:off x="539640" y="1557360"/>
            <a:ext cx="84250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 фон Неймановская архитектура;</a:t>
            </a:r>
            <a:endParaRPr b="1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аксимальная распараллеливаемость и компрессия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предпочтительность логических, а н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ычислительных операций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программно-аппаратная и чисто аппаратная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сс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ализации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if&lt;</a:t>
            </a:r>
            <a:r>
              <a:rPr b="1" lang="en-GB" sz="2200" spc="-1" strike="noStrike" u="sng">
                <a:solidFill>
                  <a:srgbClr val="336600"/>
                </a:solidFill>
                <a:uFillTx/>
                <a:latin typeface="Times New Roman"/>
                <a:ea typeface="Lucida Sans Unicode"/>
              </a:rPr>
              <a:t>s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&gt; then&lt;</a:t>
            </a:r>
            <a:r>
              <a:rPr b="1" lang="en-GB" sz="2200" spc="-1" strike="noStrike" u="sng">
                <a:solidFill>
                  <a:srgbClr val="3333cc"/>
                </a:solidFill>
                <a:uFillTx/>
                <a:latin typeface="Times New Roman"/>
                <a:ea typeface="Lucida Sans Unicode"/>
              </a:rPr>
              <a:t>f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&gt; &lt;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Lucida Sans Unicode"/>
              </a:rPr>
              <a:t>e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&gt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новая операционная система (ОС): &lt;</a:t>
            </a:r>
            <a:r>
              <a:rPr b="1" lang="en-GB" sz="2200" spc="-1" strike="noStrike">
                <a:solidFill>
                  <a:srgbClr val="336600"/>
                </a:solidFill>
                <a:latin typeface="Times New Roman"/>
                <a:ea typeface="Lucida Sans Unicode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gt;&l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gt;&lt;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gt;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легко создающийся программно-вычислительный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сс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мплекс обеспечения пользователя под данную ОС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не подверженность компьютерным вирусам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возможность полной автоматизации известных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сс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гнитивных процессов и создания искусственного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сс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азума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…  .</a:t>
            </a:r>
            <a:endParaRPr b="1" i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6" name=""/>
          <p:cNvSpPr/>
          <p:nvPr/>
        </p:nvSpPr>
        <p:spPr>
          <a:xfrm>
            <a:off x="191880" y="15573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Это: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Адаптивные системы передачи данных на базе нейросемантической сре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8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9" name=""/>
          <p:cNvGraphicFramePr/>
          <p:nvPr/>
        </p:nvGraphicFramePr>
        <p:xfrm>
          <a:off x="1116000" y="1916280"/>
          <a:ext cx="756144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56144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оле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контекста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нейросемантических  структур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2" name="Text Box 4"/>
          <p:cNvSpPr/>
          <p:nvPr/>
        </p:nvSpPr>
        <p:spPr>
          <a:xfrm>
            <a:off x="612720" y="1411200"/>
            <a:ext cx="237492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струментарий информационной экономики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Rectangle 12"/>
          <p:cNvSpPr/>
          <p:nvPr/>
        </p:nvSpPr>
        <p:spPr>
          <a:xfrm>
            <a:off x="2163240" y="2717640"/>
            <a:ext cx="10569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С регу-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яторы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Rectangle 13"/>
          <p:cNvSpPr/>
          <p:nvPr/>
        </p:nvSpPr>
        <p:spPr>
          <a:xfrm>
            <a:off x="757080" y="4938840"/>
            <a:ext cx="1806840" cy="64260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йросемантика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теория)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Rectangle 14"/>
          <p:cNvSpPr/>
          <p:nvPr/>
        </p:nvSpPr>
        <p:spPr>
          <a:xfrm>
            <a:off x="546840" y="4003560"/>
            <a:ext cx="2305080" cy="642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йросемантические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руктуры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Rectangle 15"/>
          <p:cNvSpPr/>
          <p:nvPr/>
        </p:nvSpPr>
        <p:spPr>
          <a:xfrm>
            <a:off x="242640" y="2717640"/>
            <a:ext cx="17658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кусственный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ум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Rectangle 17"/>
          <p:cNvSpPr/>
          <p:nvPr/>
        </p:nvSpPr>
        <p:spPr>
          <a:xfrm>
            <a:off x="3299760" y="1411200"/>
            <a:ext cx="24393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моразвивающиеся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ц.-экономические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уктуры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Rectangle 18"/>
          <p:cNvSpPr/>
          <p:nvPr/>
        </p:nvSpPr>
        <p:spPr>
          <a:xfrm>
            <a:off x="3812760" y="2717640"/>
            <a:ext cx="152964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формоград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ОГАС»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Rectangle 19"/>
          <p:cNvSpPr/>
          <p:nvPr/>
        </p:nvSpPr>
        <p:spPr>
          <a:xfrm>
            <a:off x="6032880" y="1411200"/>
            <a:ext cx="2568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ТП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Фазовый переход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«проблема 2030 года»)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Rectangle 20"/>
          <p:cNvSpPr/>
          <p:nvPr/>
        </p:nvSpPr>
        <p:spPr>
          <a:xfrm>
            <a:off x="6136560" y="2717640"/>
            <a:ext cx="227772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аморазвивающиеся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формационные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Rectangle 21"/>
          <p:cNvSpPr/>
          <p:nvPr/>
        </p:nvSpPr>
        <p:spPr>
          <a:xfrm>
            <a:off x="6082920" y="4441680"/>
            <a:ext cx="24926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 эволюции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аттракторы,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волюцион. потенциал,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нергетический ресурс)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Rectangle 22"/>
          <p:cNvSpPr/>
          <p:nvPr/>
        </p:nvSpPr>
        <p:spPr>
          <a:xfrm>
            <a:off x="3851280" y="4716360"/>
            <a:ext cx="161604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осфера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Человек + Машина»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Line 23"/>
          <p:cNvSpPr/>
          <p:nvPr/>
        </p:nvSpPr>
        <p:spPr>
          <a:xfrm>
            <a:off x="1692360" y="4653000"/>
            <a:ext cx="0" cy="288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Line 24"/>
          <p:cNvSpPr/>
          <p:nvPr/>
        </p:nvSpPr>
        <p:spPr>
          <a:xfrm>
            <a:off x="1146240" y="3398760"/>
            <a:ext cx="546120" cy="6066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Line 25"/>
          <p:cNvSpPr/>
          <p:nvPr/>
        </p:nvSpPr>
        <p:spPr>
          <a:xfrm flipV="1">
            <a:off x="1692360" y="3398400"/>
            <a:ext cx="963360" cy="6066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27"/>
          <p:cNvSpPr/>
          <p:nvPr/>
        </p:nvSpPr>
        <p:spPr>
          <a:xfrm flipV="1">
            <a:off x="1042920" y="2349000"/>
            <a:ext cx="216000" cy="3589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7" name="Line 28"/>
          <p:cNvSpPr/>
          <p:nvPr/>
        </p:nvSpPr>
        <p:spPr>
          <a:xfrm flipH="1" flipV="1">
            <a:off x="2339640" y="2349000"/>
            <a:ext cx="360360" cy="3589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8" name="Line 30"/>
          <p:cNvSpPr/>
          <p:nvPr/>
        </p:nvSpPr>
        <p:spPr>
          <a:xfrm flipV="1">
            <a:off x="5715000" y="1915920"/>
            <a:ext cx="29700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9" name="Line 31"/>
          <p:cNvSpPr/>
          <p:nvPr/>
        </p:nvSpPr>
        <p:spPr>
          <a:xfrm flipV="1">
            <a:off x="4572000" y="4365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Line 32"/>
          <p:cNvSpPr/>
          <p:nvPr/>
        </p:nvSpPr>
        <p:spPr>
          <a:xfrm flipV="1">
            <a:off x="4572000" y="23490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Line 33"/>
          <p:cNvSpPr/>
          <p:nvPr/>
        </p:nvSpPr>
        <p:spPr>
          <a:xfrm flipV="1">
            <a:off x="7380360" y="364464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Line 34"/>
          <p:cNvSpPr/>
          <p:nvPr/>
        </p:nvSpPr>
        <p:spPr>
          <a:xfrm flipV="1">
            <a:off x="7308720" y="23490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3" name="AutoShape 35"/>
          <p:cNvSpPr/>
          <p:nvPr/>
        </p:nvSpPr>
        <p:spPr>
          <a:xfrm>
            <a:off x="2571840" y="5429160"/>
            <a:ext cx="358560" cy="358920"/>
          </a:xfrm>
          <a:prstGeom prst="wedgeEllipseCallout">
            <a:avLst>
              <a:gd name="adj1" fmla="val -42476"/>
              <a:gd name="adj2" fmla="val -1371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AutoShape 36"/>
          <p:cNvSpPr/>
          <p:nvPr/>
        </p:nvSpPr>
        <p:spPr>
          <a:xfrm>
            <a:off x="2857680" y="4500720"/>
            <a:ext cx="358560" cy="358560"/>
          </a:xfrm>
          <a:prstGeom prst="wedgeEllipseCallout">
            <a:avLst>
              <a:gd name="adj1" fmla="val -2652"/>
              <a:gd name="adj2" fmla="val -51328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Rectangle 39"/>
          <p:cNvSpPr/>
          <p:nvPr/>
        </p:nvSpPr>
        <p:spPr>
          <a:xfrm>
            <a:off x="3734640" y="3695760"/>
            <a:ext cx="181908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лижний космос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РУСЬ»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Line 40"/>
          <p:cNvSpPr/>
          <p:nvPr/>
        </p:nvSpPr>
        <p:spPr>
          <a:xfrm flipV="1">
            <a:off x="4572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Line 41"/>
          <p:cNvSpPr/>
          <p:nvPr/>
        </p:nvSpPr>
        <p:spPr>
          <a:xfrm>
            <a:off x="3219480" y="3029040"/>
            <a:ext cx="514440" cy="9763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Полилиния 31"/>
          <p:cNvSpPr/>
          <p:nvPr/>
        </p:nvSpPr>
        <p:spPr>
          <a:xfrm>
            <a:off x="1285920" y="2500200"/>
            <a:ext cx="3000240" cy="223920"/>
          </a:xfrm>
          <a:prstGeom prst="pie">
            <a:avLst/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9" name="Line 30"/>
          <p:cNvSpPr/>
          <p:nvPr/>
        </p:nvSpPr>
        <p:spPr>
          <a:xfrm flipV="1">
            <a:off x="3000240" y="1915920"/>
            <a:ext cx="29700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445E-634B-466D-B8E8-044CF7E192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Rectangle 4"/>
          <p:cNvSpPr/>
          <p:nvPr/>
        </p:nvSpPr>
        <p:spPr>
          <a:xfrm>
            <a:off x="1000080" y="857160"/>
            <a:ext cx="72788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ff"/>
                </a:solidFill>
                <a:latin typeface="Tahoma"/>
              </a:rPr>
              <a:t>СПАСИБО  ЗА  ВНИМАНИЕ</a:t>
            </a:r>
            <a:endParaRPr b="1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Rectangle 8"/>
          <p:cNvSpPr/>
          <p:nvPr/>
        </p:nvSpPr>
        <p:spPr>
          <a:xfrm>
            <a:off x="324000" y="1844640"/>
            <a:ext cx="816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ab7e"/>
                </a:solidFill>
                <a:latin typeface="Tahoma"/>
              </a:rPr>
              <a:t>Буду  признателен 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ab7e"/>
                </a:solidFill>
                <a:latin typeface="Tahoma"/>
              </a:rPr>
              <a:t>за  Ваши  вопросы  и  замечания  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ab7e"/>
                </a:solidFill>
                <a:latin typeface="Tahoma"/>
              </a:rPr>
              <a:t>по  докладу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0" y="3349800"/>
          <a:ext cx="4538520" cy="35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49800"/>
                    <a:ext cx="4538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5" name=""/>
          <p:cNvSpPr/>
          <p:nvPr/>
        </p:nvSpPr>
        <p:spPr>
          <a:xfrm>
            <a:off x="4643280" y="3357720"/>
            <a:ext cx="4500720" cy="20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атериалы  доклада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ходятся  на  сайте: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www.informograd.narod.ru/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 папке: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Скачайте "Концепцию построения искусственного разума«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(в Word-2000, 1400 Kb-zip)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"/>
          <p:cNvSpPr/>
          <p:nvPr/>
        </p:nvSpPr>
        <p:spPr>
          <a:xfrm flipH="1" flipV="1">
            <a:off x="1547280" y="4941360"/>
            <a:ext cx="302436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"/>
          <p:cNvSpPr/>
          <p:nvPr/>
        </p:nvSpPr>
        <p:spPr>
          <a:xfrm>
            <a:off x="4572000" y="5661000"/>
            <a:ext cx="4572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одякин  Владимир  Ильич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ститут проблем управления РАН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body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@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ipu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ru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84240"/>
            <a:ext cx="8059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  <a:ea typeface="Lucida Sans Unicode"/>
              </a:rPr>
              <a:t>Нейросемантическая форма (НСС)</a:t>
            </a:r>
            <a:br>
              <a:rPr sz="2800"/>
            </a:br>
            <a:r>
              <a:rPr b="1" lang="en-GB" sz="2000" spc="-1" strike="noStrike">
                <a:solidFill>
                  <a:srgbClr val="333399"/>
                </a:solidFill>
                <a:latin typeface="Tahoma"/>
                <a:ea typeface="Lucida Sans Unicode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Lucida Sans Unicode"/>
              </a:rPr>
              <a:t>представления информации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3"/>
          <p:cNvSpPr/>
          <p:nvPr/>
        </p:nvSpPr>
        <p:spPr>
          <a:xfrm>
            <a:off x="396720" y="4005360"/>
            <a:ext cx="8425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инимизации  ресурса (памяти)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НСС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получаем: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Tahoma"/>
              </a:rPr>
              <a:t>процесс предметной области 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ru-RU" sz="2000" spc="-1" strike="noStrike">
                <a:solidFill>
                  <a:srgbClr val="339933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N‑элементу (образу),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 этом,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структура образов НСС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гомоморф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339933"/>
                </a:solidFill>
                <a:latin typeface="Tahoma"/>
              </a:rPr>
              <a:t>структуре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9933"/>
                </a:solidFill>
                <a:latin typeface="Tahoma"/>
              </a:rPr>
              <a:t>П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96720" y="5394240"/>
            <a:ext cx="828072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ahoma"/>
              </a:rPr>
              <a:t>Нейросемантика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(нейро + семантика)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 — направление нейропсихологии, изучающее нервные структуры и их временные связи как своеобразные «знаки» различных элементов реакций организма.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Медицинская энциклопедия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ahoma"/>
              </a:rPr>
              <a:t>НСС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дает математическое и инженерное расширение этому направлению нейропсихологии </a:t>
            </a:r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3040" y="976320"/>
            <a:ext cx="8058960" cy="2899080"/>
            <a:chOff x="113040" y="976320"/>
            <a:chExt cx="8058960" cy="2899080"/>
          </a:xfrm>
        </p:grpSpPr>
        <p:grpSp>
          <p:nvGrpSpPr>
            <p:cNvPr id="146" name="Group 3"/>
            <p:cNvGrpSpPr/>
            <p:nvPr/>
          </p:nvGrpSpPr>
          <p:grpSpPr>
            <a:xfrm>
              <a:off x="971280" y="1024920"/>
              <a:ext cx="2815920" cy="1986840"/>
              <a:chOff x="971280" y="1024920"/>
              <a:chExt cx="2815920" cy="1986840"/>
            </a:xfrm>
          </p:grpSpPr>
          <p:grpSp>
            <p:nvGrpSpPr>
              <p:cNvPr id="147" name="Group 4"/>
              <p:cNvGrpSpPr/>
              <p:nvPr/>
            </p:nvGrpSpPr>
            <p:grpSpPr>
              <a:xfrm>
                <a:off x="971280" y="1024920"/>
                <a:ext cx="2815920" cy="1986840"/>
                <a:chOff x="971280" y="1024920"/>
                <a:chExt cx="2815920" cy="1986840"/>
              </a:xfrm>
            </p:grpSpPr>
            <p:grpSp>
              <p:nvGrpSpPr>
                <p:cNvPr id="148" name="Group 5"/>
                <p:cNvGrpSpPr/>
                <p:nvPr/>
              </p:nvGrpSpPr>
              <p:grpSpPr>
                <a:xfrm>
                  <a:off x="971280" y="1024920"/>
                  <a:ext cx="2815920" cy="1986840"/>
                  <a:chOff x="971280" y="1024920"/>
                  <a:chExt cx="2815920" cy="1986840"/>
                </a:xfrm>
              </p:grpSpPr>
              <p:sp>
                <p:nvSpPr>
                  <p:cNvPr id="149" name="AutoShape 6"/>
                  <p:cNvSpPr/>
                  <p:nvPr/>
                </p:nvSpPr>
                <p:spPr>
                  <a:xfrm>
                    <a:off x="971280" y="1024920"/>
                    <a:ext cx="2815920" cy="1986840"/>
                  </a:xfrm>
                  <a:prstGeom prst="wedgeRoundRectCallout">
                    <a:avLst>
                      <a:gd name="adj1" fmla="val -18962"/>
                      <a:gd name="adj2" fmla="val 50722"/>
                      <a:gd name="adj3" fmla="val 16667"/>
                    </a:avLst>
                  </a:prstGeom>
                  <a:solidFill>
                    <a:srgbClr val="ccffcc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200" spc="-1" strike="noStrike">
                        <a:solidFill>
                          <a:srgbClr val="008000"/>
                        </a:solidFill>
                        <a:latin typeface="Tahoma"/>
                      </a:rPr>
                      <a:t>Предметная область</a:t>
                    </a: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ahoma"/>
                      </a:rPr>
                      <a:t>    </a:t>
                    </a: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ahoma"/>
                      </a:rPr>
                      <a:t>  </a:t>
                    </a: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50" name="Group 7"/>
                  <p:cNvGrpSpPr/>
                  <p:nvPr/>
                </p:nvGrpSpPr>
                <p:grpSpPr>
                  <a:xfrm>
                    <a:off x="1049400" y="1322640"/>
                    <a:ext cx="2503080" cy="1688760"/>
                    <a:chOff x="1049400" y="1322640"/>
                    <a:chExt cx="2503080" cy="1688760"/>
                  </a:xfrm>
                </p:grpSpPr>
                <p:sp>
                  <p:nvSpPr>
                    <p:cNvPr id="151" name="Documents"/>
                    <p:cNvSpPr/>
                    <p:nvPr/>
                  </p:nvSpPr>
                  <p:spPr>
                    <a:xfrm>
                      <a:off x="2770200" y="1322640"/>
                      <a:ext cx="782280" cy="1106280"/>
                    </a:xfrm>
                    <a:prstGeom prst="pie">
                      <a:avLst/>
                    </a:prstGeom>
                    <a:solidFill>
                      <a:srgbClr val="d8ebb3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2" name="Sound"/>
                    <p:cNvSpPr/>
                    <p:nvPr/>
                  </p:nvSpPr>
                  <p:spPr>
                    <a:xfrm>
                      <a:off x="2927160" y="2496240"/>
                      <a:ext cx="522360" cy="405360"/>
                    </a:xfrm>
                    <a:prstGeom prst="pie">
                      <a:avLst/>
                    </a:prstGeom>
                    <a:solidFill>
                      <a:srgbClr val="ffbe7d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3" name="scanner1"/>
                    <p:cNvSpPr/>
                    <p:nvPr/>
                  </p:nvSpPr>
                  <p:spPr>
                    <a:xfrm>
                      <a:off x="1049400" y="2677320"/>
                      <a:ext cx="625680" cy="27072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54" name="Group 11"/>
                    <p:cNvGrpSpPr/>
                    <p:nvPr/>
                  </p:nvGrpSpPr>
                  <p:grpSpPr>
                    <a:xfrm>
                      <a:off x="1122480" y="1567080"/>
                      <a:ext cx="1648080" cy="1444320"/>
                      <a:chOff x="1122480" y="1567080"/>
                      <a:chExt cx="1648080" cy="1444320"/>
                    </a:xfrm>
                  </p:grpSpPr>
                  <p:sp>
                    <p:nvSpPr>
                      <p:cNvPr id="155" name="Freeform 12"/>
                      <p:cNvSpPr/>
                      <p:nvPr/>
                    </p:nvSpPr>
                    <p:spPr>
                      <a:xfrm>
                        <a:off x="1122480" y="1567080"/>
                        <a:ext cx="787320" cy="6732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56" name="Freeform 13"/>
                      <p:cNvSpPr/>
                      <p:nvPr/>
                    </p:nvSpPr>
                    <p:spPr>
                      <a:xfrm>
                        <a:off x="1988280" y="2289240"/>
                        <a:ext cx="782280" cy="72216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57" name="Freeform 14"/>
                      <p:cNvSpPr/>
                      <p:nvPr/>
                    </p:nvSpPr>
                    <p:spPr>
                      <a:xfrm>
                        <a:off x="1279080" y="1706040"/>
                        <a:ext cx="787320" cy="6732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58" name="Freeform 15"/>
                      <p:cNvSpPr/>
                      <p:nvPr/>
                    </p:nvSpPr>
                    <p:spPr>
                      <a:xfrm>
                        <a:off x="1467000" y="1859760"/>
                        <a:ext cx="787320" cy="6735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59" name="Freeform 16"/>
                      <p:cNvSpPr/>
                      <p:nvPr/>
                    </p:nvSpPr>
                    <p:spPr>
                      <a:xfrm>
                        <a:off x="1639080" y="2006280"/>
                        <a:ext cx="787320" cy="6732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60" name="Freeform 17"/>
                      <p:cNvSpPr/>
                      <p:nvPr/>
                    </p:nvSpPr>
                    <p:spPr>
                      <a:xfrm>
                        <a:off x="1811520" y="2152440"/>
                        <a:ext cx="787320" cy="6732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161" name="Group 18"/>
                      <p:cNvGrpSpPr/>
                      <p:nvPr/>
                    </p:nvGrpSpPr>
                    <p:grpSpPr>
                      <a:xfrm>
                        <a:off x="2116080" y="2468520"/>
                        <a:ext cx="516240" cy="444960"/>
                        <a:chOff x="2116080" y="2468520"/>
                        <a:chExt cx="516240" cy="444960"/>
                      </a:xfrm>
                    </p:grpSpPr>
                    <p:sp>
                      <p:nvSpPr>
                        <p:cNvPr id="162" name="Freeform 20"/>
                        <p:cNvSpPr/>
                        <p:nvPr/>
                      </p:nvSpPr>
                      <p:spPr>
                        <a:xfrm>
                          <a:off x="2205720" y="2552400"/>
                          <a:ext cx="385200" cy="69120"/>
                        </a:xfrm>
                        <a:prstGeom prst="pi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prstDash val="sysDot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680" bIns="226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i="1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3" name="Freeform 21"/>
                        <p:cNvSpPr/>
                        <p:nvPr/>
                      </p:nvSpPr>
                      <p:spPr>
                        <a:xfrm>
                          <a:off x="2247120" y="2468520"/>
                          <a:ext cx="385200" cy="69480"/>
                        </a:xfrm>
                        <a:prstGeom prst="pi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prstDash val="sysDot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i="1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4" name="Freeform 22"/>
                        <p:cNvSpPr/>
                        <p:nvPr/>
                      </p:nvSpPr>
                      <p:spPr>
                        <a:xfrm>
                          <a:off x="2181240" y="2627640"/>
                          <a:ext cx="385200" cy="69480"/>
                        </a:xfrm>
                        <a:prstGeom prst="pi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prstDash val="sysDot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i="1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5" name="Freeform 23"/>
                        <p:cNvSpPr/>
                        <p:nvPr/>
                      </p:nvSpPr>
                      <p:spPr>
                        <a:xfrm>
                          <a:off x="2161080" y="2697480"/>
                          <a:ext cx="385200" cy="69480"/>
                        </a:xfrm>
                        <a:prstGeom prst="pi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prstDash val="sysDot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i="1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6" name="Freeform 24"/>
                        <p:cNvSpPr/>
                        <p:nvPr/>
                      </p:nvSpPr>
                      <p:spPr>
                        <a:xfrm>
                          <a:off x="2116080" y="2844000"/>
                          <a:ext cx="385200" cy="69480"/>
                        </a:xfrm>
                        <a:prstGeom prst="pi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prstDash val="sysDot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i="1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7" name="Freeform 25"/>
                        <p:cNvSpPr/>
                        <p:nvPr/>
                      </p:nvSpPr>
                      <p:spPr>
                        <a:xfrm>
                          <a:off x="2126520" y="2767320"/>
                          <a:ext cx="385200" cy="69480"/>
                        </a:xfrm>
                        <a:prstGeom prst="pi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prstDash val="sysDot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i="1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68" name="Group 26"/>
                <p:cNvGrpSpPr/>
                <p:nvPr/>
              </p:nvGrpSpPr>
              <p:grpSpPr>
                <a:xfrm>
                  <a:off x="2836440" y="1593360"/>
                  <a:ext cx="559080" cy="722520"/>
                  <a:chOff x="2836440" y="1593360"/>
                  <a:chExt cx="559080" cy="722520"/>
                </a:xfrm>
              </p:grpSpPr>
              <p:sp>
                <p:nvSpPr>
                  <p:cNvPr id="169" name="Freeform 27"/>
                  <p:cNvSpPr/>
                  <p:nvPr/>
                </p:nvSpPr>
                <p:spPr>
                  <a:xfrm>
                    <a:off x="2848320" y="1593360"/>
                    <a:ext cx="547200" cy="90000"/>
                  </a:xfrm>
                  <a:prstGeom prst="pie">
                    <a:avLst/>
                  </a:prstGeom>
                  <a:noFill/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0" name="Freeform 28"/>
                  <p:cNvSpPr/>
                  <p:nvPr/>
                </p:nvSpPr>
                <p:spPr>
                  <a:xfrm>
                    <a:off x="2843280" y="1739520"/>
                    <a:ext cx="547560" cy="90360"/>
                  </a:xfrm>
                  <a:prstGeom prst="pie">
                    <a:avLst/>
                  </a:prstGeom>
                  <a:noFill/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Freeform 29"/>
                  <p:cNvSpPr/>
                  <p:nvPr/>
                </p:nvSpPr>
                <p:spPr>
                  <a:xfrm>
                    <a:off x="2848320" y="1886040"/>
                    <a:ext cx="547200" cy="90360"/>
                  </a:xfrm>
                  <a:prstGeom prst="pie">
                    <a:avLst/>
                  </a:prstGeom>
                  <a:noFill/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Freeform 30"/>
                  <p:cNvSpPr/>
                  <p:nvPr/>
                </p:nvSpPr>
                <p:spPr>
                  <a:xfrm>
                    <a:off x="2836440" y="2044800"/>
                    <a:ext cx="547560" cy="90000"/>
                  </a:xfrm>
                  <a:prstGeom prst="pie">
                    <a:avLst/>
                  </a:prstGeom>
                  <a:noFill/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Freeform 31"/>
                  <p:cNvSpPr/>
                  <p:nvPr/>
                </p:nvSpPr>
                <p:spPr>
                  <a:xfrm>
                    <a:off x="2836440" y="2225520"/>
                    <a:ext cx="547560" cy="90360"/>
                  </a:xfrm>
                  <a:prstGeom prst="pie">
                    <a:avLst/>
                  </a:prstGeom>
                  <a:noFill/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Freeform 32"/>
                  <p:cNvSpPr/>
                  <p:nvPr/>
                </p:nvSpPr>
                <p:spPr>
                  <a:xfrm>
                    <a:off x="2836440" y="1662840"/>
                    <a:ext cx="547560" cy="90360"/>
                  </a:xfrm>
                  <a:prstGeom prst="pie">
                    <a:avLst/>
                  </a:prstGeom>
                  <a:noFill/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Freeform 33"/>
                  <p:cNvSpPr/>
                  <p:nvPr/>
                </p:nvSpPr>
                <p:spPr>
                  <a:xfrm>
                    <a:off x="2836440" y="1809360"/>
                    <a:ext cx="547560" cy="90000"/>
                  </a:xfrm>
                  <a:prstGeom prst="pie">
                    <a:avLst/>
                  </a:prstGeom>
                  <a:noFill/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6" name="Freeform 34"/>
                  <p:cNvSpPr/>
                  <p:nvPr/>
                </p:nvSpPr>
                <p:spPr>
                  <a:xfrm>
                    <a:off x="2848320" y="1955880"/>
                    <a:ext cx="547200" cy="90360"/>
                  </a:xfrm>
                  <a:prstGeom prst="pie">
                    <a:avLst/>
                  </a:prstGeom>
                  <a:noFill/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7" name="Freeform 35"/>
                  <p:cNvSpPr/>
                  <p:nvPr/>
                </p:nvSpPr>
                <p:spPr>
                  <a:xfrm>
                    <a:off x="2848320" y="2135160"/>
                    <a:ext cx="547200" cy="90360"/>
                  </a:xfrm>
                  <a:prstGeom prst="pie">
                    <a:avLst/>
                  </a:prstGeom>
                  <a:noFill/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8" name="Music"/>
              <p:cNvSpPr/>
              <p:nvPr/>
            </p:nvSpPr>
            <p:spPr>
              <a:xfrm>
                <a:off x="2613960" y="2559960"/>
                <a:ext cx="361440" cy="341640"/>
              </a:xfrm>
              <a:prstGeom prst="pi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9" name="Group 44"/>
            <p:cNvGrpSpPr/>
            <p:nvPr/>
          </p:nvGrpSpPr>
          <p:grpSpPr>
            <a:xfrm>
              <a:off x="1260360" y="1527840"/>
              <a:ext cx="1631160" cy="776160"/>
              <a:chOff x="1260360" y="1527840"/>
              <a:chExt cx="1631160" cy="776160"/>
            </a:xfrm>
          </p:grpSpPr>
          <p:pic>
            <p:nvPicPr>
              <p:cNvPr id="180" name="Picture 45" descr="j0234687"/>
              <p:cNvPicPr/>
              <p:nvPr/>
            </p:nvPicPr>
            <p:blipFill>
              <a:blip r:embed="rId2"/>
              <a:stretch/>
            </p:blipFill>
            <p:spPr>
              <a:xfrm>
                <a:off x="1260360" y="1527840"/>
                <a:ext cx="1104120" cy="77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Picture 46" descr="j0285360"/>
              <p:cNvPicPr/>
              <p:nvPr/>
            </p:nvPicPr>
            <p:blipFill>
              <a:blip r:embed="rId3"/>
              <a:stretch/>
            </p:blipFill>
            <p:spPr>
              <a:xfrm>
                <a:off x="2339280" y="1735200"/>
                <a:ext cx="552240" cy="510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Rectangle 55"/>
            <p:cNvSpPr/>
            <p:nvPr/>
          </p:nvSpPr>
          <p:spPr>
            <a:xfrm>
              <a:off x="4501080" y="1868400"/>
              <a:ext cx="98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Tahoma"/>
                </a:rPr>
                <a:t>Образ А</a:t>
              </a: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51"/>
            <p:cNvSpPr/>
            <p:nvPr/>
          </p:nvSpPr>
          <p:spPr>
            <a:xfrm>
              <a:off x="1260360" y="1540440"/>
              <a:ext cx="1078920" cy="760680"/>
            </a:xfrm>
            <a:prstGeom prst="rect">
              <a:avLst/>
            </a:pr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13040" y="976320"/>
              <a:ext cx="8058960" cy="2899080"/>
              <a:chOff x="113040" y="976320"/>
              <a:chExt cx="8058960" cy="2899080"/>
            </a:xfrm>
          </p:grpSpPr>
          <p:grpSp>
            <p:nvGrpSpPr>
              <p:cNvPr id="185" name="Group 37"/>
              <p:cNvGrpSpPr/>
              <p:nvPr/>
            </p:nvGrpSpPr>
            <p:grpSpPr>
              <a:xfrm>
                <a:off x="5146560" y="976320"/>
                <a:ext cx="3025440" cy="2617920"/>
                <a:chOff x="5146560" y="976320"/>
                <a:chExt cx="3025440" cy="2617920"/>
              </a:xfrm>
            </p:grpSpPr>
            <p:grpSp>
              <p:nvGrpSpPr>
                <p:cNvPr id="186" name="Group 38"/>
                <p:cNvGrpSpPr/>
                <p:nvPr/>
              </p:nvGrpSpPr>
              <p:grpSpPr>
                <a:xfrm>
                  <a:off x="5146560" y="976320"/>
                  <a:ext cx="3025440" cy="2617920"/>
                  <a:chOff x="5146560" y="976320"/>
                  <a:chExt cx="3025440" cy="2617920"/>
                </a:xfrm>
              </p:grpSpPr>
              <p:sp>
                <p:nvSpPr>
                  <p:cNvPr id="187" name="Freeform 39"/>
                  <p:cNvSpPr/>
                  <p:nvPr/>
                </p:nvSpPr>
                <p:spPr>
                  <a:xfrm>
                    <a:off x="5146560" y="976320"/>
                    <a:ext cx="3025440" cy="2617920"/>
                  </a:xfrm>
                  <a:prstGeom prst="pie">
                    <a:avLst/>
                  </a:prstGeom>
                  <a:solidFill>
                    <a:srgbClr val="ccffff"/>
                  </a:solidFill>
                  <a:ln w="1908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aphicFrame>
                <p:nvGraphicFramePr>
                  <p:cNvPr id="188" name="Object 40"/>
                  <p:cNvGraphicFramePr/>
                  <p:nvPr/>
                </p:nvGraphicFramePr>
                <p:xfrm>
                  <a:off x="5503320" y="999360"/>
                  <a:ext cx="2374560" cy="252576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189" name="Object 40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5503320" y="999360"/>
                            <a:ext cx="2374560" cy="25257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90" name="Rectangle 41"/>
                <p:cNvSpPr/>
                <p:nvPr/>
              </p:nvSpPr>
              <p:spPr>
                <a:xfrm>
                  <a:off x="7308360" y="1113480"/>
                  <a:ext cx="66168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Tahoma"/>
                    </a:rPr>
                    <a:t>НСС</a:t>
                  </a:r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1" name="Group 47"/>
              <p:cNvGrpSpPr/>
              <p:nvPr/>
            </p:nvGrpSpPr>
            <p:grpSpPr>
              <a:xfrm>
                <a:off x="1188720" y="2685240"/>
                <a:ext cx="4032000" cy="982080"/>
                <a:chOff x="1188720" y="2685240"/>
                <a:chExt cx="4032000" cy="982080"/>
              </a:xfrm>
            </p:grpSpPr>
            <p:sp>
              <p:nvSpPr>
                <p:cNvPr id="192" name="Line 48"/>
                <p:cNvSpPr/>
                <p:nvPr/>
              </p:nvSpPr>
              <p:spPr>
                <a:xfrm flipH="1">
                  <a:off x="1331280" y="3031200"/>
                  <a:ext cx="10800" cy="34596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3" name="Rectangle 49"/>
                <p:cNvSpPr/>
                <p:nvPr/>
              </p:nvSpPr>
              <p:spPr>
                <a:xfrm>
                  <a:off x="3968280" y="2685240"/>
                  <a:ext cx="107892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333cc"/>
                      </a:solidFill>
                      <a:latin typeface="Tahoma"/>
                    </a:rPr>
                    <a:t>Алгоритм</a:t>
                  </a:r>
                  <a:endParaRPr b="1" i="1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Tahoma"/>
                    </a:rPr>
                    <a:t> </a:t>
                  </a:r>
                  <a:r>
                    <a:rPr b="1" lang="en-US" sz="1600" spc="-1" strike="noStrike">
                      <a:solidFill>
                        <a:srgbClr val="3333cc"/>
                      </a:solidFill>
                      <a:latin typeface="Tahoma"/>
                    </a:rPr>
                    <a:t>НСС</a:t>
                  </a:r>
                  <a:endParaRPr b="1" i="1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Rectangle 50"/>
                <p:cNvSpPr/>
                <p:nvPr/>
              </p:nvSpPr>
              <p:spPr>
                <a:xfrm>
                  <a:off x="1188720" y="3330000"/>
                  <a:ext cx="4032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011001010</a:t>
                  </a:r>
                  <a:r>
                    <a:rPr b="1" lang="ru-RU" sz="1600" spc="-1" strike="noStrike">
                      <a:solidFill>
                        <a:srgbClr val="ff6600"/>
                      </a:solidFill>
                      <a:latin typeface="Times New Roman"/>
                    </a:rPr>
                    <a:t>11011011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010001101101001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1" lang="en-US" sz="1600" spc="-1" strike="noStrike">
                      <a:solidFill>
                        <a:srgbClr val="3333cc"/>
                      </a:solidFill>
                      <a:latin typeface="Wingdings"/>
                      <a:ea typeface="Wingdings"/>
                    </a:rPr>
                    <a:t></a:t>
                  </a:r>
                  <a:endParaRPr b="1" i="1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5" name="Freeform 52"/>
              <p:cNvSpPr/>
              <p:nvPr/>
            </p:nvSpPr>
            <p:spPr>
              <a:xfrm>
                <a:off x="1819080" y="2339280"/>
                <a:ext cx="698040" cy="1105200"/>
              </a:xfrm>
              <a:prstGeom prst="pie">
                <a:avLst/>
              </a:prstGeom>
              <a:noFill/>
              <a:ln w="38160">
                <a:solidFill>
                  <a:srgbClr val="ff99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53"/>
              <p:cNvSpPr/>
              <p:nvPr/>
            </p:nvSpPr>
            <p:spPr>
              <a:xfrm>
                <a:off x="2628720" y="1944360"/>
                <a:ext cx="3822480" cy="1480320"/>
              </a:xfrm>
              <a:prstGeom prst="pie">
                <a:avLst/>
              </a:prstGeom>
              <a:noFill/>
              <a:ln w="38160">
                <a:solidFill>
                  <a:srgbClr val="ff99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Rectangle 54"/>
              <p:cNvSpPr/>
              <p:nvPr/>
            </p:nvSpPr>
            <p:spPr>
              <a:xfrm>
                <a:off x="113040" y="1534320"/>
                <a:ext cx="111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6600"/>
                    </a:solidFill>
                    <a:latin typeface="Tahoma"/>
                  </a:rPr>
                  <a:t>Процесс А</a:t>
                </a:r>
                <a:endParaRPr b="1" i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Rectangle 56"/>
              <p:cNvSpPr/>
              <p:nvPr/>
            </p:nvSpPr>
            <p:spPr>
              <a:xfrm>
                <a:off x="1554120" y="3568320"/>
                <a:ext cx="255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6600"/>
                    </a:solidFill>
                    <a:latin typeface="Tahoma"/>
                  </a:rPr>
                  <a:t>ТФ  описания  процесса А</a:t>
                </a:r>
                <a:endParaRPr b="1" i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Line 58"/>
              <p:cNvSpPr/>
              <p:nvPr/>
            </p:nvSpPr>
            <p:spPr>
              <a:xfrm flipH="1" flipV="1">
                <a:off x="5004720" y="1735560"/>
                <a:ext cx="1392120" cy="39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Text Box 59"/>
              <p:cNvSpPr/>
              <p:nvPr/>
            </p:nvSpPr>
            <p:spPr>
              <a:xfrm>
                <a:off x="3636720" y="1308600"/>
                <a:ext cx="1439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Tahoma"/>
                  </a:rPr>
                  <a:t>N-</a:t>
                </a:r>
                <a:r>
                  <a:rPr b="1" lang="ru-RU" sz="1400" spc="-1" strike="noStrike">
                    <a:solidFill>
                      <a:srgbClr val="333399"/>
                    </a:solidFill>
                    <a:latin typeface="Tahoma"/>
                  </a:rPr>
                  <a:t>элемент (3,2)</a:t>
                </a:r>
                <a:endParaRPr b="1" i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7280" y="304560"/>
            <a:ext cx="77724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  <a:ea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203364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45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5:22:36Z</dcterms:created>
  <dc:creator>Администратор</dc:creator>
  <dc:description/>
  <dc:language>en-US</dc:language>
  <cp:lastModifiedBy>Бодякин</cp:lastModifiedBy>
  <dcterms:modified xsi:type="dcterms:W3CDTF">2008-11-30T16:22:39Z</dcterms:modified>
  <cp:revision>419</cp:revision>
  <dc:subject/>
  <dc:title>ПРОЕКТ  ПОСТРОЕНИЯ  ИСКУССТВЕННОГО  РАЗУМА   НА  БАЗЕ  НЕЙРОСЕМАНТИЧЕСКОГО  ПОДХОДА (ПРИГЛАШЕНИЕ  К  СОТРУДНИЧЕСТВУ) </dc:title>
</cp:coreProperties>
</file>